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498-F79C-480B-8812-2A1CB82A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DDC-5E91-4079-93AC-3C087C30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4F9-53F4-4C66-BA8B-907BF75E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A71-1FF6-41BD-AE4E-3CE6EACC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CB9-3731-428B-8C64-3AB17426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BFF-8CE4-47E2-B211-94E3AF4B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D30-F8DC-4A3F-9E7F-124F8B88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0CE-C2B8-4BD6-ACD1-C00FF52B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A4E-5960-4227-983D-E7A63CB3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4E6-B4FF-4DE9-9CF5-84A8A38D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B86-7E05-4AA7-B8D1-EE0B672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9ED-F053-4BC2-AD20-5A152465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7F66-CD0E-4118-991D-468E668F5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une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A1E-FDF2-43B3-ADBC-A39CD7643E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/re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6A8-8A8B-4E5C-8B7A-DDE2C3EE1E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154-C85F-4E5F-90F6-880AB16509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4: Query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A4C-D85E-4919-81E2-36E75DA3DD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/spars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/secondary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5FF-63FE-44EA-B35D-A38DBAE8B7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-loop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97B-AD14-4354-8FAA-B70C31E038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at you know how to convert from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se expressions are equal ? What if we have keys/foreign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hould be able to discuss alternative choices of query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8AA-0BFF-4D51-9F60-D704697B55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will require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difficulty may be un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y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3A9-085F-4B24-BA3E-255C5AB092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: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term: 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: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ngibles: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B08-7EB2-4A11-A00B-528705546D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C85-F469-48AE-9D76-4D9E5CD3D7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: Tuesday, June 5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10:30 - 12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: thi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7EB-D777-4345-9DEA-E41D0D2CB4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3C9-9BAA-4FF0-B120-2E628EDC7F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AED-2FEF-415E-B5A8-374A9DB4E6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BE8-467A-4DB9-AF85-A61662B4C4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0AB-DE4C-4F84-88B3-B832867B5C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nd modifying relation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B9D-442C-4914-8D76-F35D3B1D46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2: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/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relations t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XML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2B1-5A85-40A7-8D96-A1C120088A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3: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FEE-7B61-4CBE-BB4B-75623AA6BC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6-01T14:59:24Z</dcterms:modified>
  <cp:revision>384</cp:revision>
  <dc:subject/>
  <dc:title>Lecture 09:</dc:title>
</cp:coreProperties>
</file>