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CCDB7B-5E37-427A-AEE0-9CC28FB51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t = B(R)+B(S)+B(T)+B(U)+2B(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) + 2B(R ⋈ S ⋈ 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max(B(S), B(T), B(U)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= B(R)+B(S)+B(T)+B(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B(S) + B(T) + B(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09A-EB99-49B7-AB10-3B307EBB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FAE-BCB1-4A4A-9D5D-08F437BE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E80-02B0-4608-B7C7-594A95AF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E78-AB14-4D3E-B8FC-0014F4AA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3EC-F56F-4EB8-9E77-AB34BD9E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25D-1051-4CC2-8023-1B2E8924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06A-0389-4198-8683-626D65A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EA0-530F-4C83-BE49-2F765D61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A05-4083-4783-9C35-839B099D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DB5-0F13-49AB-95DA-9B5563A7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D6E-EA5F-4AE4-A32F-4242714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5CB-13D4-4AAB-9C92-ADF6FB6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C95D-E546-482F-89D8-5EBA4E438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y 23, 2007 to Wednesday, May 30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59E-C21F-4C7E-866A-7E5F903ECC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5116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8104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9652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9A5-EA29-4D74-82C0-7A8386C831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6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F46-6B54-484D-87D1-7F5F2D369B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44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140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002-50FB-48F1-AB8E-AE6FF7A754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513-7806-40CB-9DF2-60319C037F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SQL query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pla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quivalent plans P = P’ = P’’ =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“cheapest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8200" y="3336120"/>
            <a:ext cx="1783080" cy="652680"/>
          </a:xfrm>
          <a:prstGeom prst="wedgeEllipseCallout">
            <a:avLst>
              <a:gd name="adj1" fmla="val -35773"/>
              <a:gd name="adj2" fmla="val 1062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AF0-F370-4D43-B5C8-52CDF66859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95840" y="1295280"/>
            <a:ext cx="463536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P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8400" y="2797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65880" y="2797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7000" y="278136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495760" y="4794120"/>
            <a:ext cx="349200" cy="123840"/>
            <a:chOff x="5495760" y="4794120"/>
            <a:chExt cx="349200" cy="123840"/>
          </a:xfrm>
        </p:grpSpPr>
        <p:sp>
          <p:nvSpPr>
            <p:cNvPr id="143" name=""/>
            <p:cNvSpPr/>
            <p:nvPr/>
          </p:nvSpPr>
          <p:spPr>
            <a:xfrm>
              <a:off x="549576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43520" y="4794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95760" y="479412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900680" y="53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16520" y="530532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72160" y="408132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72160" y="315432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27520" y="379404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3560" y="3807000"/>
            <a:ext cx="75960" cy="14580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1240" y="57452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27560" y="57294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26400" y="49989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7200" y="377496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3200" y="377496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32040" y="2865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9440" y="371484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27760" y="270828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8520" y="347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6240" y="5362200"/>
            <a:ext cx="4089960" cy="1172520"/>
          </a:xfrm>
          <a:prstGeom prst="wedgeEllipseCallout">
            <a:avLst>
              <a:gd name="adj1" fmla="val 42824"/>
              <a:gd name="adj2" fmla="val -1153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8880" y="25135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99880" y="1217880"/>
            <a:ext cx="29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se(buyer, c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(name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98E-5862-4907-8C5A-DBCB427EA7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80280" y="2251080"/>
            <a:ext cx="3952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sum(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quantity)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7040" y="548640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quantity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93240" y="40384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3240" y="30481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6240" y="5362200"/>
            <a:ext cx="4089960" cy="1172520"/>
          </a:xfrm>
          <a:prstGeom prst="wedgeEllipseCallout">
            <a:avLst>
              <a:gd name="adj1" fmla="val 62425"/>
              <a:gd name="adj2" fmla="val -1495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“better” plan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0400" y="20563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6960" y="3123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79F-5AE9-4E67-8A8D-D354C174BB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380-67F8-44CE-8376-5C8030AD2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 (incomplete li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DAE-5E56-467D-A2FB-2AAACD7209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 (incomplete li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317-A89F-46C6-B655-136567B067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365-0FED-411D-8DF8-38161D4AE4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217-4C36-4B86-9E41-CD445AFCA8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E1B-CBE4-48A8-8985-EFB240CA5F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E7E-AC6D-432B-B31D-45EA5586CA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725-2B27-47B8-A2EC-D924B8BD30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0CB-FA37-4B12-A2F2-8F48CA95F4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proposed in System R (the first research prototype for a relational database system -- late 7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ndles single block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selections down, projection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oin re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4000" y="3352680"/>
            <a:ext cx="744984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. . . AND co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6C9-508D-4A28-B23D-B69DFB2162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2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….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203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208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213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E7E-9B92-4FB9-BB96-E9C64631D2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226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231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236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241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E6B-D1C3-446F-96A5-C66744C6DE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265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270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275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286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3A4-5B5E-4A56-BC0D-A886B7DE5C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296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301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306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311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9A4-2103-4EBB-88B3-8CC91B44D9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660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E93-D73F-4762-8B8D-1A276B0D2C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269-3788-4342-8322-261189432A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B0E-A005-47CB-A70D-E055748C29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C91-0F64-41A2-B29F-F2FF97AE3B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B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= (cost of scanning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DDF-E26E-4902-A275-24B6349F67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755-C603-4884-A3C1-EA348471B7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6F4-B939-4D5B-AEAB-4037EB1219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Cost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join, then the size of the intermediate result is size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DD3-2DAE-495F-AD7D-27BB83C625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931-5440-40B0-B80D-DB17448AF6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6E2-FA5D-4F4A-9D92-61A587438D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2209680" y="152280"/>
          <a:ext cx="5410080" cy="64548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160"/>
                <a:gridCol w="135288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92F-9C09-4796-A2C9-87AE7F176E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F2D-1F01-4FFC-A42E-45FA0EEB50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C02-7A75-4054-818B-832FAD0945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B)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(C,D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B,C) has a cartesian product – most query optimizers will not consi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DBF-E3AB-4955-9BB8-A3FDE8695C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only join qu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s are pushed down (i.e. ea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s are pulled up (i.e. 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exponential time in genera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linear joins may reduc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artesian products may reduce tim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78A-5E23-4B46-BDF7-40F070C01EB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Based Optimiz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ten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ection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= Algebraic law with a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firing thes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many alternative plans,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une by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 (later SQL Se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burst (later DB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9A1-F065-4E2B-9D74-DEA5CA4467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6FB-534C-4578-B67A-F8450D2A003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5972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49920" y="3422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02320" y="4761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7" idx="3"/>
            <a:endCxn id="358" idx="7"/>
          </p:cNvCxnSpPr>
          <p:nvPr/>
        </p:nvCxnSpPr>
        <p:spPr>
          <a:xfrm flipH="1">
            <a:off x="2615400" y="27252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8" idx="3"/>
            <a:endCxn id="359" idx="7"/>
          </p:cNvCxnSpPr>
          <p:nvPr/>
        </p:nvCxnSpPr>
        <p:spPr>
          <a:xfrm flipH="1">
            <a:off x="1568160" y="4110120"/>
            <a:ext cx="7149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59" idx="3"/>
            <a:endCxn id="363" idx="7"/>
          </p:cNvCxnSpPr>
          <p:nvPr/>
        </p:nvCxnSpPr>
        <p:spPr>
          <a:xfrm flipH="1">
            <a:off x="758160" y="5447880"/>
            <a:ext cx="477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59" idx="5"/>
            <a:endCxn id="364" idx="1"/>
          </p:cNvCxnSpPr>
          <p:nvPr/>
        </p:nvCxnSpPr>
        <p:spPr>
          <a:xfrm>
            <a:off x="1568520" y="5448240"/>
            <a:ext cx="411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58" idx="5"/>
            <a:endCxn id="362" idx="1"/>
          </p:cNvCxnSpPr>
          <p:nvPr/>
        </p:nvCxnSpPr>
        <p:spPr>
          <a:xfrm>
            <a:off x="2615760" y="4110120"/>
            <a:ext cx="63756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7" idx="5"/>
            <a:endCxn id="365" idx="1"/>
          </p:cNvCxnSpPr>
          <p:nvPr/>
        </p:nvCxnSpPr>
        <p:spPr>
          <a:xfrm>
            <a:off x="3625920" y="2725200"/>
            <a:ext cx="66060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C4C-1D4C-43B5-A397-969D6585366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93E-CF42-470C-B8F0-78108BA782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5972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49920" y="3422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02320" y="4761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81" idx="3"/>
            <a:endCxn id="382" idx="7"/>
          </p:cNvCxnSpPr>
          <p:nvPr/>
        </p:nvCxnSpPr>
        <p:spPr>
          <a:xfrm flipH="1">
            <a:off x="2615400" y="27252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82" idx="3"/>
            <a:endCxn id="383" idx="7"/>
          </p:cNvCxnSpPr>
          <p:nvPr/>
        </p:nvCxnSpPr>
        <p:spPr>
          <a:xfrm flipH="1">
            <a:off x="1568160" y="4110120"/>
            <a:ext cx="7149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3" idx="3"/>
            <a:endCxn id="387" idx="7"/>
          </p:cNvCxnSpPr>
          <p:nvPr/>
        </p:nvCxnSpPr>
        <p:spPr>
          <a:xfrm flipH="1">
            <a:off x="758160" y="5447880"/>
            <a:ext cx="477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3" idx="5"/>
            <a:endCxn id="388" idx="1"/>
          </p:cNvCxnSpPr>
          <p:nvPr/>
        </p:nvCxnSpPr>
        <p:spPr>
          <a:xfrm>
            <a:off x="1568520" y="5448240"/>
            <a:ext cx="411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"/>
          <p:cNvCxnSpPr>
            <a:stCxn id="382" idx="5"/>
            <a:endCxn id="386" idx="1"/>
          </p:cNvCxnSpPr>
          <p:nvPr/>
        </p:nvCxnSpPr>
        <p:spPr>
          <a:xfrm>
            <a:off x="2615760" y="4110120"/>
            <a:ext cx="63756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"/>
          <p:cNvCxnSpPr>
            <a:stCxn id="381" idx="5"/>
            <a:endCxn id="389" idx="1"/>
          </p:cNvCxnSpPr>
          <p:nvPr/>
        </p:nvCxnSpPr>
        <p:spPr>
          <a:xfrm>
            <a:off x="3625920" y="2725200"/>
            <a:ext cx="66060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399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8570000">
              <a:off x="484920" y="32374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0AA-2F5D-421F-8254-103B3F05D7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019-B7D3-457B-A44B-C4E5CC4BD35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59720" y="20383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49920" y="3422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13240" y="485784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4" idx="3"/>
            <a:endCxn id="405" idx="7"/>
          </p:cNvCxnSpPr>
          <p:nvPr/>
        </p:nvCxnSpPr>
        <p:spPr>
          <a:xfrm flipH="1">
            <a:off x="2615400" y="27252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8" name=""/>
          <p:cNvCxnSpPr>
            <a:stCxn id="405" idx="3"/>
            <a:endCxn id="406" idx="7"/>
          </p:cNvCxnSpPr>
          <p:nvPr/>
        </p:nvCxnSpPr>
        <p:spPr>
          <a:xfrm flipH="1">
            <a:off x="1279080" y="4109760"/>
            <a:ext cx="100368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9" name="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06" idx="3"/>
            <a:endCxn id="410" idx="7"/>
          </p:cNvCxnSpPr>
          <p:nvPr/>
        </p:nvCxnSpPr>
        <p:spPr>
          <a:xfrm flipH="1">
            <a:off x="713880" y="5544720"/>
            <a:ext cx="23256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"/>
          <p:cNvCxnSpPr>
            <a:stCxn id="406" idx="4"/>
            <a:endCxn id="411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5" idx="5"/>
            <a:endCxn id="415" idx="1"/>
          </p:cNvCxnSpPr>
          <p:nvPr/>
        </p:nvCxnSpPr>
        <p:spPr>
          <a:xfrm>
            <a:off x="2615760" y="4110120"/>
            <a:ext cx="3117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04" idx="5"/>
            <a:endCxn id="417" idx="1"/>
          </p:cNvCxnSpPr>
          <p:nvPr/>
        </p:nvCxnSpPr>
        <p:spPr>
          <a:xfrm>
            <a:off x="3625560" y="2725200"/>
            <a:ext cx="181044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02800" y="36385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93000" y="502272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"/>
          <p:cNvCxnSpPr>
            <a:stCxn id="417" idx="3"/>
            <a:endCxn id="421" idx="7"/>
          </p:cNvCxnSpPr>
          <p:nvPr/>
        </p:nvCxnSpPr>
        <p:spPr>
          <a:xfrm flipH="1">
            <a:off x="4758480" y="4325400"/>
            <a:ext cx="67716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421" idx="3"/>
            <a:endCxn id="409" idx="7"/>
          </p:cNvCxnSpPr>
          <p:nvPr/>
        </p:nvCxnSpPr>
        <p:spPr>
          <a:xfrm flipH="1">
            <a:off x="4215960" y="5710320"/>
            <a:ext cx="21024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7" idx="5"/>
            <a:endCxn id="424" idx="1"/>
          </p:cNvCxnSpPr>
          <p:nvPr/>
        </p:nvCxnSpPr>
        <p:spPr>
          <a:xfrm>
            <a:off x="5769000" y="4325760"/>
            <a:ext cx="65160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1" idx="5"/>
            <a:endCxn id="426" idx="1"/>
          </p:cNvCxnSpPr>
          <p:nvPr/>
        </p:nvCxnSpPr>
        <p:spPr>
          <a:xfrm>
            <a:off x="4758840" y="5710320"/>
            <a:ext cx="20556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94680" y="42480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5" idx="3"/>
            <a:endCxn id="429" idx="7"/>
          </p:cNvCxnSpPr>
          <p:nvPr/>
        </p:nvCxnSpPr>
        <p:spPr>
          <a:xfrm flipH="1">
            <a:off x="2727000" y="4935240"/>
            <a:ext cx="2008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0" name="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5" idx="5"/>
            <a:endCxn id="430" idx="1"/>
          </p:cNvCxnSpPr>
          <p:nvPr/>
        </p:nvCxnSpPr>
        <p:spPr>
          <a:xfrm>
            <a:off x="3260520" y="4935240"/>
            <a:ext cx="33228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2" name="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61160" y="5162400"/>
            <a:ext cx="5994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9" idx="3"/>
            <a:endCxn id="432" idx="7"/>
          </p:cNvCxnSpPr>
          <p:nvPr/>
        </p:nvCxnSpPr>
        <p:spPr>
          <a:xfrm flipH="1">
            <a:off x="2210760" y="5850000"/>
            <a:ext cx="1832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29" idx="5"/>
            <a:endCxn id="434" idx="1"/>
          </p:cNvCxnSpPr>
          <p:nvPr/>
        </p:nvCxnSpPr>
        <p:spPr>
          <a:xfrm>
            <a:off x="2727000" y="5850000"/>
            <a:ext cx="1846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4C9-74B7-4E39-BFE6-35CE3660CE3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9309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5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576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FEE-F052-4AE6-A640-E1B7BFBCE0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446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451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7620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3924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4892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0968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2E4-2548-48BA-888C-21C0E87FB85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466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467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72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DAE-017C-4ADE-92E4-CBCD0CC407E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488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489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494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B37-BCA6-4538-96A4-4F3768CCE4A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10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11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16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05C-6534-4277-9EEB-29C6C1BABA6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32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33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38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B5A-D7B6-4F83-9D38-B09E2EA7369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284200" y="2438280"/>
            <a:ext cx="4387680" cy="2075400"/>
            <a:chOff x="2284200" y="2438280"/>
            <a:chExt cx="4387680" cy="2075400"/>
          </a:xfrm>
        </p:grpSpPr>
        <p:grpSp>
          <p:nvGrpSpPr>
            <p:cNvPr id="554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555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560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228420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4724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5692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1768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115-60EB-4820-B192-4FA2B61AF0E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189-98A5-4D5C-BDE9-645BDD82DFD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: Given an expression E, compute T(E) and V(E, 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 without computing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‘estimate’ them inst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397-3DCF-4041-8612-00696DBB4AA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424-8ADA-48A8-A02C-1AD0ECC1A62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T(R)/V(R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V(R,A) is not available, estimate T(S) = T(R)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: T(S) = (c - Low(R, A))/(High(R,A) - Low(R,A))T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Low, High unavailable, estimate T(S) = T(R)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21C-920F-4FF8-92A6-DE0E94D142F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0164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16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708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C4F-8A39-4F36-90A6-61A6FABBEF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FA7-45E8-4C3E-B487-43EEF5D55AA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other attribute B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B54-BDF8-4438-868C-1AA5A0FE86E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will contribute T(S)/V(S,A) tuples in R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: T(R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F87-DFF5-4553-84F2-E670430BC69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1F9-1D94-4CED-B9B7-7A55ADC8A50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407-AC0C-4AE0-AB43-B0FF6A467AD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FD9-F1E8-47B8-AFF0-8801104E458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CD5-1115-48AD-98BA-174AC950645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size of Employe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F11-B58C-4AA5-9A8E-11BC3D38252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dep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200400" y="213372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3200400" y="3629160"/>
          <a:ext cx="5410080" cy="79056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2880"/>
                <a:gridCol w="1082520"/>
                <a:gridCol w="10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BEC-2EDE-4651-A507-F7C69B9972D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9073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33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956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16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381-BC0E-4133-B070-8336CD3AB0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0164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16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68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996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716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4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6256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85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028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883-3648-457A-AF85-7BFA772393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90732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330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625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460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18600" y="1721880"/>
            <a:ext cx="1679040" cy="496440"/>
          </a:xfrm>
          <a:prstGeom prst="wedgeRoundRectCallout">
            <a:avLst>
              <a:gd name="adj1" fmla="val -64273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2560" y="5280480"/>
            <a:ext cx="2584440" cy="891000"/>
          </a:xfrm>
          <a:prstGeom prst="wedgeRoundRectCallout">
            <a:avLst>
              <a:gd name="adj1" fmla="val -19111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3036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188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4404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960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941-F3A8-478D-95E5-3C7F8B54AB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5-23T00:38:13Z</dcterms:modified>
  <cp:revision>387</cp:revision>
  <dc:subject/>
  <dc:title>Lecture 09:</dc:title>
</cp:coreProperties>
</file>