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06582D3-90A2-4728-83FD-374F6003C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06965DD-53C4-4BD6-8D3F-2411CE979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C21D1F6-41E8-4D42-8EA9-5977733D9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2600" y="7034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5625DB7-7FFA-4556-83BD-3398DE76B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82600" y="7034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AEA3686-BCB3-4FA4-BB14-F1B684EFA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82600" y="7034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ep 2: merge M-1 runs, but include each tuple only o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st B(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5B02B40-EFD6-47EE-9D4C-0B2600602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2600" y="7034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EE6-AF24-41BB-88FE-C032C7CE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7A29-786B-4AA0-9851-482E4042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88B3-2FF8-4AF9-B6A0-CA29BED8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3E2E-B611-4703-8FAD-BD077CF5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7152-4907-4A3D-8627-06A8B9B0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9F69-FCDE-4298-9299-110C93F3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1112-66C1-402F-B9B3-A278202A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80C9-C15A-4565-B7BC-550AA2F7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95D2-53BE-477E-92B7-12F39233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922E-7A98-4812-B8E2-DC93DF9C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2A4C-F533-4C05-9E40-95239D2A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2726-D7D4-4B21-B3B8-973EC2C1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1FA8-B540-4D74-ABC4-F728D7A57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1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ec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May 18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C538-FFA7-4797-9193-FF04EEB698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 and Pro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, 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uple-at-a-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9600" y="4499280"/>
            <a:ext cx="164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62480" y="4499280"/>
            <a:ext cx="1851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05320" y="434340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E1D9-3C2E-45AE-B229-8FB8868819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data structure used in man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also be used for indexes, as alternative to B+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 bas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ash function f(k) maps a key k to {0, 1, …, n-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in bucket f(k) a pointer to record with key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ary storage: bucket = block, use overflow blocks when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4B3F-CC24-4568-9D35-BD192289AA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1 bucket (block) stores 2 keys + poi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e)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b)=h(f)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g)=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a)=h(c)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8320" y="5985000"/>
            <a:ext cx="2768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: h(x) = x mod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DAC2-8C27-464E-A423-BEBE7B5A05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h(a)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bucket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disk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in a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B198-8696-450E-8886-F8D9644D6B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in right bucket, if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h(d)=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D4BB-07DB-44B2-BD31-4D543245C7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overflow block, if no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h(k)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ver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 block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62520" y="3048120"/>
          <a:ext cx="2057400" cy="303192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318636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86360" y="39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86360" y="4649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86360" y="537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809880"/>
            <a:ext cx="309600" cy="30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705720" y="3809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617220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1488-295A-4F89-BA3C-C566723DB5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lent, if no overflow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rades considerably when number of keys exceeds the number of buckets (I.e. many overflow block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97D6-85A9-4F17-AEC3-5FE9EEF6E3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Memory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join: 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S, build buckets i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scan R and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S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8374-0BAB-4A74-818F-3D5D26C166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plicate Eli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 i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5C0D-9846-4C13-8A44-5F3B341990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(name, department, quant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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department, sum(quantit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uct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(department,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memory hash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: How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0DFD-C9ED-42E7-B55F-48C1B3B097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-tables (13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ecution: 15.1 – 1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F518-8490-45F7-A88B-BE54740CC7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-based nested loop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(R) B(S) when S is clus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(R) T(S) when S is unclus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0000" y="3048120"/>
            <a:ext cx="6475320" cy="17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and s join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 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1696-8446-4045-A46D-ADC60B70D5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be much more cl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ow would you compute the join in the following cases ? What is the co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2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3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6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ADC-D55B-4234-AF0C-145A5CF345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ck-Based Nested-loop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440" y="2743200"/>
            <a:ext cx="7961040" cy="29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(M-2) blocks bs of S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block br of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b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r and s join”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FB2E-7380-47CA-9103-D0D10CB5A5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ck-Based Nested-loop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59040" y="5030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457280" y="2979720"/>
            <a:ext cx="844560" cy="2026440"/>
            <a:chOff x="1457280" y="2979720"/>
            <a:chExt cx="844560" cy="2026440"/>
          </a:xfrm>
        </p:grpSpPr>
        <p:sp>
          <p:nvSpPr>
            <p:cNvPr id="139" name=""/>
            <p:cNvSpPr/>
            <p:nvPr/>
          </p:nvSpPr>
          <p:spPr>
            <a:xfrm>
              <a:off x="1470240" y="2979720"/>
              <a:ext cx="825480" cy="13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6376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0184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57280" y="4766040"/>
              <a:ext cx="838080" cy="24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6" y="10515"/>
                  </a:moveTo>
                  <a:arcTo wR="10800" hR="10800" stAng="-90790" swAng="10890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6" y="10515"/>
                  </a:moveTo>
                  <a:arcTo wR="10800" hR="10800" stAng="-90790" swAng="1089079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536920" y="2827440"/>
            <a:ext cx="3416040" cy="219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98480" y="3284640"/>
            <a:ext cx="292320" cy="29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98480" y="3741840"/>
            <a:ext cx="292320" cy="29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98480" y="4503600"/>
            <a:ext cx="292320" cy="292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66400" y="3935520"/>
            <a:ext cx="1404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46400" y="3360600"/>
            <a:ext cx="21970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227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79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57320" y="3247920"/>
            <a:ext cx="1404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22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4640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5152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01840" y="3583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01840" y="4497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49960" y="44974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8440" y="2625840"/>
            <a:ext cx="947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 &amp;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19840" y="2819520"/>
            <a:ext cx="2331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h table for block of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M-2 pag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69040" y="4651200"/>
            <a:ext cx="176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put buffer for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4520" y="46483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16240" y="3811680"/>
            <a:ext cx="306360" cy="534960"/>
          </a:xfrm>
          <a:custGeom>
            <a:avLst/>
            <a:gdLst/>
            <a:ahLst/>
            <a:rect l="l" t="t" r="r" b="b"/>
            <a:pathLst>
              <a:path w="193" h="337">
                <a:moveTo>
                  <a:pt x="48" y="336"/>
                </a:moveTo>
                <a:lnTo>
                  <a:pt x="144" y="144"/>
                </a:lnTo>
                <a:lnTo>
                  <a:pt x="0" y="192"/>
                </a:lnTo>
                <a:lnTo>
                  <a:pt x="2" y="166"/>
                </a:lnTo>
                <a:lnTo>
                  <a:pt x="19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19280" y="2979720"/>
            <a:ext cx="1404360" cy="2026440"/>
            <a:chOff x="6119280" y="2979720"/>
            <a:chExt cx="1404360" cy="2026440"/>
          </a:xfrm>
        </p:grpSpPr>
        <p:grpSp>
          <p:nvGrpSpPr>
            <p:cNvPr id="164" name=""/>
            <p:cNvGrpSpPr/>
            <p:nvPr/>
          </p:nvGrpSpPr>
          <p:grpSpPr>
            <a:xfrm>
              <a:off x="6334200" y="2979720"/>
              <a:ext cx="844560" cy="2026440"/>
              <a:chOff x="6334200" y="2979720"/>
              <a:chExt cx="844560" cy="2026440"/>
            </a:xfrm>
          </p:grpSpPr>
          <p:sp>
            <p:nvSpPr>
              <p:cNvPr id="165" name=""/>
              <p:cNvSpPr/>
              <p:nvPr/>
            </p:nvSpPr>
            <p:spPr>
              <a:xfrm>
                <a:off x="6346800" y="2979720"/>
                <a:ext cx="825480" cy="139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34068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7876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334200" y="4766040"/>
                <a:ext cx="837720" cy="24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790" swAng="108907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790" swAng="1089079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6651720" y="3284280"/>
              <a:ext cx="291960" cy="291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51720" y="3741480"/>
              <a:ext cx="291960" cy="291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1720" y="4503600"/>
              <a:ext cx="291960" cy="291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19280" y="3933720"/>
              <a:ext cx="140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5788440" y="2624040"/>
            <a:ext cx="1861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Join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D08D-3813-447E-AE38-5E598643B5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ck-Based Nested-loop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S once: cost 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loop runs B(S)/(M-2) times, and each time need to read R: costs B(S)B(R)/(M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 B(S)  +  B(S)B(R)/(M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: it is better to iterate over the smaller relation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:  R=outer relation, S=inner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2CB7-485D-469E-97B9-E39D751F1F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S has an index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447920" y="2133720"/>
                <a:ext cx="5760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717120" y="3048120"/>
            <a:ext cx="7857360" cy="16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up the tuple(s) s in S using the inde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0030-0DCC-48B0-9971-E3B0634A168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(Assuming R is clustered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ndex is clustered:  B(R) + T(R)B(S)/V(S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ndex is unclustered: B(R) + T(R)T(S)/V(S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A4C5-95AF-4CFD-AD39-9BD4D46A8D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on equality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index on a:  cost B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lustered index on a: cost T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seen that this is like a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9D65-6B3E-45BE-8B7A-C886DAEEB88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scan (assuming R is clustere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(R) = 2,000 I/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based sel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ndex is clustered: B(R)/V(R,a) = 100 I/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ndex is unclustered: T(R)/V(R,a) = 5,000 I/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on: don’t build unclustered indexes when V(R,a) is small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02320" y="1523880"/>
            <a:ext cx="24058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 = 2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= 100,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, a)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48840" y="1981080"/>
            <a:ext cx="2760840" cy="53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3F32-8326-47A5-9BBC-4E0E1295FEF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on Very Large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ed hash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-sort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60EB-5BDD-45CC-8984-606D11087EE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 of a Database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13320" y="2208960"/>
            <a:ext cx="17301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76640" y="3066480"/>
            <a:ext cx="26049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Logic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5520" y="3923640"/>
            <a:ext cx="270684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hysic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25320" y="4780800"/>
            <a:ext cx="23061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98960" y="5638680"/>
            <a:ext cx="762120" cy="914400"/>
          </a:xfrm>
          <a:prstGeom prst="can">
            <a:avLst>
              <a:gd name="adj" fmla="val 359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3" idx="2"/>
            <a:endCxn id="54" idx="0"/>
          </p:cNvCxnSpPr>
          <p:nvPr/>
        </p:nvCxnSpPr>
        <p:spPr>
          <a:xfrm>
            <a:off x="4478400" y="2717280"/>
            <a:ext cx="2160" cy="35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4" idx="2"/>
            <a:endCxn id="55" idx="0"/>
          </p:cNvCxnSpPr>
          <p:nvPr/>
        </p:nvCxnSpPr>
        <p:spPr>
          <a:xfrm>
            <a:off x="4479480" y="3575160"/>
            <a:ext cx="10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2"/>
            <a:endCxn id="56" idx="0"/>
          </p:cNvCxnSpPr>
          <p:nvPr/>
        </p:nvCxnSpPr>
        <p:spPr>
          <a:xfrm flipH="1">
            <a:off x="4478040" y="4432320"/>
            <a:ext cx="21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6" idx="2"/>
            <a:endCxn id="57" idx="1"/>
          </p:cNvCxnSpPr>
          <p:nvPr/>
        </p:nvCxnSpPr>
        <p:spPr>
          <a:xfrm>
            <a:off x="4478400" y="5289480"/>
            <a:ext cx="21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3716640" y="144792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62" idx="2"/>
            <a:endCxn id="53" idx="0"/>
          </p:cNvCxnSpPr>
          <p:nvPr/>
        </p:nvCxnSpPr>
        <p:spPr>
          <a:xfrm flipH="1">
            <a:off x="4478040" y="1905120"/>
            <a:ext cx="21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666880" y="2971800"/>
            <a:ext cx="533520" cy="15238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74520" y="3241800"/>
            <a:ext cx="17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27640" y="2725200"/>
            <a:ext cx="1582200" cy="1172520"/>
          </a:xfrm>
          <a:prstGeom prst="wedgeEllipseCallout">
            <a:avLst>
              <a:gd name="adj1" fmla="val -157912"/>
              <a:gd name="adj2" fmla="val 36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57800" y="4096800"/>
            <a:ext cx="1726560" cy="1172520"/>
          </a:xfrm>
          <a:prstGeom prst="wedgeEllipseCallout">
            <a:avLst>
              <a:gd name="adj1" fmla="val -157064"/>
              <a:gd name="adj2" fmla="val -5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F2D6-F19F-4922-83F1-334F64780E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partition a relation R into buckets, on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bucket has size approx. B(R)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589040" y="2895480"/>
            <a:ext cx="5639040" cy="2820960"/>
            <a:chOff x="1589040" y="2895480"/>
            <a:chExt cx="5639040" cy="2820960"/>
          </a:xfrm>
        </p:grpSpPr>
        <p:sp>
          <p:nvSpPr>
            <p:cNvPr id="193" name=""/>
            <p:cNvSpPr/>
            <p:nvPr/>
          </p:nvSpPr>
          <p:spPr>
            <a:xfrm>
              <a:off x="2914560" y="5327280"/>
              <a:ext cx="2582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00400" y="53481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83600" y="53496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51760" y="2895480"/>
              <a:ext cx="1233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 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98480" y="318096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9624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4420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61200" y="3159720"/>
              <a:ext cx="2541960" cy="215676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96360" y="4402800"/>
              <a:ext cx="318600" cy="25380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4764240" y="4583880"/>
              <a:ext cx="317880" cy="85320"/>
              <a:chOff x="4764240" y="4583880"/>
              <a:chExt cx="317880" cy="85320"/>
            </a:xfrm>
          </p:grpSpPr>
          <p:sp>
            <p:nvSpPr>
              <p:cNvPr id="203" name=""/>
              <p:cNvSpPr/>
              <p:nvPr/>
            </p:nvSpPr>
            <p:spPr>
              <a:xfrm>
                <a:off x="476424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90140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049000" y="4583880"/>
                <a:ext cx="33120" cy="853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5723280" y="376884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99760" y="3768840"/>
              <a:ext cx="236880" cy="25416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23280" y="4208760"/>
              <a:ext cx="238680" cy="2538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08400" y="4208760"/>
              <a:ext cx="23724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6016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94240" y="4208760"/>
              <a:ext cx="23688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50920" y="3946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23280" y="499500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18520" y="495468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73520" y="401256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50920" y="34304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00920" y="4244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61640" y="468720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77120" y="317052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75840" y="374616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66840" y="414540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36240" y="489204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1812600" y="3524760"/>
              <a:ext cx="875880" cy="1838880"/>
              <a:chOff x="1812600" y="3524760"/>
              <a:chExt cx="875880" cy="1838880"/>
            </a:xfrm>
          </p:grpSpPr>
          <p:sp>
            <p:nvSpPr>
              <p:cNvPr id="224" name=""/>
              <p:cNvSpPr/>
              <p:nvPr/>
            </p:nvSpPr>
            <p:spPr>
              <a:xfrm>
                <a:off x="1826280" y="3524760"/>
                <a:ext cx="855720" cy="127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81980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68848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812600" y="5143320"/>
                <a:ext cx="86796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2114640" y="374004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14640" y="417096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14640" y="4889160"/>
              <a:ext cx="277560" cy="27504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89040" y="4353480"/>
              <a:ext cx="140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5654880" y="3524760"/>
              <a:ext cx="1020960" cy="1859760"/>
              <a:chOff x="5654880" y="3524760"/>
              <a:chExt cx="1020960" cy="1859760"/>
            </a:xfrm>
          </p:grpSpPr>
          <p:sp>
            <p:nvSpPr>
              <p:cNvPr id="233" name=""/>
              <p:cNvSpPr/>
              <p:nvPr/>
            </p:nvSpPr>
            <p:spPr>
              <a:xfrm>
                <a:off x="5668560" y="3524760"/>
                <a:ext cx="100116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66208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67584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654880" y="5164200"/>
                <a:ext cx="101304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688840" y="4524120"/>
              <a:ext cx="36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211280" y="394956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211280" y="4380480"/>
              <a:ext cx="507240" cy="14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11280" y="452412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53400" y="38779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53400" y="430884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53400" y="50983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18520" y="416520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18520" y="366264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1509480" y="3619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09480" y="4152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44800" y="4873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130320" y="5867280"/>
            <a:ext cx="61236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each bucket fit in main memory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if B(R)/M &lt;= M,   i.e. B(R) &lt;=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D735-EDF1-4C8B-854C-7378A4E7394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plicate Eli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86B1-92ED-42F9-9210-3C6A2F8A632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57E4-C4D2-4CB3-93AD-6B7C5A55CA9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S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R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every pair of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4011-B82C-4B5D-8A8F-41C62D98179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505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tion both relations using hash fn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R tuples in partition i will only match S tuples in partition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411480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ad in a partition of R, hash it using 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h2 (&lt;&gt; </a:t>
            </a:r>
            <a:r>
              <a:rPr b="1" lang="en-US" sz="2400" spc="-1" strike="noStrike">
                <a:solidFill>
                  <a:srgbClr val="3333cc"/>
                </a:solidFill>
                <a:latin typeface="Book Antiqua"/>
              </a:rPr>
              <a:t>h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!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 Scan matching partition of S, search for mat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05320" y="34290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422520" y="3560760"/>
            <a:ext cx="5495040" cy="3030840"/>
            <a:chOff x="3422520" y="3560760"/>
            <a:chExt cx="5495040" cy="3030840"/>
          </a:xfrm>
        </p:grpSpPr>
        <p:sp>
          <p:nvSpPr>
            <p:cNvPr id="263" name=""/>
            <p:cNvSpPr/>
            <p:nvPr/>
          </p:nvSpPr>
          <p:spPr>
            <a:xfrm>
              <a:off x="3447360" y="3560760"/>
              <a:ext cx="1151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f R &amp; 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60240" y="5726160"/>
              <a:ext cx="113148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 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or 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18200" y="4008600"/>
              <a:ext cx="2241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 table for part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i ( &lt; M-1 pag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7676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4976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8152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2444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52116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8792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21160" y="5062680"/>
              <a:ext cx="230040" cy="2458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0" y="15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97280" y="5062680"/>
              <a:ext cx="228600" cy="24588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843360" y="5824440"/>
              <a:ext cx="228600" cy="24624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21160" y="582624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64080" y="469260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78484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3748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8812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421320" y="4807080"/>
              <a:ext cx="38160" cy="5688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23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3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56280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10080" y="4648320"/>
              <a:ext cx="1749600" cy="366480"/>
            </a:xfrm>
            <a:custGeom>
              <a:avLst/>
              <a:gdLst/>
              <a:ahLst/>
              <a:rect l="l" t="t" r="r" b="b"/>
              <a:pathLst>
                <a:path w="1102" h="231">
                  <a:moveTo>
                    <a:pt x="0" y="230"/>
                  </a:moveTo>
                  <a:lnTo>
                    <a:pt x="0" y="0"/>
                  </a:lnTo>
                  <a:lnTo>
                    <a:pt x="1101" y="0"/>
                  </a:lnTo>
                  <a:lnTo>
                    <a:pt x="1101" y="230"/>
                  </a:lnTo>
                  <a:lnTo>
                    <a:pt x="0" y="2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7052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22800" y="3962520"/>
              <a:ext cx="2422440" cy="2211120"/>
            </a:xfrm>
            <a:custGeom>
              <a:avLst/>
              <a:gdLst/>
              <a:ahLst/>
              <a:rect l="l" t="t" r="r" b="b"/>
              <a:pathLst>
                <a:path w="1526" h="1393">
                  <a:moveTo>
                    <a:pt x="0" y="1392"/>
                  </a:moveTo>
                  <a:lnTo>
                    <a:pt x="0" y="0"/>
                  </a:lnTo>
                  <a:lnTo>
                    <a:pt x="1525" y="0"/>
                  </a:lnTo>
                  <a:lnTo>
                    <a:pt x="1525" y="1392"/>
                  </a:lnTo>
                  <a:lnTo>
                    <a:pt x="0" y="13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8088480" y="4552920"/>
              <a:ext cx="312480" cy="1368360"/>
              <a:chOff x="8088480" y="4552920"/>
              <a:chExt cx="312480" cy="1368360"/>
            </a:xfrm>
          </p:grpSpPr>
          <p:sp>
            <p:nvSpPr>
              <p:cNvPr id="286" name=""/>
              <p:cNvSpPr/>
              <p:nvPr/>
            </p:nvSpPr>
            <p:spPr>
              <a:xfrm>
                <a:off x="808848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22024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362800" y="5391000"/>
                <a:ext cx="38160" cy="5904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23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3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145360" y="4552920"/>
                <a:ext cx="228600" cy="24624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145360" y="4910040"/>
                <a:ext cx="228600" cy="247680"/>
              </a:xfrm>
              <a:custGeom>
                <a:avLst/>
                <a:gdLst/>
                <a:ahLst/>
                <a:rect l="l" t="t" r="r" b="b"/>
                <a:pathLst>
                  <a:path w="144" h="156">
                    <a:moveTo>
                      <a:pt x="0" y="155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5"/>
                    </a:lnTo>
                    <a:lnTo>
                      <a:pt x="0" y="155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145360" y="5675400"/>
                <a:ext cx="228600" cy="24588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5074920" y="616752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86040" y="62247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55600" y="5634000"/>
              <a:ext cx="784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939080" y="616752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633800" y="3738600"/>
              <a:ext cx="1283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oin 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01440" y="4300560"/>
              <a:ext cx="591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48240" y="4510080"/>
              <a:ext cx="36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56160" y="4716360"/>
              <a:ext cx="425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52240" y="51865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3422520" y="4197240"/>
              <a:ext cx="1073160" cy="2027160"/>
              <a:chOff x="3422520" y="4197240"/>
              <a:chExt cx="1073160" cy="2027160"/>
            </a:xfrm>
          </p:grpSpPr>
          <p:sp>
            <p:nvSpPr>
              <p:cNvPr id="302" name=""/>
              <p:cNvSpPr/>
              <p:nvPr/>
            </p:nvSpPr>
            <p:spPr>
              <a:xfrm>
                <a:off x="3436920" y="4197240"/>
                <a:ext cx="1052640" cy="139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43044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9568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422520" y="5983560"/>
                <a:ext cx="1064880" cy="24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852" swAng="108908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852" swAng="1089085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7842240" y="4273560"/>
              <a:ext cx="844560" cy="1875960"/>
              <a:chOff x="7842240" y="4273560"/>
              <a:chExt cx="844560" cy="1875960"/>
            </a:xfrm>
          </p:grpSpPr>
          <p:sp>
            <p:nvSpPr>
              <p:cNvPr id="307" name=""/>
              <p:cNvSpPr/>
              <p:nvPr/>
            </p:nvSpPr>
            <p:spPr>
              <a:xfrm>
                <a:off x="7854840" y="4273560"/>
                <a:ext cx="82548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84872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68680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2240" y="5924520"/>
                <a:ext cx="837720" cy="22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493"/>
                    </a:moveTo>
                    <a:arcTo wR="10800" hR="10800" stAng="-97869" swAng="109466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493"/>
                    </a:moveTo>
                    <a:arcTo wR="10800" hR="10800" stAng="-97869" swAng="1094662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4495680" y="5029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95680" y="55627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15000" y="5029200"/>
              <a:ext cx="306360" cy="458640"/>
            </a:xfrm>
            <a:custGeom>
              <a:avLst/>
              <a:gdLst/>
              <a:ahLst/>
              <a:rect l="l" t="t" r="r" b="b"/>
              <a:pathLst>
                <a:path w="193" h="289">
                  <a:moveTo>
                    <a:pt x="0" y="288"/>
                  </a:moveTo>
                  <a:lnTo>
                    <a:pt x="192" y="173"/>
                  </a:lnTo>
                  <a:lnTo>
                    <a:pt x="188" y="145"/>
                  </a:lnTo>
                  <a:lnTo>
                    <a:pt x="0" y="115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0280" y="5562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3282480" y="328680"/>
            <a:ext cx="5878080" cy="2971800"/>
            <a:chOff x="3282480" y="328680"/>
            <a:chExt cx="5878080" cy="2971800"/>
          </a:xfrm>
        </p:grpSpPr>
        <p:sp>
          <p:nvSpPr>
            <p:cNvPr id="316" name=""/>
            <p:cNvSpPr/>
            <p:nvPr/>
          </p:nvSpPr>
          <p:spPr>
            <a:xfrm>
              <a:off x="4659120" y="290988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94720" y="29322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78120" y="293364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33680" y="328680"/>
              <a:ext cx="1070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igin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16480" y="63180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00100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15652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495680" y="609480"/>
              <a:ext cx="2671920" cy="228924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48120" y="1928880"/>
              <a:ext cx="335160" cy="26964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6600960" y="2120760"/>
              <a:ext cx="334800" cy="90720"/>
              <a:chOff x="6600960" y="2120760"/>
              <a:chExt cx="334800" cy="90720"/>
            </a:xfrm>
          </p:grpSpPr>
          <p:sp>
            <p:nvSpPr>
              <p:cNvPr id="326" name=""/>
              <p:cNvSpPr/>
              <p:nvPr/>
            </p:nvSpPr>
            <p:spPr>
              <a:xfrm>
                <a:off x="660096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74532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900840" y="2120760"/>
                <a:ext cx="34920" cy="907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7608960" y="125568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899480" y="1255680"/>
              <a:ext cx="249120" cy="2700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08960" y="1722600"/>
              <a:ext cx="250920" cy="26964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08840" y="1722600"/>
              <a:ext cx="24948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5808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209080" y="1722600"/>
              <a:ext cx="24912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87280" y="1444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608960" y="255744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553080" y="25146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14120" y="151452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87280" y="8967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87240" y="1760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91880" y="223056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455600" y="62064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610120" y="123192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600760" y="165564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568720" y="244800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3498840" y="996840"/>
              <a:ext cx="920880" cy="1952280"/>
              <a:chOff x="3498840" y="996840"/>
              <a:chExt cx="920880" cy="1952280"/>
            </a:xfrm>
          </p:grpSpPr>
          <p:sp>
            <p:nvSpPr>
              <p:cNvPr id="347" name=""/>
              <p:cNvSpPr/>
              <p:nvPr/>
            </p:nvSpPr>
            <p:spPr>
              <a:xfrm>
                <a:off x="3513240" y="996840"/>
                <a:ext cx="900000" cy="135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0676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41972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98840" y="2714760"/>
                <a:ext cx="91260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3816360" y="12254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816360" y="16826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16360" y="2444760"/>
              <a:ext cx="291960" cy="291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82480" y="1876320"/>
              <a:ext cx="140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7537320" y="996840"/>
              <a:ext cx="1073160" cy="1974600"/>
              <a:chOff x="7537320" y="996840"/>
              <a:chExt cx="1073160" cy="1974600"/>
            </a:xfrm>
          </p:grpSpPr>
          <p:sp>
            <p:nvSpPr>
              <p:cNvPr id="356" name=""/>
              <p:cNvSpPr/>
              <p:nvPr/>
            </p:nvSpPr>
            <p:spPr>
              <a:xfrm>
                <a:off x="7551720" y="996840"/>
                <a:ext cx="1052640" cy="136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54524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61048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537320" y="2737080"/>
                <a:ext cx="106488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4419720" y="2057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019920" y="144756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019920" y="1904760"/>
              <a:ext cx="5331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019920" y="205740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10280" y="13716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10280" y="18288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10280" y="266688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553080" y="167652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53080" y="11430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0" y="40384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4834-0E48-4A88-AC31-80C1053F2B2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 + 3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min(B(R), B(S)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B0FC-F788-4F65-9FD2-EAF03A62DBE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a file of size B with memory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we need thi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BY in SQL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physical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 loading of B+-tree index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discuss only 2-pass sorting, for when B &lt;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E2CE-104A-47A8-BE50-19C30B570E4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Merge-Sort: Step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one: load M bytes in memory, s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5181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48120" y="5181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761160" y="30304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22480" y="34196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22480" y="44197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76320" y="30654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77080" y="35053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91480" y="37861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11520" y="28195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157880" y="486252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95280" y="489600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92160" y="31878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9080" y="31878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911160" y="4483440"/>
            <a:ext cx="1530000" cy="367200"/>
            <a:chOff x="911160" y="4483440"/>
            <a:chExt cx="1530000" cy="367200"/>
          </a:xfrm>
        </p:grpSpPr>
        <p:sp>
          <p:nvSpPr>
            <p:cNvPr id="392" name=""/>
            <p:cNvSpPr/>
            <p:nvPr/>
          </p:nvSpPr>
          <p:spPr>
            <a:xfrm>
              <a:off x="993600" y="44834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11160" y="44834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697440" y="4416840"/>
            <a:ext cx="1536120" cy="348480"/>
            <a:chOff x="6697440" y="4416840"/>
            <a:chExt cx="1536120" cy="348480"/>
          </a:xfrm>
        </p:grpSpPr>
        <p:sp>
          <p:nvSpPr>
            <p:cNvPr id="395" name=""/>
            <p:cNvSpPr/>
            <p:nvPr/>
          </p:nvSpPr>
          <p:spPr>
            <a:xfrm>
              <a:off x="6780240" y="44168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97440" y="44168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6784920" y="31878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151840" y="31878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98520" y="3463920"/>
            <a:ext cx="1001880" cy="2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867280" y="4017600"/>
            <a:ext cx="917640" cy="2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122480" y="36972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010280" y="3603600"/>
            <a:ext cx="822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91480" y="43401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5800" y="3605040"/>
            <a:ext cx="17089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76720" y="2971800"/>
            <a:ext cx="2590560" cy="205740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95480" y="4952880"/>
            <a:ext cx="325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55280" y="5792400"/>
            <a:ext cx="4329360" cy="627480"/>
          </a:xfrm>
          <a:prstGeom prst="wedgeRoundRectCallout">
            <a:avLst>
              <a:gd name="adj1" fmla="val 27481"/>
              <a:gd name="adj2" fmla="val -154009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s of length M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966F-65E7-4FB8-AE09-E9B976C0650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Merge-Sort: Step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M – 1 runs into a new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runs of length M (M – 1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157880" y="531972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295280" y="535320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424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427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2198520" y="3736800"/>
            <a:ext cx="10461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198520" y="429084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51400" y="3921120"/>
            <a:ext cx="642960" cy="4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451400" y="4568400"/>
            <a:ext cx="64296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40520" y="4475160"/>
            <a:ext cx="64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79520" y="4937040"/>
            <a:ext cx="96516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51400" y="4290840"/>
            <a:ext cx="6429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010280" y="4060800"/>
            <a:ext cx="822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75800" y="4062240"/>
            <a:ext cx="17089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82120" y="4956480"/>
            <a:ext cx="117288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276720" y="34322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76720" y="41180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566880" y="4460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25320" y="4194360"/>
            <a:ext cx="10281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826640" y="6018840"/>
            <a:ext cx="49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B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en we ar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895480" y="5410080"/>
            <a:ext cx="325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1995-F51A-48AB-9E3F-F3E4EEF6FA0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d+write+read = 3B(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E977-DC2B-4197-A675-9E77436E827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Algebra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, intersection, 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A026-EF3A-4DA1-B5C3-0B163ED92E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plicate Eli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: do a two step merge sort, but change one of the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 in class: which step needs to be changed and how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AD64-3E98-45D6-965B-84C39714282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, sum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efore: sort, then compute the sum(b) for each group of a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91A5-362D-465C-A641-9D74B724262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a: initial runs for 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b: initial runs for 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: merge and 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878D-430D-40E4-BA62-B2637BEC094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4370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24080" y="4370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37480" y="2219400"/>
            <a:ext cx="1393560" cy="25380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98440" y="2608200"/>
            <a:ext cx="109872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98440" y="3608280"/>
            <a:ext cx="112896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052640" y="2254320"/>
            <a:ext cx="1387440" cy="26496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67200" y="441972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953400" y="2693880"/>
            <a:ext cx="1118880" cy="15732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967440" y="2975040"/>
            <a:ext cx="112104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87480" y="2008080"/>
            <a:ext cx="3625920" cy="279252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234200" y="405144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371600" y="408456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68480" y="2376360"/>
            <a:ext cx="0" cy="147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35400" y="2376360"/>
            <a:ext cx="0" cy="147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987480" y="3672360"/>
            <a:ext cx="1530000" cy="367200"/>
            <a:chOff x="987480" y="3672360"/>
            <a:chExt cx="1530000" cy="367200"/>
          </a:xfrm>
        </p:grpSpPr>
        <p:sp>
          <p:nvSpPr>
            <p:cNvPr id="476" name=""/>
            <p:cNvSpPr/>
            <p:nvPr/>
          </p:nvSpPr>
          <p:spPr>
            <a:xfrm>
              <a:off x="1069920" y="367236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87480" y="367236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773760" y="3605400"/>
            <a:ext cx="1536120" cy="348480"/>
            <a:chOff x="6773760" y="3605400"/>
            <a:chExt cx="1536120" cy="348480"/>
          </a:xfrm>
        </p:grpSpPr>
        <p:sp>
          <p:nvSpPr>
            <p:cNvPr id="479" name=""/>
            <p:cNvSpPr/>
            <p:nvPr/>
          </p:nvSpPr>
          <p:spPr>
            <a:xfrm>
              <a:off x="6856560" y="360540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773760" y="360540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6861240" y="2376360"/>
            <a:ext cx="0" cy="139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28160" y="2376360"/>
            <a:ext cx="0" cy="139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274840" y="2468520"/>
            <a:ext cx="10461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274840" y="302256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27720" y="2652840"/>
            <a:ext cx="642600" cy="4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4527720" y="3300120"/>
            <a:ext cx="64260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216480" y="3206880"/>
            <a:ext cx="644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198440" y="2886120"/>
            <a:ext cx="109872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355840" y="3668760"/>
            <a:ext cx="96516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27720" y="3022560"/>
            <a:ext cx="64260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86600" y="2792520"/>
            <a:ext cx="8222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967440" y="3529080"/>
            <a:ext cx="112104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52120" y="2793960"/>
            <a:ext cx="17089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358440" y="3803760"/>
            <a:ext cx="117288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352680" y="2163960"/>
            <a:ext cx="144792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352680" y="2849760"/>
            <a:ext cx="144792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643200" y="3192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201640" y="2926080"/>
            <a:ext cx="10281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829880" y="5236920"/>
            <a:ext cx="494928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= B(R)/M runs for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= B(S)/M runs for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B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en we ar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CFDF-DFC8-463D-A047-18343D4BE7A9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umber of tuples in R matching those in S is small (or vice versa) we can compute the join during the merge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+3B(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B(S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CE2E-8A34-4EA4-926E-05B299BC13D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ternal Join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Nested Loop: B(S) + B(R)*B(S)/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 Join: B(R) + T(R)B(S)/V(S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ed Hash: 3B(R)+3B(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B(R),B(S)) 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Join: 3B(R)+3B(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+B(S) 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AF2-6B2F-4953-AFFA-54363C5C1E1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learn today and the following lec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-memory hash based 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-based nested-loop 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ed hash-based 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-by / Duplicate-elimin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53C1-6AF8-4A95-A321-FB9B221A0F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opera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(pname, cname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 Company(cname, 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pose three physical operators for the join, assuming the tables are in main memo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E768-5CD0-4198-9EF8-8452EC81CA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(pname, cnam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 Company(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00000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00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time do the following physical operators take if the data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main 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ested loop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ort and merge = merge-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ash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D3AE-8414-475F-A890-475B509E11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n operation = total number of I/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assumed to be delivered in ma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 = number of blocks for relation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= number of tuples in relation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, a) = number of distinct values of attribut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= size of main memory buffer pool, in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D4D0-660A-41C5-94C0-2203626EC6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ble 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s consists only of records from this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&lt;&lt;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clu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ble 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records are placed on blocks with other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is a key, V(R,a) = T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is not a key, V(R,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6F4E-300F-48B8-AA0A-772331B292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7-05-15T23:33:57Z</dcterms:modified>
  <cp:revision>354</cp:revision>
  <dc:subject/>
  <dc:title>Lecture 09:</dc:title>
</cp:coreProperties>
</file>