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3DD2-CCD0-438B-B44F-561B6398C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45D7-1B11-4CBE-A935-B813B599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EA8A-AE31-4490-8691-1569B8739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427-0141-4AA1-BB8C-49B196655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7016-5772-48B9-B36D-7DD9AFC7C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317-97C9-4AF4-9908-1C6F155E7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DAF7-6098-449F-B213-B0C856D60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lan means: read the City-index and find the entries for Seattle.  Each such entry consists of a key, the ‘buyer’ key.  For each of them go to Purchase and use the primary index to retrieve the purc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874-E8C8-4412-92A7-FCCF962D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65B-BD6C-4396-9D77-5F08CB7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1E6-3F5A-40EA-9D13-756B3EC0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93F-37BA-440E-91DB-821BD456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6DD-C48E-4CD0-99C6-45B9A979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D28-59B6-48DF-8EA3-5FF1A9D4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6B8-989A-4F6F-8397-3EE35BD0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822-C313-491F-8B43-9145F13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8F2-919F-4A85-9435-DEFA0DD1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8BF-7425-4774-BE72-0E76E15B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9A7-4EAD-48C1-82B2-4DD05751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A82-D78D-431D-A973-1737454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8B05-A1F6-45C3-80A2-C3D89754C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: 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y 16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4B4-1B10-49E9-8821-950BD28BE0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1360" y="3276720"/>
            <a:ext cx="378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ame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505320" y="4267080"/>
          <a:ext cx="4012920" cy="1638360"/>
        </p:xfrm>
        <a:graphic>
          <a:graphicData uri="http://schemas.openxmlformats.org/drawingml/2006/table">
            <a:tbl>
              <a:tblPr/>
              <a:tblGrid>
                <a:gridCol w="2006640"/>
                <a:gridCol w="2006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AF5-B910-4C70-82AD-EFDA1EEC27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378-5056-4F59-BBB1-0C6AF8082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F88-6411-47DB-8BB7-5F8C2A7A46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E66-D25F-41FE-A8B4-61089A48F5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680-0383-432E-AB46-1EC369034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012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536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204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68E-7B91-44B1-905F-FC71E72898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E94-1A49-48AF-A7BC-254F1F1698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316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6352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6388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7696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229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8624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400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8552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44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2364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8552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52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42520" y="4191120"/>
            <a:ext cx="7674480" cy="782280"/>
            <a:chOff x="542520" y="4191120"/>
            <a:chExt cx="7674480" cy="782280"/>
          </a:xfrm>
        </p:grpSpPr>
        <p:sp>
          <p:nvSpPr>
            <p:cNvPr id="179" name=""/>
            <p:cNvSpPr/>
            <p:nvPr/>
          </p:nvSpPr>
          <p:spPr>
            <a:xfrm>
              <a:off x="54252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848240" y="4247640"/>
              <a:ext cx="193680" cy="38520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321-5B3B-4751-AD74-FEBA27ADD2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E75-1318-4241-A376-650BEC233E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74B-9716-46CC-BF37-47B2FACB01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a SQL engine wor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que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al algebra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pl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e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each operator of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C0B-6493-4596-9B62-E587623094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8EB-2A66-46D6-BCC6-E92BB97A83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24D-88DA-4025-A91F-48BE3CD1D0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063-AB0F-4EF0-BD23-A633E79236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6"/>
            <a:endCxn id="199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128016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35680" y="4884840"/>
            <a:ext cx="73537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5512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4920" y="5861160"/>
            <a:ext cx="28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94560" y="6216480"/>
            <a:ext cx="405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813-96AE-4BBA-8661-0AD755B5C7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        Purchase                    Person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9708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1588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2352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9880" y="3581280"/>
            <a:ext cx="1705680" cy="461160"/>
            <a:chOff x="3809880" y="3581280"/>
            <a:chExt cx="1705680" cy="461160"/>
          </a:xfrm>
        </p:grpSpPr>
        <p:sp>
          <p:nvSpPr>
            <p:cNvPr id="217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328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220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52680" y="2057400"/>
            <a:ext cx="1729080" cy="461160"/>
            <a:chOff x="3352680" y="2057400"/>
            <a:chExt cx="1729080" cy="461160"/>
          </a:xfrm>
        </p:grpSpPr>
        <p:sp>
          <p:nvSpPr>
            <p:cNvPr id="223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500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1EF-AF88-47D6-9082-E17478742F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528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E9D-7F6D-495B-A0E8-935BE3436E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057400" y="2590920"/>
          <a:ext cx="4876920" cy="182556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895-6403-4AD6-81FF-8213D1E50E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SQL to 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582480" y="298944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30880" y="21463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18360" y="21463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9840" y="213048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248600" y="4143240"/>
            <a:ext cx="349200" cy="123840"/>
            <a:chOff x="7248600" y="4143240"/>
            <a:chExt cx="349200" cy="123840"/>
          </a:xfrm>
        </p:grpSpPr>
        <p:sp>
          <p:nvSpPr>
            <p:cNvPr id="249" name=""/>
            <p:cNvSpPr/>
            <p:nvPr/>
          </p:nvSpPr>
          <p:spPr>
            <a:xfrm>
              <a:off x="724860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9636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86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486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653160" y="46544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69360" y="465444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24640" y="3430440"/>
            <a:ext cx="180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24640" y="2503440"/>
            <a:ext cx="180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160" y="509436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81480" y="507852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803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1840" y="312408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99000" y="3352680"/>
            <a:ext cx="175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 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84880" y="22147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12280" y="3063960"/>
            <a:ext cx="1839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21000" y="2717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680" y="137160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F48-6D51-407F-A571-064A63E659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506520" y="251460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08920" y="27511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96040" y="27511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7520" y="273528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966000" y="4143240"/>
            <a:ext cx="349200" cy="123840"/>
            <a:chOff x="6966000" y="4143240"/>
            <a:chExt cx="349200" cy="123840"/>
          </a:xfrm>
        </p:grpSpPr>
        <p:sp>
          <p:nvSpPr>
            <p:cNvPr id="272" name=""/>
            <p:cNvSpPr/>
            <p:nvPr/>
          </p:nvSpPr>
          <p:spPr>
            <a:xfrm>
              <a:off x="696600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376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660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660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370560" y="46544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86760" y="465444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42040" y="3430440"/>
            <a:ext cx="180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12560" y="606420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98880" y="604836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977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240" y="548640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2920" y="2819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3680" y="5425920"/>
            <a:ext cx="18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2400" y="50799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140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47640" y="5486400"/>
            <a:ext cx="122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925760" y="50292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5638680"/>
            <a:ext cx="1440" cy="513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77320" y="5562720"/>
            <a:ext cx="1440" cy="56016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2DE-E9C0-4598-8393-EF1026341B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-monontone Queries (in clas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1820520" y="2549520"/>
            <a:ext cx="12377160" cy="399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t exists (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2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2.product = P.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P2.buyer = Q.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Q.age &gt; 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72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B0B-C604-477E-8038-5891E9EC7F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6600" y="442260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88600" y="47880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01680" y="478800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4" idx="3"/>
            <a:endCxn id="55" idx="1"/>
          </p:cNvCxnSpPr>
          <p:nvPr/>
        </p:nvCxnSpPr>
        <p:spPr>
          <a:xfrm>
            <a:off x="2604960" y="5017680"/>
            <a:ext cx="1578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3"/>
            <a:endCxn id="56" idx="1"/>
          </p:cNvCxnSpPr>
          <p:nvPr/>
        </p:nvCxnSpPr>
        <p:spPr>
          <a:xfrm>
            <a:off x="5357880" y="5017680"/>
            <a:ext cx="124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07680" y="59086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65600" y="58071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B58-5354-4C98-8F3A-2A8C22C70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ended Logical Algebra Operat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perate on Bags, not Se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x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62F-4340-4F87-B221-E319D344D3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028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07560" y="54864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(product, city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8556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92880" y="4038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9288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92880" y="1905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(city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18440" y="6236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, T2, T3  = temporary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945-77EA-4284-80E5-0137326516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v.s. Physic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seen the logical algebr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basic operators, plus group-by, plus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ysical algebra refines each operator into a concrete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4F1-67BE-4342-A67A-F996976937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506520" y="2514600"/>
            <a:ext cx="7256520" cy="252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.city=‘Seattle’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Q.age &gt;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08920" y="27511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96040" y="27511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67520" y="273528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966000" y="4143240"/>
            <a:ext cx="349200" cy="123840"/>
            <a:chOff x="6966000" y="4143240"/>
            <a:chExt cx="349200" cy="123840"/>
          </a:xfrm>
        </p:grpSpPr>
        <p:sp>
          <p:nvSpPr>
            <p:cNvPr id="319" name=""/>
            <p:cNvSpPr/>
            <p:nvPr/>
          </p:nvSpPr>
          <p:spPr>
            <a:xfrm>
              <a:off x="696600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13760" y="414324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660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66000" y="414324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370560" y="46544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86760" y="465444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42040" y="3430440"/>
            <a:ext cx="180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60480" y="601992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93760" y="6048360"/>
            <a:ext cx="1088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97720" y="434808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90800" y="544212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62920" y="2819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78560" y="54259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39960" y="5035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1400" y="12193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(buyer, product, 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(name, 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2520" y="5486400"/>
            <a:ext cx="122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&gt;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07360" y="62532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21000" y="50292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559440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5562720"/>
            <a:ext cx="1440" cy="56016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04240" y="3886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13360" y="5257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quenti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6120" y="99072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175248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89920" y="1066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ash-based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up. e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DC3-1717-419A-A110-502EE32EE2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lans Can Be Sub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153720" y="2209680"/>
            <a:ext cx="5549760" cy="155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urchase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.city=‘Seattl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746680" y="3838680"/>
            <a:ext cx="349200" cy="123840"/>
            <a:chOff x="5746680" y="3838680"/>
            <a:chExt cx="349200" cy="123840"/>
          </a:xfrm>
        </p:grpSpPr>
        <p:sp>
          <p:nvSpPr>
            <p:cNvPr id="347" name=""/>
            <p:cNvSpPr/>
            <p:nvPr/>
          </p:nvSpPr>
          <p:spPr>
            <a:xfrm>
              <a:off x="5746680" y="383868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440" y="383868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46680" y="383868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46680" y="383868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151600" y="4349880"/>
            <a:ext cx="66960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7440" y="4349880"/>
            <a:ext cx="866880" cy="151740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46120" y="5715000"/>
            <a:ext cx="1384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75160" y="5743440"/>
            <a:ext cx="14727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ty-inde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404352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3920" y="5137200"/>
            <a:ext cx="158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59240" y="5121360"/>
            <a:ext cx="184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1680" y="4724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5257800"/>
            <a:ext cx="180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86200" y="35812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rimary-index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94040" y="4952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quenti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-279720" y="598500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id the join come fr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C80-7931-4E2D-B5B2-0A66413E7A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7C6-C55D-40D3-A8CF-8AA119E5DC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E9F-2804-4762-A874-4E3E231C41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FFD-0E0B-4D57-B9EC-ED7E2B24E6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267-F50E-4131-8B7B-6CFDC40FDC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8200" y="3505320"/>
            <a:ext cx="377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14600" y="533520"/>
          <a:ext cx="6019920" cy="218412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590920" y="4343400"/>
          <a:ext cx="6019560" cy="1638360"/>
        </p:xfrm>
        <a:graphic>
          <a:graphicData uri="http://schemas.openxmlformats.org/drawingml/2006/table">
            <a:tbl>
              <a:tblPr/>
              <a:tblGrid>
                <a:gridCol w="2006280"/>
                <a:gridCol w="2006640"/>
                <a:gridCol w="2006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3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2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8C7-248B-462E-855A-36D6B0476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84C-E124-4694-B8F5-2EB0F4FA13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36:52Z</dcterms:created>
  <dc:creator>Dan Suciu</dc:creator>
  <dc:description/>
  <dc:language>en-US</dc:language>
  <cp:lastModifiedBy>Dan Suciu</cp:lastModifiedBy>
  <dcterms:modified xsi:type="dcterms:W3CDTF">2007-05-15T23:25:26Z</dcterms:modified>
  <cp:revision>52</cp:revision>
  <dc:subject/>
  <dc:title>Relational Algebra</dc:title>
</cp:coreProperties>
</file>