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355C-C62A-4D5A-826C-8896F5968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EC43-7FD7-4308-9D3B-503C33FE0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703D-77BD-4BF2-987C-4705A2904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13FC-9CD1-4DB1-A1DE-D7800D90B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F8FE-7502-4913-B72E-AE69BD352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D658-8E96-4616-9B00-D8F58E6B1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D944-ED5D-4F82-96DB-81A131482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F52-11F2-4D34-AC75-0ED579F7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DB6-4034-48B8-A6D8-D8867F06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E32-F3C1-4A17-97B8-AC055C0F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D2E-1BB9-491D-9209-BABBB54D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513-3759-4DB5-9994-753C4825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75E-28F9-420B-8BE0-41E2286B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A71-81A0-4655-8E3A-89F5FABE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5EF-322F-4204-9E75-3464D810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1BC-A013-49D6-8B2C-EC9A3F2B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733-396A-4DA4-A25F-7CEC46DC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A394-8BF7-41FC-ADAD-3BF7F93F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F8D-E9F4-4979-AAAA-680682E4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8674-4D03-4E3D-B798-7043C9641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orage and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May 14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53D-D354-4E8A-992B-77D8771506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Records in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s have fixed size (typically 4k – 8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3429000"/>
            <a:ext cx="7467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3429000"/>
            <a:ext cx="213336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48769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52578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56386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1532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257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8580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153280" y="4343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3960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256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5360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286056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784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D0C-8DD6-4B96-ADFE-1E3E87E76D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larg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ed by modern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mages, s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: attempt to cluster block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B = character large obj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only restricted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5E7-DD53-4ACB-9A7E-303C585BD6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orted (he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(e.g. by p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53D-50B0-4BEF-AB86-460863357F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Inse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unsorted: add it to the end (eas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space in the right blo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: we are lucky, store it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space in a neighboring blo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1-2 blocks to the left/right, shift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ything else fails, creat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flow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3B9-736C-4F77-A18C-DDC536FBDE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flow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while the file starts being dominated by overflow blocks: time to reorgan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6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809880"/>
            <a:ext cx="16761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CE7-30C3-4A19-AABF-BCA52ECD91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in block, shift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able to eliminate an overflow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never really eliminate the record, because others ma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a tombstone instead (a NULL rec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9280" y="6095160"/>
            <a:ext cx="5870880" cy="509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record in an RDBM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C67-C096-4917-9936-FA335806ED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w record is shorter than previous, eas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is longer, need to shift records, create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349-56C7-4332-8918-AA3F46A037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pointer to a record consist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block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ffset in the block’s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use pointers in Indexes and in Log e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12200" y="6019200"/>
            <a:ext cx="4511160" cy="509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eview what a pointer in C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695A-7F3C-4E46-B1F9-023B139F36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de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file speeds up selections on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earch key fiel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et of the fields of a relation can be the search key for an index on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earch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ame a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imal set of fields that uniquely identify a record in a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contains a collection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ata ent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upports efficient retrieval of all data entries with a given key valu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ed = records close in the index are close in the data; same as saying that the table is ordered by the index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lustered = records close in the index may be far in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/second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retation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= is over attributes part of the pri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ary = cannot reord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retation 2: means the same as clustered/unclus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 or Hash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692-6628-4B79-B960-022A8DEB09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Ex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reschedule to Tuesday, June 5th, in the morning (exact time TB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ve serious conflicts, send me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464-9FBD-4AB7-AA99-49B62A991E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 on the index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pe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4792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44792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396252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96252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96252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96252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 flipV="1">
            <a:off x="213372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42670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50292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5181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33720" y="54864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33720" y="571500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E63-21A7-4B6D-8741-512DD1DE12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pe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828800" y="35053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828800" y="47242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343400" y="3429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343400" y="4191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343400" y="50292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4343400" y="5867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514600" y="3657600"/>
            <a:ext cx="1828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388620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514600" y="35812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4343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8769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514600" y="388584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514600" y="434304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14600" y="5562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206-3F73-4B14-9257-D67D6C1FEB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vs. 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576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424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41280" y="3670200"/>
            <a:ext cx="40032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7156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00400" y="36702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2744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5592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46080" y="258912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46080" y="161460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54360" y="161460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1000" y="152892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7520" y="1566720"/>
            <a:ext cx="9828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848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540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5400" y="2986200"/>
            <a:ext cx="28080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0024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7476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4132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41320" y="2986200"/>
            <a:ext cx="23364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9864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5392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53920" y="27748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06600" y="257004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88960" y="27734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33680" y="284796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0184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01840" y="29862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5916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7976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09720" y="2774880"/>
            <a:ext cx="5904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1600" y="3170160"/>
            <a:ext cx="37476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1600" y="3608280"/>
            <a:ext cx="6048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3080" y="3170160"/>
            <a:ext cx="28080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3080" y="360504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960" y="3170160"/>
            <a:ext cx="18900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960" y="360360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6040" y="3170160"/>
            <a:ext cx="4752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6560" y="360360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22280" y="3170160"/>
            <a:ext cx="180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03200" y="3605040"/>
            <a:ext cx="38160" cy="7488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66920" y="3170160"/>
            <a:ext cx="4896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89240" y="360360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14440" y="3170160"/>
            <a:ext cx="9360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360216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60520" y="3170160"/>
            <a:ext cx="14112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62040" y="360216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79760" y="317016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81160" y="3611520"/>
            <a:ext cx="6696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73360" y="3170160"/>
            <a:ext cx="51444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19400" y="3613320"/>
            <a:ext cx="6840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4480" y="3170160"/>
            <a:ext cx="55908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5160" y="361476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52720" y="317016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90920" y="361620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42440" y="2843280"/>
            <a:ext cx="147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62360" y="1612800"/>
            <a:ext cx="169920" cy="148140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62360" y="3689280"/>
            <a:ext cx="169920" cy="557280"/>
          </a:xfrm>
          <a:custGeom>
            <a:avLst/>
            <a:gdLst/>
            <a:ahLst/>
            <a:rect l="l" t="t" r="r" b="b"/>
            <a:pathLst>
              <a:path w="107" h="351">
                <a:moveTo>
                  <a:pt x="0" y="0"/>
                </a:moveTo>
                <a:lnTo>
                  <a:pt x="106" y="0"/>
                </a:lnTo>
                <a:lnTo>
                  <a:pt x="106" y="350"/>
                </a:lnTo>
                <a:lnTo>
                  <a:pt x="0" y="3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68160" y="3124080"/>
            <a:ext cx="122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Index File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44480" y="3367080"/>
            <a:ext cx="107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ata file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98040" y="4071960"/>
            <a:ext cx="163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42000" y="369108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97760" y="3691080"/>
            <a:ext cx="34416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56400" y="3691080"/>
            <a:ext cx="33804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12160" y="3691080"/>
            <a:ext cx="33948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66120" y="3691080"/>
            <a:ext cx="34596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215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4787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97560" y="2522520"/>
            <a:ext cx="1490760" cy="144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97560" y="1476360"/>
            <a:ext cx="785880" cy="104760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82000" y="1476360"/>
            <a:ext cx="712800" cy="104760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91480" y="1384200"/>
            <a:ext cx="29196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01000" y="1425600"/>
            <a:ext cx="8244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39000" y="2803680"/>
            <a:ext cx="40464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42200" y="2930400"/>
            <a:ext cx="6336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42200" y="2954160"/>
            <a:ext cx="241200" cy="180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1824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8196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833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833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23040" y="29304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21600" y="2506680"/>
            <a:ext cx="15840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21600" y="272736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81760" y="2506680"/>
            <a:ext cx="180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7360" y="2725560"/>
            <a:ext cx="30240" cy="7956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76772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6756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5675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7025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810560" y="25066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920000" y="272736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78600" y="314964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5560" y="3568680"/>
            <a:ext cx="4464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94200" y="314964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94200" y="362412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97760" y="314964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99240" y="363384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97600" y="314964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97600" y="357336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21600" y="314964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61160" y="3605040"/>
            <a:ext cx="68400" cy="4320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78600" y="314964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78600" y="358920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99320" y="314964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507520" y="360828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99320" y="3149640"/>
            <a:ext cx="16488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99320" y="361620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24600" y="314964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89920" y="3575160"/>
            <a:ext cx="5688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26360" y="314964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6360" y="3633840"/>
            <a:ext cx="5868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29720" y="314964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01160" y="36226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10560" y="3149640"/>
            <a:ext cx="24120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10560" y="3571920"/>
            <a:ext cx="4752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89920" y="3149640"/>
            <a:ext cx="144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72280" y="3619440"/>
            <a:ext cx="3672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240" y="3365640"/>
            <a:ext cx="883908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783680" y="247176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22120" y="4148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53120" y="4605480"/>
            <a:ext cx="189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3360" y="4681440"/>
            <a:ext cx="23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20400" y="205740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06800" y="198108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  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1 node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+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leaves into a linked list (range queries are eas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640-77D7-4B61-B82A-D860349A35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d =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&gt;= d and &lt;= 2d keys (except 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af has &gt;=d and &lt;= 2d ke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3200400" y="307980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"/>
          <p:cNvSpPr/>
          <p:nvPr/>
        </p:nvSpPr>
        <p:spPr>
          <a:xfrm flipH="1">
            <a:off x="2666520" y="3613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3613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3613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36133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51760" y="40194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k &lt;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9640" y="417204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30&lt;=k&lt;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92800" y="4146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120&lt;=k&lt;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47440" y="41464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240&lt;=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3276720" y="507996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 flipH="1">
            <a:off x="2742840" y="56134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962520" y="5613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5613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613480"/>
            <a:ext cx="12956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67720" y="602352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630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74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384960" y="54482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le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0CE-C6C8-4814-AD46-4F3B67E980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00000" y="16416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62720" y="1865160"/>
            <a:ext cx="1133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Find the key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55400" y="2581200"/>
            <a:ext cx="68184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88920" y="39574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2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79640" y="53290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3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0EA-EE2B-4E46-9CD0-E0ACE10C4B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size = 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size = 8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ize = 4096 b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x 4  + (2d+1) x 8  &lt;=  40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50C-4ADA-4677-BEE2-A2AFD8F426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ct key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at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 down, to the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qu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quential tra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24600" y="2286000"/>
            <a:ext cx="212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101280" y="4191120"/>
            <a:ext cx="2296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&lt;=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age &lt;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B49-1F4B-403C-A3E0-899E072C73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order: 100.  Typical fill-factor: 6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fanout = 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apa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4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12,900,700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3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  2,352,637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ften hold top levels in buffer po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1 =           1 page  =     8 K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=      133 pages =     1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3 = 17,689 pages = 133 MByte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(K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leaf where K belongs,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overflow (2d keys or less), 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verflow (2d+1 keys), split node, insert in pa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eaf, keep K3 too in righ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oot splits, new root has 1 ke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8600" y="4572000"/>
          <a:ext cx="2895480" cy="685800"/>
        </p:xfrm>
        <a:graphic>
          <a:graphicData uri="http://schemas.openxmlformats.org/drawingml/2006/table">
            <a:tbl>
              <a:tblPr/>
              <a:tblGrid>
                <a:gridCol w="399960"/>
                <a:gridCol w="216000"/>
                <a:gridCol w="241200"/>
                <a:gridCol w="261360"/>
                <a:gridCol w="313200"/>
                <a:gridCol w="261360"/>
                <a:gridCol w="258840"/>
                <a:gridCol w="313200"/>
                <a:gridCol w="192240"/>
                <a:gridCol w="43812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411480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655308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"/>
          <p:cNvSpPr/>
          <p:nvPr/>
        </p:nvSpPr>
        <p:spPr>
          <a:xfrm>
            <a:off x="5408280" y="365760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ent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4191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352680" y="4952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28600" y="4038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75240" y="3672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114440" y="41911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577-4CC9-4B61-9BD3-866FAFA01A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data elements (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structures (13.1, 13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s (1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B29-FBAE-4A7B-B382-0C61D1F01F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98920" y="16416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K=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3FF-3B06-4B12-9D39-7EBFB55B87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7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45560" y="17175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2FE-A9F8-4905-BEA9-7F119E6612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1040" y="15652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nsert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F24-3C98-4A82-92A1-D37C654E58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9240" y="15652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698-4F2E-4558-976C-DADB7E3B22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69960" y="156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 have to spl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2CF-E8B9-4FAD-A64B-AE4D1C3CF8C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1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8880" y="1565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C34C-7381-445B-8103-F39A179D74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4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5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6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70680" y="15652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9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516-3A7B-4540-B9DC-036637EB04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5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6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8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69960" y="1565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9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0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52280" y="2133720"/>
            <a:ext cx="2210040" cy="761760"/>
          </a:xfrm>
          <a:prstGeom prst="wedgeEllipseCallout">
            <a:avLst>
              <a:gd name="adj1" fmla="val 45689"/>
              <a:gd name="adj2" fmla="val 79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change to 40, or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95CD-F40A-409F-B37D-6EB18CD3D61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7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8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9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0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140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2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739-8D7B-4397-95E0-FA5C41A4FC3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8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9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0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1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69960" y="15652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re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0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1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371600" y="3886200"/>
            <a:ext cx="1062000" cy="685800"/>
          </a:xfrm>
          <a:custGeom>
            <a:avLst/>
            <a:gdLst>
              <a:gd name="textAreaLeft" fmla="*/ 194400 w 1062000"/>
              <a:gd name="textAreaRight" fmla="*/ 730440 w 1062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06" hR="21600" stAng="10800000" swAng="5400000"/>
                <a:lnTo>
                  <a:pt x="10900" y="0"/>
                </a:lnTo>
                <a:arcTo wR="7906" hR="21600" stAng="-5400000" swAng="2321647"/>
                <a:lnTo>
                  <a:pt x="20885" y="12623"/>
                </a:lnTo>
                <a:lnTo>
                  <a:pt x="17308" y="21600"/>
                </a:lnTo>
                <a:lnTo>
                  <a:pt x="12301" y="12623"/>
                </a:lnTo>
                <a:lnTo>
                  <a:pt x="15096" y="12623"/>
                </a:lnTo>
                <a:arcTo wR="7906" hR="21600" stAng="-3078353" swAng="-2079404"/>
                <a:lnTo>
                  <a:pt x="9403" y="391"/>
                </a:lnTo>
                <a:arcTo wR="7906" hR="21600" stAng="-5642243" swAng="-5157757"/>
                <a:close/>
              </a:path>
              <a:path fill="darkenLess" w="21600" h="21600">
                <a:moveTo>
                  <a:pt x="0" y="21600"/>
                </a:moveTo>
                <a:arcTo wR="7906" hR="21600" stAng="10800000" swAng="5400000"/>
                <a:lnTo>
                  <a:pt x="7906" y="0"/>
                </a:lnTo>
                <a:arcTo wR="7906" hR="21600" stAng="-5400000" swAng="242243"/>
                <a:lnTo>
                  <a:pt x="9403" y="391"/>
                </a:lnTo>
                <a:arcTo wR="7906" hR="21600" stAng="-5642243" swAng="-5157757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007C-A272-426A-B13E-C3D72616C12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s and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isk = a sequence of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le = a subsequence of blocks, usually contig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tore tables/records/indexes in files/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7F9-FC5D-4EB0-B3D9-14BC162C9B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8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9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0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1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7140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1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21D-7990-4221-96E8-2A231CF3784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7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8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9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0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69600" y="156528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733920" y="51055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7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8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28800" y="4267080"/>
            <a:ext cx="3352680" cy="1295640"/>
          </a:xfrm>
          <a:custGeom>
            <a:avLst/>
            <a:gdLst/>
            <a:ahLst/>
            <a:rect l="l" t="t" r="r" b="b"/>
            <a:pathLst>
              <a:path w="2112" h="816">
                <a:moveTo>
                  <a:pt x="17" y="114"/>
                </a:moveTo>
                <a:cubicBezTo>
                  <a:pt x="39" y="106"/>
                  <a:pt x="28" y="108"/>
                  <a:pt x="50" y="108"/>
                </a:cubicBezTo>
                <a:lnTo>
                  <a:pt x="720" y="0"/>
                </a:lnTo>
                <a:lnTo>
                  <a:pt x="1680" y="0"/>
                </a:lnTo>
                <a:lnTo>
                  <a:pt x="2112" y="144"/>
                </a:lnTo>
                <a:lnTo>
                  <a:pt x="2112" y="720"/>
                </a:lnTo>
                <a:lnTo>
                  <a:pt x="1728" y="816"/>
                </a:lnTo>
                <a:lnTo>
                  <a:pt x="624" y="768"/>
                </a:lnTo>
                <a:lnTo>
                  <a:pt x="48" y="720"/>
                </a:lnTo>
                <a:lnTo>
                  <a:pt x="0" y="384"/>
                </a:lnTo>
                <a:lnTo>
                  <a:pt x="17" y="1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B6C-8755-49B1-878E-A789A2586AC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5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6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7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8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590920" y="36576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352680" y="5105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69960" y="156528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666880" y="51055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8B7-285C-4B96-8258-E59DCE11899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n B+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index structure on most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effective at answering ‘point’ queri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productName = ‘gizmo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for range queri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50 &lt; price AND price &lt;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effective for multiran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50 &lt; price &lt; 100  AND 2 &lt; quant &lt;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D957-49F0-4180-9650-26A3CB1B779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base el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uple is represented as a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able is a sequence of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6320" y="2514600"/>
            <a:ext cx="7858800" cy="23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 INT PRIMARY 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2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VARCHAR(20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r CHAR(10) REFERENCES Company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A6B-CB9E-485B-983E-B23B420D89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attributes inside the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the records inside the blo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FA5-3006-41F4-B8B6-8E3EA390E7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Formats:  Fixed 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47242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about field types same for all records in a file; stored i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atalo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’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requires scan of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te the importance of schema inform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66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 flipV="1">
            <a:off x="18284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50720" y="3863880"/>
            <a:ext cx="254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Base address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043000"/>
            <a:ext cx="73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360" y="2043000"/>
            <a:ext cx="91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24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52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45716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19400" y="3862440"/>
            <a:ext cx="289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Address = B+L1+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F7B-E9AA-4F29-B68B-167AA249A9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H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86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1430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44792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04200" y="13366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32800" y="17938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31720" y="354636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03360" y="4308480"/>
            <a:ext cx="57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he header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may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while new+old may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s from different relations may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6880" y="32004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2043000"/>
            <a:ext cx="73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360" y="2043000"/>
            <a:ext cx="91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24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52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F41-5A77-48FD-B1A1-5EF733FBC5F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 Length Rec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115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9144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43000" y="2971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88920" y="13716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head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920" y="3733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2040" y="4800600"/>
            <a:ext cx="587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the fixed fields first:  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variable length fields: F2, F3, 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 values take 2 byt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they take 0 bytes (when at the 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61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916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289548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8954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9" idx="3"/>
            <a:endCxn id="117" idx="3"/>
          </p:cNvCxnSpPr>
          <p:nvPr/>
        </p:nvCxnSpPr>
        <p:spPr>
          <a:xfrm flipH="1" flipV="1" rot="5400000">
            <a:off x="3969000" y="612360"/>
            <a:ext cx="65520" cy="4631040"/>
          </a:xfrm>
          <a:prstGeom prst="bentConnector4">
            <a:avLst>
              <a:gd name="adj1" fmla="val -830939"/>
              <a:gd name="adj2" fmla="val 1003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endCxn id="116" idx="3"/>
          </p:cNvCxnSpPr>
          <p:nvPr/>
        </p:nvCxnSpPr>
        <p:spPr>
          <a:xfrm flipV="1">
            <a:off x="1424160" y="2895120"/>
            <a:ext cx="3142080" cy="65520"/>
          </a:xfrm>
          <a:prstGeom prst="bentConnector5">
            <a:avLst>
              <a:gd name="adj1" fmla="val 550"/>
              <a:gd name="adj2" fmla="val -1517679"/>
              <a:gd name="adj3" fmla="val 995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057400" y="2043000"/>
            <a:ext cx="73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360" y="2043000"/>
            <a:ext cx="91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24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52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BBC-D0D6-45B5-BB9A-DC70A3FFB78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7-05-14T01:32:42Z</dcterms:modified>
  <cp:revision>313</cp:revision>
  <dc:subject/>
  <dc:title>Lecture 09:</dc:title>
</cp:coreProperties>
</file>