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401-2EAA-49B9-86E4-1F6B8212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53E-7C4C-4C61-84F4-CD336AC6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879-3E77-46F4-A11A-CDE7F53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100-C744-49A7-BD73-C3FE7FCB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9C1-E05F-43F0-93AB-B2BCC2DB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D6A-04B4-4EBC-92FB-1AB405BA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C7D-1182-4272-8258-DE1193D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191-F018-41E5-90BC-83EAA8E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054-556D-47C1-835B-3AF3B932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7DA-013D-44EB-A935-55AE4E9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4B3-B746-46B9-AB71-C9D73DF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036-35F1-4D87-8255-E0B7BE1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B92-0DC6-4E06-8C0E-BB5AC92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22B-F8BD-4E4A-AF7C-F55325D75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7 and 1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-Wednesda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7 - 9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DBE-88E0-462F-A280-3E305311D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90920" y="2057400"/>
          <a:ext cx="4038480" cy="4498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FE7-77B1-4140-9BEC-1AD8B1AE8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AA6-06F4-43A0-8A14-A2EC91176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057400" y="1676520"/>
          <a:ext cx="5638680" cy="449892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23920" y="61722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066-54B0-4A6D-ABF8-37E025036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62320" y="1825560"/>
          <a:ext cx="4724280" cy="4498920"/>
        </p:xfrm>
        <a:graphic>
          <a:graphicData uri="http://schemas.openxmlformats.org/drawingml/2006/table">
            <a:tbl>
              <a:tblPr/>
              <a:tblGrid>
                <a:gridCol w="2362320"/>
                <a:gridCol w="23619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A5A-BBF5-49CC-83E5-F00976853C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5B5-95FA-4DAA-82C6-F7F3D178E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2160" y="2763720"/>
            <a:ext cx="6134400" cy="132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C6D-0A6B-42BF-8400-C19C940B11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2000" y="286704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0480" y="2773440"/>
            <a:ext cx="60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ctions by same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2000" y="4152960"/>
            <a:ext cx="22460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4440" y="4068720"/>
            <a:ext cx="622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42000" y="5295960"/>
            <a:ext cx="2087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800" y="5288040"/>
            <a:ext cx="616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598176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AB1-0954-4673-8C13-6866B5B6F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920" y="38671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080" y="59817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6080" y="46101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3CA-E45C-4A8C-A0E3-65F87AE4F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01200" y="613404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25240" y="491508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0600" y="3563640"/>
            <a:ext cx="1148400" cy="1172520"/>
          </a:xfrm>
          <a:prstGeom prst="wedgeEllipseCallout">
            <a:avLst>
              <a:gd name="adj1" fmla="val -161750"/>
              <a:gd name="adj2" fmla="val 72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63B-6757-4CDA-AEF6-470BDFEFF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0EA-914B-4CFE-AD98-5FE58620F2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757-FCBB-45DB-9DBA-F0AD608C2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080" y="2708280"/>
            <a:ext cx="8774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6"/>
            <a:endCxn id="11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6"/>
            <a:endCxn id="11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89684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070-B16D-4B11-8546-8575561FE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080" y="270504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6"/>
            <a:endCxn id="12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6"/>
            <a:endCxn id="12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1"/>
            <a:endCxn id="120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6B4-F3D6-459E-B3E8-0C565AA748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F0C-EEE9-42FF-BBF0-3E27561523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42D-EA25-4CDA-8D1E-0C81995D3B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708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4F8-7B37-42D4-AB97-434BF7821C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447920"/>
          <a:ext cx="8458200" cy="484488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22720" y="62485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B05-F4A4-44F0-B1DD-EF65D1D2F2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1523880"/>
          <a:ext cx="7696080" cy="4498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64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CCD-5B6F-4380-A35C-9BA49AB326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078-B7BD-4D68-862A-174F51B3BA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8153640" cy="484488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988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351-A144-4ACF-B048-5A7612EC11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E56-E0F8-4367-9D35-2A89CDCDB6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824-BBBA-4C1F-8343-DAAFA1A7B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45C-0368-472F-9A56-CC3DA71AAD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552-AAFC-4653-BA1F-BB7F4DF791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0E6-FEAE-414D-BC14-A6279C0BE3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C35-C641-45C3-92BE-A60ABF62C4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F14-3C1F-4803-A787-33C17308D7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115-4FB9-4F52-88EF-607A25A13E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B74-CFFE-4329-8E99-84B20ED757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98F-628C-431F-BEE1-06A8217F50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A1A-465B-48D4-A62E-C20DA48A5D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29D-61A5-4B44-B74C-BECF640A61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67D-9C53-4091-969B-593A3D2EE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5CC-04BA-446D-BEBE-17A8824836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0CD-72D5-4286-929C-3B283AA9D9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8600" y="4191120"/>
            <a:ext cx="8742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873-9338-4548-8802-D98A06985E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320" y="4191120"/>
            <a:ext cx="87915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26C-65C5-40F7-8EC6-F5937B19B0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8B7-9BD5-4BC1-BC84-CF0570AE6A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D83-234E-46E6-8D33-FCEEA0583D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CD1-52FD-4B44-B6C5-C45480D935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CFC-4344-434A-9FEA-77CFCE678A9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8C1-51D9-4140-810A-794D03811A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458-D000-4C3F-B262-BC43D2E4F2B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308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FCB-3D08-4D2D-BCC0-BDBD2BAD7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4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5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19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74C-4F2A-4DB6-8BCE-9979D13F562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7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8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33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4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E37-9EE8-4D5D-903C-66B718D39D8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0EA-CF84-45E8-8474-5C354C36A1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28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DC0-DD07-454D-B9EB-73C48BFB8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56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EAC-B218-4831-A697-E77CA3D5B9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BAE-6EDF-4C4F-A1E4-A725975A53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133720" y="2057400"/>
          <a:ext cx="4647960" cy="362268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CC0-92BF-4DAA-8FBC-DCBCC6B7F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5-06T18:51:06Z</dcterms:modified>
  <cp:revision>372</cp:revision>
  <dc:subject/>
  <dc:title>Lecture 09:</dc:title>
</cp:coreProperties>
</file>