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7658-9995-4E3F-BED2-AA28C1D8C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1259-392F-40E3-9D45-B6921AB38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CD8C-2243-43B1-8578-7CC1BE0D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5B6-F14A-4EAA-B745-C74AECD9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21F-C9DF-40AA-B505-2595BE71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4D6-8333-4174-9C25-F200D3F6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C63-667D-4562-AABE-355E2028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802-3CB1-48AC-ADE4-47F63CED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BC7-8550-476F-A739-87138024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FFC-25FE-4D20-B515-BAB4CD29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6F9-FB41-45BC-BEFA-B83D22C9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1C9-D9BB-4237-B295-60F2C558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183-59AB-48C2-AC63-BCB4F91A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935-4B6F-490F-A9D2-1292C68F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993A-F617-49AC-8326-ECFE3E0DB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April 27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DB8-C24C-4813-9435-1BE6B2FC51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9080" y="2286000"/>
            <a:ext cx="36144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+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-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adge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10040" y="4029120"/>
            <a:ext cx="1071000" cy="459720"/>
          </a:xfrm>
          <a:prstGeom prst="wedgeRectCallout">
            <a:avLst>
              <a:gd name="adj1" fmla="val -431615"/>
              <a:gd name="adj2" fmla="val 35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B89-8CEA-417C-AB47-8CD41E65B5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rans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one or more operations, which reflects a single real-world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real world, this happened completely or not at 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 money between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 a group of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er for a class (either waitlist or alloc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grouped in transactions, all problems in previous slides dis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A7C-9A17-4786-ABA2-6FAAB600B9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ad-hoc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each statement = on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QL statement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   or     ROLLBACK (=AB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3360" y="3508200"/>
            <a:ext cx="2200320" cy="1191240"/>
          </a:xfrm>
          <a:prstGeom prst="wedgeRectCallout">
            <a:avLst>
              <a:gd name="adj1" fmla="val -123824"/>
              <a:gd name="adj2" fmla="val 243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omitte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QL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t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02F-B056-4DDB-BB58-08F6846C62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ed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11480" y="1981080"/>
            <a:ext cx="38797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5640" y="594252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works like a ch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C11-2D7A-4048-A9C3-64C1DB125D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Proper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shows either all the effects of txn, or none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n moves from a state where integrity holds, to another where integrity 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txns is the same as txns running one after another (ie looks like batch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 txn has committed, its effects remain in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2F0-FCF6-4E45-A28E-0952012B8A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outcomes for a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ll the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ransaction’s activities are all or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273-8649-4170-B5B0-1CAECD0A75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 of the tables is restricted by integr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number is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amount can’t be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b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may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nsistency is achie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makes sure a txn takes a consistent state to a consist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makes sure that the tnx is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B077-D027-48DE-840D-A95998F7D4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executes concurrently with other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on: the effect is as if each transaction executes in isolation of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ADF-B6D3-410F-9717-72148E6BA2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Du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a transaction must continue to exists after the transaction, or the whole program has termin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: write data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C27-264C-45F0-A9C9-8746056267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pp gets to a place where it can’t complete the transaction successfully, it can execute RO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s the system to “abort”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returns to the state without any of the previous changes made by activity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1DA-042E-477D-83A6-8135541C86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64B-282D-4CDB-8AA2-62D6434E47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hanges their mind (“ctl-C”/can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in program, when app program finds a prob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when qty on hand &lt; qty being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-initiated ab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due to time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1EB-5AF1-4840-8972-7C43E702A2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-ONLY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2520" y="1600200"/>
            <a:ext cx="502704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TRANSACTION READ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4061880"/>
            <a:ext cx="1904760" cy="1172520"/>
          </a:xfrm>
          <a:prstGeom prst="wedgeEllipseCallout">
            <a:avLst>
              <a:gd name="adj1" fmla="val -89152"/>
              <a:gd name="adj2" fmla="val -89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it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2D8-30B1-4644-BA47-8C581A8431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y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UN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ted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able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izable transactions (defaul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971-21D2-47D6-9F73-881538555D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3000" y="1600200"/>
            <a:ext cx="4956840" cy="47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llocateSeat( %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UN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== 1)  /* occupied */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ccupied =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960" y="17524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1240" y="350532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724280"/>
            <a:ext cx="206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if on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s Sea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469-C0F9-4C75-A051-D52207E8D5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743200" y="914400"/>
            <a:ext cx="4967640" cy="53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TransferMoney( %amount, %acc1, %acc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bal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&lt; %amount)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+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-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7760" y="2192400"/>
            <a:ext cx="20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rty rea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 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1320" y="390204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upd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A44-FCFC-49C9-B44C-767F6F0815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ad Commit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6680" y="2057400"/>
            <a:ext cx="46278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640" y="198108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UN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2600" y="3325680"/>
            <a:ext cx="219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ad twic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et diffe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552-1DC1-4BDA-96E4-381E1EAA02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peatable Re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5600" y="2057400"/>
            <a:ext cx="48456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55555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777777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a wrong x+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560" y="198108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160" y="3429000"/>
            <a:ext cx="287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ee incompat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txn trans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rom acc. 55555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A1E-A4D3-4E05-A442-AEEB9F25D9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Serializab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6840" y="2590920"/>
            <a:ext cx="431856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760" y="26668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1440" y="42670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8040" y="5715000"/>
            <a:ext cx="54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TUDY IN DETAILS IN A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476-522A-4D14-9113-FDF52A41E5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132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135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146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150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780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6660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170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731040" y="5670720"/>
            <a:ext cx="1396800" cy="798480"/>
            <a:chOff x="3731040" y="5670720"/>
            <a:chExt cx="1396800" cy="798480"/>
          </a:xfrm>
        </p:grpSpPr>
        <p:sp>
          <p:nvSpPr>
            <p:cNvPr id="173" name=""/>
            <p:cNvSpPr/>
            <p:nvPr/>
          </p:nvSpPr>
          <p:spPr>
            <a:xfrm>
              <a:off x="373104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177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179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075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560" y="4648320"/>
            <a:ext cx="339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f read or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k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in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: 4k or 8k or 1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417-6CBD-4091-947C-5F04CC28BB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 = typically 40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s read/write one block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05E-6CDB-462D-A90D-6075E2D383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component of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for most applications; arguably more so tha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ing awards to database research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les Bachman 19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ar Codd 1981 for inventing relational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m Gray 1998 for inventing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F3B-FD6A-46D5-91F2-480A929968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disks that work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: use parity to recover from disk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: read from several disks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configurations (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1 =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4 = n disks + 1 parity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5 = n+1 disks, assign parity blocks round r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6 = “Hamming cod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198-D0FA-4522-A779-191DF06AAC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197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209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210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22920" y="379080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87560" y="42894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56600" y="2548080"/>
            <a:ext cx="141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88640" y="3241800"/>
            <a:ext cx="155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27280" y="1038240"/>
            <a:ext cx="603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58080" y="179856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50440" y="4343400"/>
            <a:ext cx="3476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81000" y="1201320"/>
            <a:ext cx="1627200" cy="1172520"/>
          </a:xfrm>
          <a:prstGeom prst="wedgeEllipseCallout">
            <a:avLst>
              <a:gd name="adj1" fmla="val -131662"/>
              <a:gd name="adj2" fmla="val -46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18640" y="3182400"/>
            <a:ext cx="1960560" cy="1172520"/>
          </a:xfrm>
          <a:prstGeom prst="wedgeEllipseCallout">
            <a:avLst>
              <a:gd name="adj1" fmla="val -110194"/>
              <a:gd name="adj2" fmla="val 29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AA8-7295-424D-AF80-47410982A7A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4560" y="1828800"/>
            <a:ext cx="8390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work well in OS, but not always in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830-B5D9-468A-8EAB-5190F41C7C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st Recently Used (LR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pages by the time of last acc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replace the least recently acc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3400" y="3429000"/>
            <a:ext cx="7043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5, P2, P8, P4, P1, P9, P6, P3, P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4267080"/>
            <a:ext cx="99072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51480" y="4479120"/>
            <a:ext cx="2049480" cy="652680"/>
          </a:xfrm>
          <a:prstGeom prst="wedgeEllipseCallout">
            <a:avLst>
              <a:gd name="adj1" fmla="val -38620"/>
              <a:gd name="adj2" fmla="val -9382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080" y="5257800"/>
            <a:ext cx="7043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6, P5, P2, P8, P4, P1, P9, P3, P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3600" y="6172200"/>
            <a:ext cx="78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RU is expensive (why ?); the clock algorithm is good appr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48D-F8FF-4941-8D10-E40A3E128D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7240" y="160020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ason: need fine grained control for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or recovery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E63-9330-45F6-B2F4-673D06A2BB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action Management and the Buffer Mana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manager operates on the buffer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o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‘log-file write-ahead’, then careful policy about which pages to force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urrency contr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ocks at the page level, multiversion 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2560" y="6023160"/>
            <a:ext cx="604368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iscuss details during the next few l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66A-B581-4DA0-8806-18619090B7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Ne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4956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following examples, think of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meaning a proced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a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it ends successfu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a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ls b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it ab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0BB-171C-4CF1-B259-C174992735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urrency control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amous anoma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reads data written by T’ while T’ has not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 wrong: T’ write more data (which T has already read), or T’ ab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tasks T and T’ both modify the sam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and T’ both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state shows effects of only T, but not of 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task T sees some but not all changes made by 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398-9747-4876-82B8-B9E141BECC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5480" y="1905120"/>
            <a:ext cx="494964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transfer $100  from account 1 to account 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ccount1.balance &gt;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then Account1.balance = Account1.balance - 10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2.balance = Account2.balance +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5400" y="1981080"/>
            <a:ext cx="270432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Compute total amou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= Account1.balan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= Account2.balan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= X +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(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3760" y="586728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goe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71C-E9B9-4F33-88DA-A27378B52F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360" y="1905120"/>
            <a:ext cx="48852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transfer $100  from account 1 to account 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tentatively move money into account 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2.balance = Account2.balance +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ccount1.balance &gt;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then Account1.balance = Account1.balance -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/* oops: remove $100 from Account 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2.balance = Account2.balance -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2800" y="1981080"/>
            <a:ext cx="335520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ithdraw $100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ccount2.balance &gt;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n Account2.balance 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Account2.balance -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ENSE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7440" y="563868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goe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9800" y="5394960"/>
            <a:ext cx="1904400" cy="1170360"/>
          </a:xfrm>
          <a:prstGeom prst="wedgeEllipseCallout">
            <a:avLst>
              <a:gd name="adj1" fmla="val 11953"/>
              <a:gd name="adj2" fmla="val -946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need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done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LB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140-D8C2-4D0D-945B-F149D1C9B3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t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960" y="2895480"/>
            <a:ext cx="4426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07440" y="564228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different users attempt to apply a discou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t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15280" y="2895480"/>
            <a:ext cx="42742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988B-21B5-47D5-BE6B-CBD3DC89C9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78760" y="6018840"/>
            <a:ext cx="41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is a for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rty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9080" y="2286000"/>
            <a:ext cx="36144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+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-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adge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91440" y="2819520"/>
            <a:ext cx="31633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quantity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281-407B-455E-BA9F-B024A5C0D9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7-04-30T17:06:11Z</dcterms:modified>
  <cp:revision>429</cp:revision>
  <dc:subject/>
  <dc:title>Lecture 09:</dc:title>
</cp:coreProperties>
</file>