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69AD-D295-4F41-8280-3EE87B39E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9BF2-0B32-48FF-9435-6F4CF9CA6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we allow SELECT count(*) FROM Patients WHERE Patient.disease = %d,  but only when the count is &gt; 10.  Suppose that there are &gt; 10 patients with flue, and the user knows that.  Adopting an instance-independent definition, this query is invalid; but with an instance-dependent definition the query is va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703F-51C6-44F5-B439-EB22AA8D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6DB9-00DB-468F-A45D-2D579FEB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AD28-0F57-4304-B9BB-2230D810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70B6-39C8-4800-86AA-D7278681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8040-31EF-4CC0-99C2-534DD544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E60A-60DA-4DEF-9B0B-6AB57C0C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2F4B-838D-43CD-BEC0-77322BEF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9644-C881-4F1F-8551-CE777AA8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BA9D-AB7F-4C81-9872-9597E5E0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8C49-DA4D-4C0C-8E22-B683569E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0282-C68C-4627-9100-3040C3B1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F90E-8471-4AB7-A3C5-309807D2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52C7-DFDF-4FD7-B3FF-4412AE39D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 Review and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April 23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4271-51E7-4565-814F-FA3A8D87B8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251640" y="2498760"/>
            <a:ext cx="78616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T SELECT ON Customers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9920" y="3886200"/>
            <a:ext cx="72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SELECT, but not INSERT or DE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C00E-0100-44F1-BAD3-6CAD948CF2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183600" y="2544840"/>
            <a:ext cx="62157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SELECT ON Customer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GRANT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6440" y="3962520"/>
            <a:ext cx="614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say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SELECT ON Customers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up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upp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SELECT on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98B5-A560-4978-AD3D-89523ECB15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349200" y="2422440"/>
            <a:ext cx="87152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T UPDATE (price)  ON Product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5360" y="4114800"/>
            <a:ext cx="78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pdate, but only Product.price, but not 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6306-5483-47BE-A34E-6D32B69910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5960" y="4525920"/>
            <a:ext cx="8044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REFERENCES (cid)  ON Customer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1234800" y="1889280"/>
            <a:ext cx="112755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ame, address, balance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s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d, amount)            cid= foreig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5334120"/>
            <a:ext cx="52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INSERT tuples into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800" y="3276720"/>
            <a:ext cx="56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s INSERT/UPDATE rights to Or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HE CAN’T INSERT ! 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F513-B2AE-4806-AF0D-F584C6B0E6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 and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211400" y="4098240"/>
            <a:ext cx="7712640" cy="2584440"/>
            <a:chOff x="1211400" y="4098240"/>
            <a:chExt cx="7712640" cy="2584440"/>
          </a:xfrm>
        </p:grpSpPr>
        <p:sp>
          <p:nvSpPr>
            <p:cNvPr id="90" name=""/>
            <p:cNvSpPr/>
            <p:nvPr/>
          </p:nvSpPr>
          <p:spPr>
            <a:xfrm>
              <a:off x="1211400" y="5125680"/>
              <a:ext cx="731304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EATE VIEW PublicCustom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Name, 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Custom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RANT SELECT ON PublicCustomers TO Fr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25760" y="4098240"/>
              <a:ext cx="1898280" cy="566640"/>
            </a:xfrm>
            <a:prstGeom prst="wedgeEllipseCallout">
              <a:avLst>
                <a:gd name="adj1" fmla="val -83768"/>
                <a:gd name="adj2" fmla="val 17298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vi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say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2" name=""/>
          <p:cNvGraphicFramePr/>
          <p:nvPr/>
        </p:nvGraphicFramePr>
        <p:xfrm>
          <a:off x="2286000" y="2666880"/>
          <a:ext cx="4572000" cy="22780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329760" y="1105920"/>
            <a:ext cx="2040480" cy="566640"/>
          </a:xfrm>
          <a:prstGeom prst="wedgeEllipseCallout">
            <a:avLst>
              <a:gd name="adj1" fmla="val 41263"/>
              <a:gd name="adj2" fmla="val 14885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v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w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11480" y="2009880"/>
            <a:ext cx="19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52400" y="1436400"/>
            <a:ext cx="1884600" cy="1432800"/>
          </a:xfrm>
          <a:prstGeom prst="wedgeEllipseCallout">
            <a:avLst>
              <a:gd name="adj1" fmla="val -71939"/>
              <a:gd name="adj2" fmla="val 9350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5B1B-7910-4AB7-A7FD-9D329D985F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 and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4920" y="2362320"/>
          <a:ext cx="4572000" cy="22780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8" name=""/>
          <p:cNvGrpSpPr/>
          <p:nvPr/>
        </p:nvGrpSpPr>
        <p:grpSpPr>
          <a:xfrm>
            <a:off x="1487520" y="4175640"/>
            <a:ext cx="7861680" cy="2525400"/>
            <a:chOff x="1487520" y="4175640"/>
            <a:chExt cx="7861680" cy="2525400"/>
          </a:xfrm>
        </p:grpSpPr>
        <p:sp>
          <p:nvSpPr>
            <p:cNvPr id="99" name=""/>
            <p:cNvSpPr/>
            <p:nvPr/>
          </p:nvSpPr>
          <p:spPr>
            <a:xfrm>
              <a:off x="1487520" y="4778280"/>
              <a:ext cx="7861680" cy="192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EATE VIEW BadCreditCustom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Custom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Balance &lt;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RANT SELECT ON BadCreditCustomers TO Joh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110720" y="4175640"/>
              <a:ext cx="1726560" cy="522360"/>
            </a:xfrm>
            <a:prstGeom prst="wedgeEllipseCallout">
              <a:avLst>
                <a:gd name="adj1" fmla="val -20694"/>
                <a:gd name="adj2" fmla="val 16294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avi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sa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12320" y="516960"/>
            <a:ext cx="2040480" cy="566640"/>
          </a:xfrm>
          <a:prstGeom prst="wedgeEllipseCallout">
            <a:avLst>
              <a:gd name="adj1" fmla="val -5814"/>
              <a:gd name="adj2" fmla="val 18860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v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w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6720" y="1828800"/>
            <a:ext cx="19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12680" y="1505520"/>
            <a:ext cx="1930320" cy="1866240"/>
          </a:xfrm>
          <a:prstGeom prst="wedgeEllipseCallout">
            <a:avLst>
              <a:gd name="adj1" fmla="val -79254"/>
              <a:gd name="adj2" fmla="val 3152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only &lt;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37E5-320E-42E6-815D-32823F524F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 and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ustomer should see only her/his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36560" y="2514600"/>
            <a:ext cx="536220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VIEW Customer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*  FROM Custome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WHERE name = ‘Mary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SELEC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CustomerMary TO 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0120" y="5486400"/>
            <a:ext cx="403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sc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w-leve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control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8600" y="2598840"/>
          <a:ext cx="4572000" cy="22780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7282800" y="364680"/>
            <a:ext cx="1726560" cy="523080"/>
          </a:xfrm>
          <a:prstGeom prst="wedgeEllipseCallout">
            <a:avLst>
              <a:gd name="adj1" fmla="val -18731"/>
              <a:gd name="adj2" fmla="val 33376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v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22160" y="4343400"/>
            <a:ext cx="536220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VIEW Customer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*  FROM Custome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WHERE name = ‘Su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SELEC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CustomerSue TO 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29400" y="599760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 .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A795-399D-4055-9A94-B8BCF9AC4A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1909440" y="2666880"/>
            <a:ext cx="127994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KE   [GRANT OPTION FOR]   privileg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ON object FROM users  {  RESTRICT  |   CASCADE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7960" y="419112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 s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5480" y="4876920"/>
            <a:ext cx="8593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KE SELECT ON Customers 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SC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477000" y="5867280"/>
            <a:ext cx="93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es SELECT privileges on BadCredit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1784-D756-4F7F-93F8-A379B4E9B8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-44280" y="1905120"/>
            <a:ext cx="65815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:  GRANT [….]  TO Art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:  GRANT [….]  TO Bob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: GRANT [….]  TO Art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:  GRANT [….]  TO Cal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:  GRANT [….]  TO Bob 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:   REVOKE [….] FROM Art CASC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92920" y="1351440"/>
            <a:ext cx="4154400" cy="1692360"/>
          </a:xfrm>
          <a:prstGeom prst="wedgeEllipseCallout">
            <a:avLst>
              <a:gd name="adj1" fmla="val -47949"/>
              <a:gd name="adj2" fmla="val 492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privileg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objec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2960" y="49244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DCB7-B9CE-4534-986D-C45F451B3F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1981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3505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15080" y="3505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50292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15080" y="50292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2" idx="4"/>
            <a:endCxn id="123" idx="0"/>
          </p:cNvCxnSpPr>
          <p:nvPr/>
        </p:nvCxnSpPr>
        <p:spPr>
          <a:xfrm>
            <a:off x="2285640" y="2895480"/>
            <a:ext cx="10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3" idx="6"/>
            <a:endCxn id="124" idx="2"/>
          </p:cNvCxnSpPr>
          <p:nvPr/>
        </p:nvCxnSpPr>
        <p:spPr>
          <a:xfrm>
            <a:off x="2742840" y="3962160"/>
            <a:ext cx="21726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cxnSp>
        <p:nvCxnSpPr>
          <p:cNvPr id="129" name=""/>
          <p:cNvCxnSpPr>
            <a:stCxn id="123" idx="4"/>
            <a:endCxn id="125" idx="0"/>
          </p:cNvCxnSpPr>
          <p:nvPr/>
        </p:nvCxnSpPr>
        <p:spPr>
          <a:xfrm>
            <a:off x="2285640" y="44193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5" idx="6"/>
            <a:endCxn id="126" idx="2"/>
          </p:cNvCxnSpPr>
          <p:nvPr/>
        </p:nvCxnSpPr>
        <p:spPr>
          <a:xfrm>
            <a:off x="2742840" y="5486040"/>
            <a:ext cx="2172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4" idx="5"/>
            <a:endCxn id="126" idx="7"/>
          </p:cNvCxnSpPr>
          <p:nvPr/>
        </p:nvCxnSpPr>
        <p:spPr>
          <a:xfrm>
            <a:off x="5695560" y="4286160"/>
            <a:ext cx="108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1"/>
            <a:endCxn id="124" idx="3"/>
          </p:cNvCxnSpPr>
          <p:nvPr/>
        </p:nvCxnSpPr>
        <p:spPr>
          <a:xfrm flipV="1">
            <a:off x="5047920" y="4285800"/>
            <a:ext cx="108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1786680" y="2879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66600" y="3438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36600" y="4378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33280" y="4479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15480" y="441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44280" y="5486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2133720"/>
            <a:ext cx="1218960" cy="761760"/>
          </a:xfrm>
          <a:prstGeom prst="wedgeEllipseCallout">
            <a:avLst>
              <a:gd name="adj1" fmla="val -115236"/>
              <a:gd name="adj2" fmla="val 1370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3960" y="6172200"/>
            <a:ext cx="84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SQL everyone keeps the privi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ACFE-4AE6-4C19-B874-8C686EF30F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12:30-1:20, in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1: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2: E/R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3: Conceptual design, BC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51560" y="6176880"/>
            <a:ext cx="31676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book ex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8972-7817-4186-923D-7D787A6F67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SQL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ow level access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creator owns the data: that’s unfa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3520" y="48006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spectacular fail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30% assign privileges to users/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n to protect entire tables, not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1833120" y="3943440"/>
            <a:ext cx="12768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control = great success story of the DB community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67DF-F620-425D-808A-C3B1052F8507}" type="slidenum">
              <a:t>20</a:t>
            </a:fld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olicies in middleware: slow, error pr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P has 10**4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TE over 10**5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rokerage house has 80,000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US government entity thinks that it has 35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 the database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the center of the policy administration un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126720" y="6248520"/>
            <a:ext cx="360972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Rosenthal&amp;Winslett’200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11E6-34E1-4D49-A421-4A95B7B6201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Famous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eney’s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453F-FCC0-4906-9487-BE66D94DC1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219320" y="4673160"/>
            <a:ext cx="6781680" cy="1191240"/>
            <a:chOff x="1219320" y="4673160"/>
            <a:chExt cx="6781680" cy="1191240"/>
          </a:xfrm>
        </p:grpSpPr>
        <p:sp>
          <p:nvSpPr>
            <p:cNvPr id="151" name=""/>
            <p:cNvSpPr/>
            <p:nvPr/>
          </p:nvSpPr>
          <p:spPr>
            <a:xfrm>
              <a:off x="1219320" y="4673160"/>
              <a:ext cx="6781680" cy="119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 claims by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67080" y="5045040"/>
              <a:ext cx="295272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1458000" y="1600200"/>
            <a:ext cx="113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health insurance company lets you see the claims on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399240" y="404964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search through the claim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8440" y="5054760"/>
            <a:ext cx="5850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Lee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920" y="26668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log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941480" y="2603520"/>
            <a:ext cx="6764400" cy="1191240"/>
            <a:chOff x="1941480" y="2603520"/>
            <a:chExt cx="6764400" cy="1191240"/>
          </a:xfrm>
        </p:grpSpPr>
        <p:sp>
          <p:nvSpPr>
            <p:cNvPr id="159" name=""/>
            <p:cNvSpPr/>
            <p:nvPr/>
          </p:nvSpPr>
          <p:spPr>
            <a:xfrm>
              <a:off x="1941480" y="2603520"/>
              <a:ext cx="6764400" cy="119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ssword: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34200" y="2666880"/>
              <a:ext cx="27410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ed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66280" y="3276720"/>
              <a:ext cx="16437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*******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-572040" y="6095880"/>
            <a:ext cx="102391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…FROM…WHERE doctor=‘Dr. Lee’ and patientID=‘fred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-813240" y="76320"/>
            <a:ext cx="635292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Chris Anley,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dvanced SQL Injection In SQ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105520" y="2666880"/>
            <a:ext cx="3595680" cy="3929040"/>
            <a:chOff x="5105520" y="2666880"/>
            <a:chExt cx="3595680" cy="3929040"/>
          </a:xfrm>
        </p:grpSpPr>
        <p:sp>
          <p:nvSpPr>
            <p:cNvPr id="165" name=""/>
            <p:cNvSpPr/>
            <p:nvPr/>
          </p:nvSpPr>
          <p:spPr>
            <a:xfrm>
              <a:off x="5105520" y="2666880"/>
              <a:ext cx="91440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67680" y="6138720"/>
              <a:ext cx="53352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" name=""/>
            <p:cNvCxnSpPr>
              <a:stCxn id="165" idx="4"/>
              <a:endCxn id="166" idx="1"/>
            </p:cNvCxnSpPr>
            <p:nvPr/>
          </p:nvCxnSpPr>
          <p:spPr>
            <a:xfrm>
              <a:off x="5562720" y="3137040"/>
              <a:ext cx="2683440" cy="305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8" name=""/>
          <p:cNvGrpSpPr/>
          <p:nvPr/>
        </p:nvGrpSpPr>
        <p:grpSpPr>
          <a:xfrm>
            <a:off x="4282920" y="4976640"/>
            <a:ext cx="1779840" cy="1652760"/>
            <a:chOff x="4282920" y="4976640"/>
            <a:chExt cx="1779840" cy="1652760"/>
          </a:xfrm>
        </p:grpSpPr>
        <p:sp>
          <p:nvSpPr>
            <p:cNvPr id="169" name=""/>
            <p:cNvSpPr/>
            <p:nvPr/>
          </p:nvSpPr>
          <p:spPr>
            <a:xfrm>
              <a:off x="4282920" y="4976640"/>
              <a:ext cx="1067040" cy="609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48360" y="6095880"/>
              <a:ext cx="914400" cy="53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stCxn id="169" idx="5"/>
              <a:endCxn id="170" idx="0"/>
            </p:cNvCxnSpPr>
            <p:nvPr/>
          </p:nvCxnSpPr>
          <p:spPr>
            <a:xfrm>
              <a:off x="5194440" y="5510160"/>
              <a:ext cx="411840" cy="573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D5C8-D0E6-4B39-95B0-F4F6D4648AC8}" type="slidenum">
              <a:t>23</a:t>
            </a:fld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75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-78120" y="16002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ry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2311200"/>
            <a:ext cx="7619760" cy="119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claims b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63080" y="2692800"/>
            <a:ext cx="7495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Lee’   OR patientID = ‘suciu’;   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09600" y="4343400"/>
            <a:ext cx="8072280" cy="1902240"/>
            <a:chOff x="309600" y="4343400"/>
            <a:chExt cx="8072280" cy="1902240"/>
          </a:xfrm>
        </p:grpSpPr>
        <p:sp>
          <p:nvSpPr>
            <p:cNvPr id="177" name=""/>
            <p:cNvSpPr/>
            <p:nvPr/>
          </p:nvSpPr>
          <p:spPr>
            <a:xfrm>
              <a:off x="309600" y="4343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tte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2120" y="5054400"/>
              <a:ext cx="7619760" cy="119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 claims by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29760" y="5413680"/>
              <a:ext cx="58500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r. Lee’      OR   1 = 1;    -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-1550880" y="3782880"/>
            <a:ext cx="120679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WHERE doctor=‘Dr. Lee’  OR patientID=‘suciu’;      --’ and patientID=‘fred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C0ED-D869-428D-8A19-553FE55EFEC5}" type="slidenum">
              <a:t>24</a:t>
            </a:fld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-407160" y="160020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you’re done, do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2593800"/>
            <a:ext cx="7772400" cy="119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claims b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40720" y="2975040"/>
            <a:ext cx="6764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Lee’;    DROP TABLE Patients;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8E0D-0995-4326-A623-E6B60B41C8B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BMS works perfectly.  So why is SQL injection possible so ofte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or programming:  use stored procedure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eper 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 policy implementation from apps to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CDD-9515-4054-B8C5-2F037EC6F4B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ssachusetts, the Group Insurance Commission (GIC) is responsible for purchasing health insurance for state 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C has to publish the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1133640" y="5105520"/>
            <a:ext cx="11153160" cy="53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C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, dob, s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agnosis, procedure,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A459-5BB0-446B-8152-FFEDB7FD6251}" type="slidenum">
              <a:t>27</a:t>
            </a:fld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eney paid $20 and bought the voter registration list for Cambridge Massachuset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1133640" y="4724280"/>
            <a:ext cx="11153160" cy="107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C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, dob, s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agnosis, procedure,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ER(name, party, ...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, dob, s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33BC-6F6B-4A10-8902-3AD1ED51C6C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2742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iam Weld (former governor) lives in Cambridge, hence is in VO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people in VOTER share h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3 of them were man (sam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d was the only one in th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eney learned Weld’s medical record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-140760" y="20574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ip, dob, s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E6EE-EC17-4C11-9BED-D92230F472A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1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SELECT-FROM-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es and GROUP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queries and non-monotone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/DELETE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F1A0-1FEB-4BB5-9376-B3086E5D42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anya Sweeney’s 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ystems worked as specified, yet an important data has lea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protect against tha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-1036080" y="5257800"/>
            <a:ext cx="1078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me of today’s research in data security address breache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at happen even if all systems work cor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BA57-BB30-4E86-87F9-359831F1A20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n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inj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rrectness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 policy implemented poorly in the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ney’s fin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yond correctn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kage occurred when all systems work as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8F5D-A55D-4F8A-9B55-2B8D7ABD0A28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Novel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-anonymity, information lea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w-level access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A19A-D84A-4896-844E-264A78CF185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914400" y="2895480"/>
          <a:ext cx="6705720" cy="25876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-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y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at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-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914400" y="2895480"/>
          <a:ext cx="6705720" cy="25876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-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-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Leakag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-Anonym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-1245240" y="1708200"/>
            <a:ext cx="1005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ach tuple is equal to at least k-1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nymizing: through suppression and gener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-978480" y="5756400"/>
            <a:ext cx="93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:  NP-complete for suppression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ions exists; but work poorly in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432000" y="76320"/>
            <a:ext cx="5423400" cy="33732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Samarati&amp;Sweeney’98, Meyerson&amp;Williams’04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0120" y="2895480"/>
          <a:ext cx="1447560" cy="259236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s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A817-4B2D-4266-A258-A95B51C42B92}" type="slidenum">
              <a:t>33</a:t>
            </a:fld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Leakag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-view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49360" y="2949480"/>
          <a:ext cx="7543800" cy="1035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ret Qu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ew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losure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nam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(name,pho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549360" y="3986280"/>
          <a:ext cx="7543800" cy="944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0574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name,pho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1(name,dept)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2(dept,pho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549360" y="4930920"/>
          <a:ext cx="7543800" cy="517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0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nam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(dep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549360" y="5456160"/>
          <a:ext cx="7543800" cy="944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0574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name)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re dept=‘HR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(name)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re dept=‘RD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677520" y="1981080"/>
            <a:ext cx="8227440" cy="53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 Employee(name, dept, ph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-241200" y="19810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29600" y="3483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30120" y="4168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72880" y="4930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i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65680" y="5692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-424800" y="76320"/>
            <a:ext cx="607860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iklau&amp;S’04, Miklau&amp;Dalvi&amp;S’05,Yang&amp;Li’0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E063-3C2F-4CC1-8B2D-7F6A33BD547F}" type="slidenum">
              <a:t>34</a:t>
            </a:fld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e-grained Access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access at the tuple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specification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997B-2BF5-4118-B734-B756A64A683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icy Specification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2000" y="2666880"/>
            <a:ext cx="877608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UTHORIZATION VIEW PatientsForDoctors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atient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atient, Doc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WHERE Patient.doctorID = Doctor.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   Doctor.login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%current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4520" y="5239800"/>
            <a:ext cx="2854800" cy="1172520"/>
          </a:xfrm>
          <a:prstGeom prst="wedgeEllipseCallout">
            <a:avLst>
              <a:gd name="adj1" fmla="val 35587"/>
              <a:gd name="adj2" fmla="val -945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-1080720" y="1676520"/>
            <a:ext cx="100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tandard, but usually based on parameterized vie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F41B-5853-454A-8ABC-D7DF9E5BCD8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27760" y="1706400"/>
            <a:ext cx="603288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atient.name, Patient.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atient.disease = ‘flu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5360" y="4168800"/>
            <a:ext cx="749592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atient.name, Patient.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atient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Do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atient.disease = ‘flu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atient.doctorID = Doctor.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Patient.login = %current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67080" y="320040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51680" y="48006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Ora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13CA-D9E2-4331-9854-FF813E3BB88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uman Model = filter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orm re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 all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WRITE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misleading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on-Truman model = deny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ject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 or REJECT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query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define multiple security views for a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417080" y="6400800"/>
            <a:ext cx="155232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Rizvi’0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84640" y="2514600"/>
            <a:ext cx="4234680" cy="1373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count(*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Pati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isease=‘flu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ADA1-2D43-47B9-B9D8-03B95F56505B}" type="slidenum">
              <a:t>38</a:t>
            </a:fld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n Information Dis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heoretical resear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iting new connections between databases and information theory, probability theory, crypt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pplicati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years a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63600" y="3581280"/>
            <a:ext cx="322884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adi&amp;Warinschi’0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802C-B3C0-4A1B-99C6-D604E1DA0A7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2: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/R diagram ba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sets, relationships, IS-A, weak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all slides - including weak entity sets (for midterm and/or fi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to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keys ? The foreign key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le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-one or one-one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A613-9C46-4759-ACFD-021F094659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Fine Grained Access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d in industry: label-based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ller app: application h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franchises share a single table at headquarters (e.g., Holiday In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runs under requester’s label, cannot see other lab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quarters runs Read queries over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’s Virtual Privat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08680" y="6442200"/>
            <a:ext cx="3609720" cy="368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Rosenthal&amp;Winslett’200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0219-0352-42A5-8AA5-8E1C7CB54D7D}" type="slidenum">
              <a:t>40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3: FDs and 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X --&gt; Y mean, how do we check if it h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mstrong’s rules, X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C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algorithm on the sl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D896-A0C4-4E69-9CDB-6D155860D3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Ad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plan on reading during the midterm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questions are easy, others are ha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the easier ones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fun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3800-A46D-482F-9B91-1E972A1EA4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Security – 8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famous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new tr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276720"/>
            <a:ext cx="378000" cy="1500120"/>
          </a:xfrm>
          <a:custGeom>
            <a:avLst/>
            <a:gdLst>
              <a:gd name="textAreaLeft" fmla="*/ 0 w 378000"/>
              <a:gd name="textAreaRight" fmla="*/ 136440 w 378000"/>
              <a:gd name="textAreaTop" fmla="*/ 38880 h 1500120"/>
              <a:gd name="textAreaBottom" fmla="*/ 146124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57480" y="3368520"/>
            <a:ext cx="3675240" cy="131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al mater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not have time to cov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63A3-A16F-4EBE-B110-99401F8325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onary Access Control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0480" y="2087640"/>
            <a:ext cx="530136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T privileg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ON objec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TO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WITH GRANT OPTION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440" y="4114800"/>
            <a:ext cx="822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ileges =  SELECT  |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INSERT(column-name) 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UPDATE(column-name)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DELETE 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REFERENCES(column-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= table  | 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15DF-0525-48B4-89E0-113B0079FA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25640" y="1940040"/>
            <a:ext cx="743508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T INSERT, DELETE ON Custom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up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GRANT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040" y="3098880"/>
            <a:ext cx="34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ies allowed to Yupp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5638680"/>
            <a:ext cx="33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ies denied to Yupp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93400" y="3632040"/>
            <a:ext cx="673380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INTO Customers(cid, name, addres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VALUES(32940, ‘Joe Blow’, ‘Seattl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E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LastPurchaseDate &lt; 19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56360" y="5562720"/>
            <a:ext cx="368604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Customer.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name = ‘Joe Blow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C778-9306-42F8-A344-404E901589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7-04-23T17:57:17Z</dcterms:modified>
  <cp:revision>386</cp:revision>
  <dc:subject/>
  <dc:title>Lecture 09:</dc:title>
</cp:coreProperties>
</file>