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331-7AE6-478B-A830-F14EC962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1806-1E61-469B-8F63-4F2988BC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CF2-0D24-4CA7-A2F0-2836B633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A2A9-7173-494B-9491-E86E8265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C38D-443C-4866-A5ED-E7AB3D55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294-C76C-4BB1-A340-8B58C239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3228-5279-45A2-A75E-BDDE269B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343-1F57-4A4F-8760-7F54F503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265-ED6F-48FF-99D5-252A2A09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89E3-4321-4A9F-8C76-97E2D0CB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14C5-A272-4806-92AC-8FABCEC6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303-06C3-4287-98BF-BC1063A8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479B-5956-46EE-A37A-1D11C7ED1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msdn.microsoft.com/library/default.asp?url=/library/en-us/dnsql90/html/sql2k5xml.asp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 in SQL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April 20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4AFF-AD33-4862-8353-A8F6DDBDB0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-LET-WHERE-RETURN  = FLW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37480" y="3492360"/>
            <a:ext cx="203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/LET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320" y="4594320"/>
            <a:ext cx="180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02280" y="5726160"/>
            <a:ext cx="190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54480" y="40212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54480" y="51465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75960" y="39546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75960" y="5195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77760" y="624852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ce of Xquery dat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996A-F0E2-46A4-8163-8A135A0837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and unordered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 =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lection: result i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cumen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 = an unordered collection: the output order is implementation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ollection (several author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3080" y="5251320"/>
            <a:ext cx="5374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6520" y="5025960"/>
            <a:ext cx="27435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F1B-70A3-4791-9021-5F288C3B5D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collections in expressions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pric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0.7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numb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x m numbers ?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7544-41E6-4253-99F6-DFDFE2338F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XML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AP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M = “Document Object Mode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langu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link, X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6840" y="5105520"/>
            <a:ext cx="41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ww.w3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don’t spend rest of your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those standards 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FA5-793B-47A0-91F0-C831177391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n SQL Server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tables with attributes of type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Xquery in SQL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 of the slides are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nkar Pal et al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exing XML data stored in a relational data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VLDB’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CFDF-6D6C-44CE-8F3E-28EEFBC906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65440" y="1295280"/>
            <a:ext cx="403020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TABLE DOCS (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ID int primary key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XDOC x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9280" y="3448080"/>
            <a:ext cx="88142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D, XDOC.query(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$s in  /BOOK[@ISBN= “1-55860-438-3”]//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&lt;topic&gt;{data($s/TITLE)} &lt;/topic&gt;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DO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D781-E874-47D0-95A5-F888C5A028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Method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() = returns XML data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() = extracts scalar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() = checks conditions on XML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() = returns a rowset of XML nodes that the Xquery expression evaluate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9AA-0C7B-41A2-AAE7-0559B43D7F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here:</a:t>
            </a:r>
            <a:br>
              <a:rPr sz="3200"/>
            </a:b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msdn.microsoft.com/library/default.asp?url=/library/en-us/dnsql90/html/sql2k5xml.a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8556-90A7-43F6-B8CF-61D7F0374E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8120" y="3124080"/>
            <a:ext cx="508032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ABLE docs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 INT PRIMARY KE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Col XML not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FFB9-ACE4-48AE-A9AA-683F05197E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ng an XML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5960" y="2666880"/>
            <a:ext cx="8750160" cy="35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INTO docs VALUES (2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&lt;doc id="123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ction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ction num="1"&gt;&lt;title&gt;XML Schema&lt;/title&gt;&lt;/sectio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ction num="3"&gt;&lt;title&gt;Benefits&lt;/title&gt;&lt;/sectio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ction num="4"&gt;&lt;title&gt;Features&lt;/title&gt;&lt;/sectio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section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doc&gt;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52E-27FC-4914-9F36-BB89AF9B4D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2: deadline extended until tonight, at 11:59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term on Wednesday. To stu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dependencies and BC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book exam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phase 2 due next Fri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4BF1-5261-4D2B-BEF4-136BF9F37E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2480" y="3124080"/>
            <a:ext cx="8721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pk, xCol.query('/doc[@id = 123]//section'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  do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C2C-A183-4CE9-9C6D-C7270555D2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s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3360" y="3276720"/>
            <a:ext cx="736344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xCol.query('/doc[@id = 123]//section')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  do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 xCol.exist ('/doc[@id = 123]')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15E4-9F75-480C-B781-1A56E2B888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8040" y="3200400"/>
            <a:ext cx="87958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xCol.value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data((/doc//section[@num = 3]/title)[1])', 'nvarchar(max)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do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8BF6-5230-4688-88A3-467364EB44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des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40" y="2895480"/>
            <a:ext cx="7474680" cy="265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nref.value('first-name[1]', 'nvarchar(50)'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 FirstNa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ref.value('last-name[1]', 'nvarchar(50)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Last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  @xVar.nodes('//author') AS R(nre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 nref.exist('.[first-name != "David"]')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D801-B0E5-4289-BCB0-E15270B087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des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7680" y="3448080"/>
            <a:ext cx="824724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nref.value('@genre', 'varchar(max)') Last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docs CROSS APP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xCol.nodes('//book') AS R(nre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47C5-026B-44B0-899A-AA056C5EF4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is “shredded” as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w important id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wey decimal numbering of nodes; store in clustered B-tree i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nly odd numbers to allow inse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e PATH-ID encoding, for efficient processing of postfix expressions like //a/b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more indexes, e.g. on data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B597-38BC-4284-9983-3BF14F4B6F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06200" y="1295280"/>
            <a:ext cx="5453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BN=“1-55860-438-3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Bad Bugs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ody loves bad bu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G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PTION=“Sample bug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Tree Frogs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ight-thinking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love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fro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A449-454D-41D4-B8D6-A8485BA9F7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758960"/>
            <a:ext cx="8458200" cy="365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D18-58AF-47B5-8CD4-890F81142E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547560"/>
            <a:ext cx="7277040" cy="5830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473840" y="633420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set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D91A-E277-410C-BADD-F39143265F1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74240" y="990720"/>
            <a:ext cx="6101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BOOK[@ISBN = “1-55860-438-3”]/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4360" y="3498840"/>
            <a:ext cx="797436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SerializeXML (N2.ID, N2.ORDPA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infosettab N1  JOIN infosettab N2 ON (N1.ID = N2.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N1.PATH_ID = PATH_ID(/BOOK/@ISB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1.VALUE = '1-55860-438-3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2.PATH_ID = PATH_ID(BOOK/S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arent (N1.ORDPATH) = Parent (N2.ORDPA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1905120"/>
            <a:ext cx="761760" cy="1066680"/>
          </a:xfrm>
          <a:prstGeom prst="downArrow">
            <a:avLst>
              <a:gd name="adj1" fmla="val 50000"/>
              <a:gd name="adj2" fmla="val 350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4F83-479C-4970-AF3F-D06589FBF8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7320" y="1828800"/>
            <a:ext cx="836568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document("bib.xml")/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“97”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/tex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AA8D-1AC0-4735-9BA8-D221CDD195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35440" y="1981080"/>
            <a:ext cx="7092720" cy="39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IN /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@type = "Journal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edi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C280-6763-4890-B622-59233367A2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240" y="2133720"/>
            <a:ext cx="8162280" cy="35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"sailing"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tains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"windsurfing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EE4-071D-4C02-92D3-79BFC151F0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8760" y="2362320"/>
            <a:ext cx="7634160" cy="280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"sailing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87B-CC78-41F2-B006-249DFDB9C5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El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st-of-text-valu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eliminate duplicate “tuples”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5520" y="3276720"/>
            <a:ext cx="50940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8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5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2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8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5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3886200"/>
            <a:ext cx="609480" cy="485640"/>
          </a:xfrm>
          <a:prstGeom prst="rightArrow">
            <a:avLst>
              <a:gd name="adj1" fmla="val 50000"/>
              <a:gd name="adj2" fmla="val 3137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9440" y="5486400"/>
            <a:ext cx="5017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8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5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2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0A5-27FA-4386-B0B8-4821D03888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de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llection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432C-7361-4DB0-AA6F-F7294D729A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8720" y="2438280"/>
            <a:ext cx="52178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8720" y="4343400"/>
            <a:ext cx="52178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0520" y="2236680"/>
            <a:ext cx="3661560" cy="3980160"/>
            <a:chOff x="5330520" y="2236680"/>
            <a:chExt cx="3661560" cy="3980160"/>
          </a:xfrm>
        </p:grpSpPr>
        <p:sp>
          <p:nvSpPr>
            <p:cNvPr id="64" name=""/>
            <p:cNvSpPr/>
            <p:nvPr/>
          </p:nvSpPr>
          <p:spPr>
            <a:xfrm>
              <a:off x="5330520" y="2236680"/>
              <a:ext cx="3661560" cy="16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83680" y="4294080"/>
              <a:ext cx="2835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DC6C-0DA9-4977-B0A2-4FE358DA42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7-04-20T03:52:45Z</dcterms:modified>
  <cp:revision>366</cp:revision>
  <dc:subject/>
  <dc:title>Lecture 09:</dc:title>
</cp:coreProperties>
</file>