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F687-2CBD-453A-9EF2-D5065739C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67F6-6508-4560-850D-638848A61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0800" y="4341960"/>
            <a:ext cx="50338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CA6-C3CC-464E-8768-02DD100E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22E-BEF9-4648-8C63-CE97975C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80A-0CB1-44AC-8056-879658EF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794-1418-4137-9AF0-65A14B1E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218-F99B-4EC1-8F0C-6E661EBD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B08-ED4C-4829-8BF6-AB1C14E7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A98-EB94-45ED-B64C-8CF020E7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2E4-9730-4190-B31E-9FC895A5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95A-B893-440B-8CF9-954EF197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026-1264-4530-A12F-D8A93E76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62D-2178-491C-A184-68DD5945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160-86F2-41F0-9735-CAB9CF63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1A0E-630F-4BD7-A266-45B070618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/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April 17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CD2-4C70-4FC0-912A-072AF29336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ctor Vian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k Hull doesn’t appear because he has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90512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E29-12CC-49FD-83FE-62B3212AAF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4280" y="190512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152-7218-4816-A87C-29DA2E90DD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4840" y="1828800"/>
            <a:ext cx="735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.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480" y="4038480"/>
            <a:ext cx="502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read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move all qualifiers (predicate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120" y="4965840"/>
            <a:ext cx="3465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 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8320" y="561960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dd them one by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172200"/>
            <a:ext cx="5868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3280" y="6137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D7A-71C2-4B67-B374-2E3D2120F2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04040" y="2286000"/>
            <a:ext cx="40485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6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2240" y="3352680"/>
            <a:ext cx="4955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2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67760" y="44197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D6F-300C-4ED3-AFAF-24D7F4DB2A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9360" y="2362320"/>
            <a:ext cx="2219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7640" y="4363920"/>
            <a:ext cx="4921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year = 1998] 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5506920"/>
            <a:ext cx="4819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2][@year = 199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01600" y="2269440"/>
            <a:ext cx="2662200" cy="652680"/>
          </a:xfrm>
          <a:prstGeom prst="wedgeEllipseCallout">
            <a:avLst>
              <a:gd name="adj1" fmla="val -82097"/>
              <a:gd name="adj2" fmla="val 10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nd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9000" y="3449520"/>
            <a:ext cx="2852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last(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8360" y="3402720"/>
            <a:ext cx="2616480" cy="652680"/>
          </a:xfrm>
          <a:prstGeom prst="wedgeEllipseCallout">
            <a:avLst>
              <a:gd name="adj1" fmla="val -82009"/>
              <a:gd name="adj2" fmla="val 104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66880" y="4255560"/>
            <a:ext cx="2712600" cy="1172520"/>
          </a:xfrm>
          <a:prstGeom prst="wedgeEllipseCallout">
            <a:avLst>
              <a:gd name="adj1" fmla="val -83449"/>
              <a:gd name="adj2" fmla="val -5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nd of 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s i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31160" y="5551200"/>
            <a:ext cx="2725200" cy="1172520"/>
          </a:xfrm>
          <a:prstGeom prst="wedgeEllipseCallout">
            <a:avLst>
              <a:gd name="adj1" fmla="val -74527"/>
              <a:gd name="adj2" fmla="val -169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book IF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osition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CA5-77B0-4C6E-921B-F5B8FF70BB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720" y="2286000"/>
            <a:ext cx="3452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1240" y="242892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ea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1600" y="3581280"/>
            <a:ext cx="334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9200" y="36576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9760" y="3581280"/>
            <a:ext cx="31251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review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040" y="5257800"/>
            <a:ext cx="3938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. /first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640" y="53341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1160" y="5181480"/>
            <a:ext cx="3621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first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4E9-CF04-4826-A1A2-1153C797FC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800" y="4343400"/>
            <a:ext cx="5558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review/../comment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520" y="2209680"/>
            <a:ext cx="27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 mea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en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2000" y="495288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00" y="2743200"/>
            <a:ext cx="41554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.. /author/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5000" y="28195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4360" y="2743200"/>
            <a:ext cx="25812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author/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1320" y="5410080"/>
            <a:ext cx="5875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.//*[comments][review]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26760" y="6248520"/>
            <a:ext cx="22410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don’t use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5A1-7332-4AA5-8A18-82103C1E8E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657540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b/book[@price&lt;“55”]/author/lastname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BAA-7295-4152-AF5F-F083E92F7F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, which is based on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XPath to express more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CE7-BE51-4276-94D6-0627A71371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A09-10A2-4B71-ACFB-34527CFED7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recommend readings in previou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684-7C6B-4894-9857-CBA61CCDED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616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0360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7BD-F55E-491E-90DE-C23E003EF9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61786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 (perhaps more geek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720" y="28954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520" y="4495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n shor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2600" y="5562720"/>
            <a:ext cx="707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3AF-CF1F-4BDA-BAA0-6DB6D52D2C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R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1955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0240" y="2895480"/>
            <a:ext cx="77767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5840" y="44956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rewritten by the system i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400" y="54100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567-8AD3-4F34-B1DE-CB23F0BF75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and the year when they wer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5040" y="2971800"/>
            <a:ext cx="586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6360" y="5076720"/>
            <a:ext cx="85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2002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80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EA7-97A0-42FC-9DA8-75CD294041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e use of “{“ and “}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esult without th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98040" y="3048120"/>
            <a:ext cx="5500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3640" y="5334120"/>
            <a:ext cx="7766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037-A6A6-4DEC-B5CB-C83FF4271A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0040" y="2971800"/>
            <a:ext cx="8433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organ Kaufmann”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7520" y="61722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lause comma concatenates XM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A8A-595B-4E8B-85BD-D2FAF7D23E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110-C094-4ED7-BD00-422CB342A6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s with more than 3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5960" y="4876920"/>
            <a:ext cx="528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tha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computes the average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mputes the sum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960" y="2971800"/>
            <a:ext cx="5397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8CF-5F5D-4AC2-949B-50275B8F2D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5720" y="2971800"/>
            <a:ext cx="7665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]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900-E7D1-4DC1-AE9F-A5D05E94C2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all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77320" y="3276720"/>
            <a:ext cx="6211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book/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9960" y="5410080"/>
            <a:ext cx="769104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istinct-values applies ONLY to values, NOT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9DC-F2AA-4826-A243-ECC465A7CF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9E4-BF29-495E-AAD1-E03DF778638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ET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1160" y="2971800"/>
            <a:ext cx="53766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 &gt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90B-735B-4125-A35B-72A4C9F4F55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a list of (author, titl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3800" y="3352680"/>
            <a:ext cx="54741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x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y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1840" y="3870360"/>
            <a:ext cx="327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Database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Wido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Database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07440" y="1828800"/>
            <a:ext cx="327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Databases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Wido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FE7-DC12-46A0-96DC-2DF24D3EDA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, return all titles of her/his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7520" y="3276720"/>
            <a:ext cx="60030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320" y="5334120"/>
            <a:ext cx="15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11880" y="2819520"/>
            <a:ext cx="283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l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578-D0B2-48DB-82DC-611089532A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, but eliminate duplicate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1120" y="2819520"/>
            <a:ext cx="61135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394-3392-498E-9BA6-D8A9BCDDC1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2920" y="2819520"/>
            <a:ext cx="6246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09D-A858-4270-9CD0-0627E15BB9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3920" y="175248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2960" y="1600200"/>
            <a:ext cx="39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 names, pric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by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83600" y="2735280"/>
            <a:ext cx="2625120" cy="2556360"/>
            <a:chOff x="183600" y="2735280"/>
            <a:chExt cx="2625120" cy="2556360"/>
          </a:xfrm>
        </p:grpSpPr>
        <p:sp>
          <p:nvSpPr>
            <p:cNvPr id="210" name=""/>
            <p:cNvSpPr/>
            <p:nvPr/>
          </p:nvSpPr>
          <p:spPr>
            <a:xfrm>
              <a:off x="183600" y="2735280"/>
              <a:ext cx="26251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x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 BY x.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600" y="46389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20080" y="2666880"/>
            <a:ext cx="7317000" cy="3090960"/>
            <a:chOff x="1720080" y="2666880"/>
            <a:chExt cx="7317000" cy="3090960"/>
          </a:xfrm>
        </p:grpSpPr>
        <p:sp>
          <p:nvSpPr>
            <p:cNvPr id="213" name=""/>
            <p:cNvSpPr/>
            <p:nvPr/>
          </p:nvSpPr>
          <p:spPr>
            <a:xfrm>
              <a:off x="2973240" y="2666880"/>
              <a:ext cx="606384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 B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price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,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i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&lt;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20080" y="510516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B65-C2BB-4F53-BBAF-18119E06C2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06240" y="2057400"/>
            <a:ext cx="36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abc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7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def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3680" y="434340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formed document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870-8049-4341-8C19-34686386CB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ing a Well-Forme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438280"/>
            <a:ext cx="6514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pric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639-A16B-4609-A105-D76983CA46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6240" y="2057400"/>
            <a:ext cx="3843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abc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7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def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1280" y="29718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well-form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A43-F446-446F-9251-A9E5F1C28B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040" y="152388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, reven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728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58400" y="2895480"/>
            <a:ext cx="3864240" cy="2556360"/>
            <a:chOff x="158400" y="2895480"/>
            <a:chExt cx="3864240" cy="2556360"/>
          </a:xfrm>
        </p:grpSpPr>
        <p:sp>
          <p:nvSpPr>
            <p:cNvPr id="227" name=""/>
            <p:cNvSpPr/>
            <p:nvPr/>
          </p:nvSpPr>
          <p:spPr>
            <a:xfrm>
              <a:off x="158400" y="2895480"/>
              <a:ext cx="38642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, Company 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x.maker=y.c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and y.city=“Seattl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6840" y="47991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242520" y="2362320"/>
            <a:ext cx="5750280" cy="3090960"/>
            <a:chOff x="3242520" y="2362320"/>
            <a:chExt cx="5750280" cy="3090960"/>
          </a:xfrm>
        </p:grpSpPr>
        <p:sp>
          <p:nvSpPr>
            <p:cNvPr id="230" name=""/>
            <p:cNvSpPr/>
            <p:nvPr/>
          </p:nvSpPr>
          <p:spPr>
            <a:xfrm>
              <a:off x="4497480" y="2362320"/>
              <a:ext cx="4495320" cy="265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and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 = “Seattle”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2520" y="480060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40760" y="5546880"/>
            <a:ext cx="8856720" cy="1264320"/>
            <a:chOff x="140760" y="5546880"/>
            <a:chExt cx="8856720" cy="1264320"/>
          </a:xfrm>
        </p:grpSpPr>
        <p:sp>
          <p:nvSpPr>
            <p:cNvPr id="233" name=""/>
            <p:cNvSpPr/>
            <p:nvPr/>
          </p:nvSpPr>
          <p:spPr>
            <a:xfrm>
              <a:off x="205164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0760" y="5638680"/>
              <a:ext cx="1650960" cy="1172520"/>
            </a:xfrm>
            <a:prstGeom prst="wedgeEllipseCallout">
              <a:avLst>
                <a:gd name="adj1" fmla="val 64712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390-F2FA-490F-A3FB-0895B1A6EB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ED7-961E-44D9-884A-17D243AE23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28120" y="1260360"/>
            <a:ext cx="47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23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….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B9E-27CF-483C-8E40-055A879AD31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8800" y="152388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ompany with revenues &lt; 1M count the products over 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240" y="2009880"/>
            <a:ext cx="8498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y.name, count(*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price &gt; 100 and x.maker=y.cid and y.revenue &lt; 10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5280" y="3809880"/>
            <a:ext cx="8649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[revenue/text()&lt;1000000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{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&gt;100]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533-7FF6-4B61-A0EA-C0953889167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4480" y="152388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ith at least 30 products, and their averag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2009880"/>
            <a:ext cx="32896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y.name, avg(x.pri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count(*)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66640" y="2971800"/>
            <a:ext cx="56858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30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)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080" y="4114800"/>
            <a:ext cx="2389680" cy="652680"/>
          </a:xfrm>
          <a:prstGeom prst="wedgeEllipseCallout">
            <a:avLst>
              <a:gd name="adj1" fmla="val 103333"/>
              <a:gd name="adj2" fmla="val -7568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88080" y="2133720"/>
            <a:ext cx="2268360" cy="652680"/>
          </a:xfrm>
          <a:prstGeom prst="wedgeEllipseCallout">
            <a:avLst>
              <a:gd name="adj1" fmla="val -41893"/>
              <a:gd name="adj2" fmla="val 135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E24-1818-4157-8C85-1D79BF7EE93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58" name="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7180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1800" y="59436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dison-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44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0920" y="2057400"/>
            <a:ext cx="1223640" cy="459720"/>
          </a:xfrm>
          <a:prstGeom prst="wedgeRectCallout">
            <a:avLst>
              <a:gd name="adj1" fmla="val -182763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12560" y="3048120"/>
            <a:ext cx="2267280" cy="459720"/>
          </a:xfrm>
          <a:prstGeom prst="wedgeRectCallout">
            <a:avLst>
              <a:gd name="adj1" fmla="val -109736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70B-F864-4E20-98A6-CE78961E7E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9400" y="1752480"/>
            <a:ext cx="2257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9360" y="4038480"/>
            <a:ext cx="26496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880" y="5964120"/>
            <a:ext cx="81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9400" y="6019920"/>
            <a:ext cx="293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71880" y="5928480"/>
            <a:ext cx="4298400" cy="649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e differen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2" idx="2"/>
            <a:endCxn id="80" idx="3"/>
          </p:cNvCxnSpPr>
          <p:nvPr/>
        </p:nvCxnSpPr>
        <p:spPr>
          <a:xfrm flipH="1">
            <a:off x="1434600" y="6253200"/>
            <a:ext cx="7754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82" idx="6"/>
            <a:endCxn id="81" idx="1"/>
          </p:cNvCxnSpPr>
          <p:nvPr/>
        </p:nvCxnSpPr>
        <p:spPr>
          <a:xfrm>
            <a:off x="6432120" y="6253200"/>
            <a:ext cx="73116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276-C8F9-4FD3-BD62-C06F77BE82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2760" y="182880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840" y="5513400"/>
            <a:ext cx="208404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3CE-5739-473B-9005-24CDFF2911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7600" y="182880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DE8-7B8D-4D8F-B1F8-D0F9075CD2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ches any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8000" y="201132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6B4-E919-4CC5-8C8F-BF97303F00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Dan Suciu</cp:lastModifiedBy>
  <dcterms:modified xsi:type="dcterms:W3CDTF">2007-04-18T04:29:45Z</dcterms:modified>
  <cp:revision>212</cp:revision>
  <dc:subject/>
  <dc:title>Lecture 09:</dc:title>
</cp:coreProperties>
</file>