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936-E2A2-4BB8-9885-D4CB264BD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may be non-well formed: e.g. &lt;br&gt; without &lt;/br&gt;.  Better: &lt;br/&gt;; XML must be well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has semantics: &lt;br&gt; means newline, &lt;i&gt; means italic etc.  XML has no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7BB-646D-4477-A037-7FE84D38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06F-0ADA-40A2-B540-B44A14EE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FC2-5E2A-482D-B39C-297863E0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570-0B3D-42AA-8F9A-DAD9ABBC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F08-B69C-4F7A-B431-90C12F0C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C3E-B5C4-4551-8BBF-456227F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520-F1A5-4773-B936-C9371838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EF4-48A0-4288-90DA-2ADC1748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EC7-BA2F-493A-8CD4-D8713102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A93-CD72-44E2-ADF7-9D2A8A93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5E5-8DBB-4833-A0AD-9FB7861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3C1-3414-4A19-9298-20F3CE42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C577-AA7B-4203-AD0D-48DB05D79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XML/" TargetMode="External"/><Relationship Id="rId2" Type="http://schemas.openxmlformats.org/officeDocument/2006/relationships/hyperlink" Target="http://www.w3.org/XML/1999/XML-in-10-points" TargetMode="External"/><Relationship Id="rId3" Type="http://schemas.openxmlformats.org/officeDocument/2006/relationships/hyperlink" Target="http://www.zvon.org/xxl/XMLTutorial/General/book_en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3.org/TR/xquery-use-cases/" TargetMode="External"/><Relationship Id="rId2" Type="http://schemas.openxmlformats.org/officeDocument/2006/relationships/hyperlink" Target="http://www.w3.org/TR/xquery/" TargetMode="External"/><Relationship Id="rId3" Type="http://schemas.openxmlformats.org/officeDocument/2006/relationships/hyperlink" Target="http://www.galaxquery.org/" TargetMode="External"/><Relationship Id="rId4" Type="http://schemas.openxmlformats.org/officeDocument/2006/relationships/hyperlink" Target="http://www.galaxquery.org/" TargetMode="External"/><Relationship Id="rId5" Type="http://schemas.openxmlformats.org/officeDocument/2006/relationships/hyperlink" Target="http://www.galaxquery.org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pril 1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2A8-A7D2-4DD4-940F-DC88456196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4D3-611E-4AC4-A86B-51D096125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A5B-A46D-460F-8AC6-A2529B7B07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9E9-98CC-4582-BA3F-893DD41BEE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262400" cy="254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292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4680" y="2133720"/>
            <a:ext cx="460836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4B1-8D50-425A-9C7B-48491F50BE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2514600"/>
          <a:ext cx="6858000" cy="29973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DC6-12CC-46D8-BA8A-241BF571F9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.s.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ifferences between XML and HTM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7CB-F216-4C70-BD8A-E47442969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5040" y="464040"/>
            <a:ext cx="7691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17720" cy="35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6520" y="2726280"/>
            <a:ext cx="434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just keys/ foreign keys 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omeone who didn’t take 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them: use your 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s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754-6E9A-4EB3-A4C6-3B941C4AF3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8D6-58CA-4587-8F02-50E9E1E814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800600" y="3886200"/>
          <a:ext cx="3124080" cy="2819520"/>
        </p:xfrm>
        <a:graphic>
          <a:graphicData uri="http://schemas.openxmlformats.org/drawingml/2006/table">
            <a:tbl>
              <a:tblPr/>
              <a:tblGrid>
                <a:gridCol w="1104840"/>
                <a:gridCol w="201924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21A-CBD7-4688-873A-DAC04F6DAB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828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89B-CC23-432C-8E63-B6F3CDDA82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18C-F511-4CBE-B766-5CBD060728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D98-5E6B-49E8-8F09-37691CB09E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5440" y="2828880"/>
            <a:ext cx="598248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5009040"/>
            <a:ext cx="3567960" cy="1692360"/>
          </a:xfrm>
          <a:prstGeom prst="wedgeEllipseCallout">
            <a:avLst>
              <a:gd name="adj1" fmla="val -38287"/>
              <a:gd name="adj2" fmla="val -147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nothing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; just a un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C22-062F-4031-8962-B10335347E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13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7E1-1E17-4F19-8800-E06529577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62800" y="2133720"/>
            <a:ext cx="3899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Mapl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Thai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6184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5304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3904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848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868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168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6308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0380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9120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860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7" idx="3"/>
            <a:endCxn id="119" idx="7"/>
          </p:cNvCxnSpPr>
          <p:nvPr/>
        </p:nvCxnSpPr>
        <p:spPr>
          <a:xfrm flipH="1">
            <a:off x="6001920" y="2371680"/>
            <a:ext cx="388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7" idx="5"/>
            <a:endCxn id="120" idx="1"/>
          </p:cNvCxnSpPr>
          <p:nvPr/>
        </p:nvCxnSpPr>
        <p:spPr>
          <a:xfrm>
            <a:off x="6867360" y="2371680"/>
            <a:ext cx="7437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9" idx="3"/>
            <a:endCxn id="121" idx="7"/>
          </p:cNvCxnSpPr>
          <p:nvPr/>
        </p:nvCxnSpPr>
        <p:spPr>
          <a:xfrm flipH="1">
            <a:off x="4586040" y="2897280"/>
            <a:ext cx="73872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9" idx="4"/>
            <a:endCxn id="122" idx="0"/>
          </p:cNvCxnSpPr>
          <p:nvPr/>
        </p:nvCxnSpPr>
        <p:spPr>
          <a:xfrm flipH="1">
            <a:off x="5566680" y="2962080"/>
            <a:ext cx="975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0" idx="3"/>
            <a:endCxn id="123" idx="0"/>
          </p:cNvCxnSpPr>
          <p:nvPr/>
        </p:nvCxnSpPr>
        <p:spPr>
          <a:xfrm flipH="1">
            <a:off x="703980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0" idx="4"/>
            <a:endCxn id="124" idx="0"/>
          </p:cNvCxnSpPr>
          <p:nvPr/>
        </p:nvCxnSpPr>
        <p:spPr>
          <a:xfrm flipH="1">
            <a:off x="7921080" y="3267000"/>
            <a:ext cx="291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1" idx="4"/>
            <a:endCxn id="118" idx="0"/>
          </p:cNvCxnSpPr>
          <p:nvPr/>
        </p:nvCxnSpPr>
        <p:spPr>
          <a:xfrm flipH="1">
            <a:off x="4250880" y="4181400"/>
            <a:ext cx="468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2" idx="3"/>
            <a:endCxn id="125" idx="0"/>
          </p:cNvCxnSpPr>
          <p:nvPr/>
        </p:nvCxnSpPr>
        <p:spPr>
          <a:xfrm flipH="1">
            <a:off x="5058720" y="4039920"/>
            <a:ext cx="1357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2" idx="4"/>
            <a:endCxn id="126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2" idx="5"/>
            <a:endCxn id="127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5" idx="4"/>
            <a:endCxn id="128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6" idx="4"/>
            <a:endCxn id="129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27" idx="4"/>
            <a:endCxn id="130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3" idx="4"/>
            <a:endCxn id="131" idx="0"/>
          </p:cNvCxnSpPr>
          <p:nvPr/>
        </p:nvCxnSpPr>
        <p:spPr>
          <a:xfrm>
            <a:off x="7040160" y="4410000"/>
            <a:ext cx="1422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4"/>
            <a:endCxn id="132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20" idx="5"/>
            <a:endCxn id="148" idx="0"/>
          </p:cNvCxnSpPr>
          <p:nvPr/>
        </p:nvCxnSpPr>
        <p:spPr>
          <a:xfrm>
            <a:off x="8288280" y="3201840"/>
            <a:ext cx="3326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8" idx="4"/>
            <a:endCxn id="149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19" idx="2"/>
            <a:endCxn id="152" idx="7"/>
          </p:cNvCxnSpPr>
          <p:nvPr/>
        </p:nvCxnSpPr>
        <p:spPr>
          <a:xfrm flipH="1">
            <a:off x="4014360" y="2738160"/>
            <a:ext cx="11692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2" idx="3"/>
            <a:endCxn id="153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57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32648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935-5D2D-4DEF-A2A8-5757731429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474-0DAB-459B-B847-03D1776C62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7800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35604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734-341E-485F-87E9-9C4A0C10A6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564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5496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160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8AE-AA8F-4F6B-A82F-5D4074AC38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34200" y="2565360"/>
            <a:ext cx="442620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07840" y="3886200"/>
            <a:ext cx="1811520" cy="566640"/>
          </a:xfrm>
          <a:prstGeom prst="wedgeEllipseCallout">
            <a:avLst>
              <a:gd name="adj1" fmla="val -73601"/>
              <a:gd name="adj2" fmla="val 149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029200" y="5029200"/>
          <a:ext cx="2133720" cy="15526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309-C97C-4CB2-9B7F-71D7E69EBD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6480" y="2590920"/>
            <a:ext cx="4273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419720" y="5105520"/>
          <a:ext cx="3200400" cy="136656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42680" y="3886200"/>
            <a:ext cx="2253240" cy="566640"/>
          </a:xfrm>
          <a:prstGeom prst="wedgeEllipseCallout">
            <a:avLst>
              <a:gd name="adj1" fmla="val -70638"/>
              <a:gd name="adj2" fmla="val -62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3FE-A4C6-40A2-8FDB-997C0FC6A5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6480" y="3822840"/>
            <a:ext cx="1765800" cy="999720"/>
          </a:xfrm>
          <a:prstGeom prst="wedgeEllipseCallout">
            <a:avLst>
              <a:gd name="adj1" fmla="val -87319"/>
              <a:gd name="adj2" fmla="val -88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9F5-313F-483E-B518-B8AA5A282F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 on XML, but hard to read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utorials out of myriads: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XML/1999/XML-in-10-points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zvon.org/xxl/XMLTutorial/General/book_e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200" y="5870880"/>
            <a:ext cx="506484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ad this for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C69-043E-4569-9F61-F3FFC193BC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3F1-23A6-4AD4-83DE-ACED07E282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what tags and attributes are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n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seded by 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plex: DTDs still used wid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C10-70FF-4C5A-818D-D9392F61B7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504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6A8-1B0D-4FE8-8389-9E5B3A4DF1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372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31F-7A9C-4819-BED2-153B32A94C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4032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823-24F8-47BB-AF7F-6A6083B744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9480" y="2489040"/>
            <a:ext cx="4363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93600" y="2517840"/>
            <a:ext cx="3352320" cy="92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3360" y="4013280"/>
            <a:ext cx="5301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3720" y="5079960"/>
            <a:ext cx="4651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612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40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6146640"/>
            <a:ext cx="5397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24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56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46240" y="4422600"/>
            <a:ext cx="2742480" cy="15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BA6-10DF-4CF9-A76A-09AC51A02A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reading on Xquery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TR/xquery-use-cases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uggested readings: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TR/xquery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galaxquery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70640" y="5946840"/>
            <a:ext cx="66103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ML/XQuery is NOT covered in the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CD2-38D8-4221-80AC-F6B59B1904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exible syntax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databases: e.g. propert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files: e.g. Web.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markup: e.g.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- a very nast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5760" y="6062400"/>
            <a:ext cx="4894200" cy="5767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udy only XML a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D25-9B2B-465F-81D8-A0A4524FC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syntaxes: CSV (comma-separated-values), ASN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: Databa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/transform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: XM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bases o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8E5-EDA2-4CF0-ADD3-69EDFE81F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s have rigid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evolution is cos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flexible: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data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: not normal form !  Not even 1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ry this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170-5C20-4D4F-9778-248B2B5170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460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C7E-F0FF-42E2-9682-8F394F7D58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9B9-FF81-49E4-836A-1A53FEB45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4-16T03:51:59Z</dcterms:modified>
  <cp:revision>232</cp:revision>
  <dc:subject/>
  <dc:title>Lecture 09:</dc:title>
</cp:coreProperties>
</file>