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9F4C-AC7F-40F5-B6CD-2FA3A5DA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2DA-4825-4F84-B310-AB13D12A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9AF-6B3F-4C87-B45C-5DA166FF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F16-52B5-4756-B325-634ED0A4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E64-CBD9-444F-B032-5BF87871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65F-B330-4601-82DC-546D712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762-8DC5-426A-A945-02F387E8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B8B-603C-4E31-B770-DB7EA97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E97-77B1-449B-9A28-B31BC7EB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A65-3095-4658-8F64-0808CB2A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FBB-51CF-422D-BFE0-274FDCB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684-9C09-4DDA-BD05-D7FF5449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85A-F897-45E1-AA3E-58E2364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204B-F201-4A85-8499-30E90A365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8 and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&amp;Friday, April 10&amp;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576-FFBD-4B80-81A8-40FBDB01CA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5ED-9C83-4A25-825A-EC160C8172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668-C8E0-4D04-A045-0C69EA1C8A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168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728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36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0072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9880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610-C6A3-4CFF-966F-D3B43B5A78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an FD 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AE0-7BF7-4BA7-85A4-D4087A6DAA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720" y="153360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C8B-B2F4-4C64-9586-A1F8ACB25D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98240" y="5334120"/>
            <a:ext cx="26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90720" y="23623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C8F-75F5-441F-AB62-804F26A1B6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16280" y="5257800"/>
            <a:ext cx="37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not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21A-A7BD-427F-B213-9F2A04C404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5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306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71E-FE14-463D-995C-E8C3A6190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328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701-E41C-4528-B6F5-26D6DEB711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156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500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25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7B8-D90B-40CA-BCA4-107FBBD59D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/Remi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: solutions a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2: posted (due Friday, April 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1 due Friday, April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201-C587-4E92-896C-88131B8FB5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 Find ALL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 occur when certain “bad” FDs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some of the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Ds, then look for the bad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3A1-BA44-4B78-BC5F-898D8BE004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768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81036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616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3B0-80D7-4066-BE84-C08A54A296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624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364284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352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708-28C3-4BDA-8AEE-34FF96ADF8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307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8088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4372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3940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CD6-6269-4E37-9435-0D76BCE35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151-B8A3-4500-AC1E-F0153BC433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104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4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958-38C3-483A-83D9-8F9CDA8605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62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838080" y="30481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10552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736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9ED-E346-4EA0-A879-8D2CD3BF95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5040" y="1625760"/>
            <a:ext cx="7473240" cy="197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the set of attributes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s.t.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0413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4240" y="4038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67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E01-B122-47E2-988B-028F674B08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80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644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788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2E4-B35F-43BE-BA36-2F2A9BEF44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D6A-B750-48C5-8511-485D09F3A6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3F7-CFBB-4402-AAD5-B18C04A874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losure we can find all FD’s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eck i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48B-FD86-4252-BA43-67D793B967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80" y="327672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1840" y="3782160"/>
            <a:ext cx="79621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ABCD, AC+=AC, AD+=ABC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BC+=BCD,  BD+=BD,  CD+=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280" y="57913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696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2E5-DA26-4449-9CF4-12F1FFB773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6DF-A9A1-413F-B838-B5088CBFB8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39B-046E-4F94-BEFB-52C02A9789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27D-1C64-4F54-981A-0D89E2833E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596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350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790-6EC9-4F52-BAD2-190EBAB5E6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596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350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2720" y="533412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, category) +  = name, category, price,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5600" y="59436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(name, category) is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052-1524-420B-BEFB-FAEC332EDD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560" y="3016080"/>
            <a:ext cx="38109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70920" y="50785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d keys at h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4DC-3AD7-435D-AB24-EBFD9419CD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OK if X is a (super)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not OK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BCC-7793-47D4-8AD9-87D6B3E619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1440" y="571500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“bad”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786-9ED0-4DB4-BF28-B964E14371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Refinements = 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Normal Form =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Normal Form = obso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ce Codd Normal Form = will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rd Normal Form = se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BA5-3A2B-49C7-B519-F963B633DD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727-FC3C-4F4F-934F-3496E4BAF0C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128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940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904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560" y="57913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05200" y="623556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design FDs such that 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A81-19EB-4D84-A212-F42E16E176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1320" y="457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: there are no “bad”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0680" y="5334120"/>
            <a:ext cx="59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either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)    or  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DAE-CA65-45C9-972D-8662E917F0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652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BNC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0360" y="5943600"/>
            <a:ext cx="39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coming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996-A2EE-4C3D-9F61-D823947589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0720" y="5715000"/>
            <a:ext cx="31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436-783F-4C91-BF88-63EB2070EA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37C-5E5B-4271-982A-F1567A118B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7B2-4899-415C-B6E5-417DDDED8FE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7080" y="1752480"/>
            <a:ext cx="7000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DD8-34A9-4530-9F7B-964DFB585D8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7556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50360" y="509040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867-1CB8-4B6C-B041-BCAD2570A0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02640" y="4709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72880" y="380880"/>
            <a:ext cx="1381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80840" y="1828800"/>
            <a:ext cx="4386960" cy="121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2920" y="17784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4720" y="6019920"/>
            <a:ext cx="849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09240" y="2844720"/>
            <a:ext cx="7175880" cy="2158920"/>
            <a:chOff x="1209240" y="2844720"/>
            <a:chExt cx="7175880" cy="2158920"/>
          </a:xfrm>
        </p:grpSpPr>
        <p:sp>
          <p:nvSpPr>
            <p:cNvPr id="327" name=""/>
            <p:cNvSpPr/>
            <p:nvPr/>
          </p:nvSpPr>
          <p:spPr>
            <a:xfrm>
              <a:off x="1209240" y="3581280"/>
              <a:ext cx="3634560" cy="142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,C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BC ≠ A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64160" y="3657600"/>
              <a:ext cx="1920960" cy="81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23" idx="3"/>
              <a:endCxn id="327" idx="0"/>
            </p:cNvCxnSpPr>
            <p:nvPr/>
          </p:nvCxnSpPr>
          <p:spPr>
            <a:xfrm flipH="1">
              <a:off x="3025080" y="2844720"/>
              <a:ext cx="205560" cy="73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3" idx="5"/>
              <a:endCxn id="328" idx="0"/>
            </p:cNvCxnSpPr>
            <p:nvPr/>
          </p:nvCxnSpPr>
          <p:spPr>
            <a:xfrm>
              <a:off x="6318000" y="2844720"/>
              <a:ext cx="1105560" cy="81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1" name=""/>
          <p:cNvGrpSpPr/>
          <p:nvPr/>
        </p:nvGrpSpPr>
        <p:grpSpPr>
          <a:xfrm>
            <a:off x="294840" y="4700160"/>
            <a:ext cx="5425920" cy="1198080"/>
            <a:chOff x="294840" y="4700160"/>
            <a:chExt cx="5425920" cy="1198080"/>
          </a:xfrm>
        </p:grpSpPr>
        <p:sp>
          <p:nvSpPr>
            <p:cNvPr id="332" name=""/>
            <p:cNvSpPr/>
            <p:nvPr/>
          </p:nvSpPr>
          <p:spPr>
            <a:xfrm>
              <a:off x="294840" y="5105520"/>
              <a:ext cx="196812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B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24920" y="5062320"/>
              <a:ext cx="199584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4" name=""/>
            <p:cNvCxnSpPr>
              <a:stCxn id="327" idx="3"/>
              <a:endCxn id="332" idx="0"/>
            </p:cNvCxnSpPr>
            <p:nvPr/>
          </p:nvCxnSpPr>
          <p:spPr>
            <a:xfrm flipH="1">
              <a:off x="1278720" y="4700160"/>
              <a:ext cx="46908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7" idx="5"/>
              <a:endCxn id="333" idx="0"/>
            </p:cNvCxnSpPr>
            <p:nvPr/>
          </p:nvCxnSpPr>
          <p:spPr>
            <a:xfrm>
              <a:off x="4303800" y="4700160"/>
              <a:ext cx="41976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D8A-FB1B-43B1-861D-166E14EAF71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F69-72B0-432A-A3F3-E324F8AEF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6072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6080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5832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248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435-36C2-4F98-8E29-812DF73BC50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o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6AC-7F6B-44FB-8134-D842EBB68AA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12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BEC-B941-4DCA-8AE3-55DE8C456F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6080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5832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9248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9680" y="6028560"/>
            <a:ext cx="722628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 is always lossless. 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4800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EAA-BBB1-40C0-A771-716650578BA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73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1732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12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8400" y="5257800"/>
            <a:ext cx="28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2004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48769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48D-EBD6-4958-A672-EDFC3CAE6D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3B6-2985-4159-9564-D8DBD7DEA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48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548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66680" y="2209680"/>
          <a:ext cx="7010280" cy="158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28480" y="403848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erson may have multiple phones, but lives in only on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D66-CA8A-4BF2-A966-3452DF4652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276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3841920"/>
          <a:ext cx="4514760" cy="10951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029200" y="3886200"/>
          <a:ext cx="3657600" cy="146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7800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81080" y="2057400"/>
          <a:ext cx="6248520" cy="14605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900-6829-4EA0-A72C-D89D8BAB6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4-11T15:00:12Z</dcterms:modified>
  <cp:revision>239</cp:revision>
  <dc:subject/>
  <dc:title>Lecture 10</dc:title>
</cp:coreProperties>
</file>