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382-50EE-408D-8A90-2A4A7F29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E66-4996-4AB2-B9A2-86150A8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AB9-4605-4DAE-82E0-4D02444C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284-476B-4626-B70C-8633E30B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9FC-7366-47D9-AD99-F2AC5E96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527-C333-4C5E-91EF-1F250DE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8EB-637B-4C3D-BE24-200E042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9C2-FAA2-4038-AE18-9EE50DEC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258-CB99-413E-89C1-E3EA45C0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AB4-826B-4162-8F7E-8F9BEE6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F87-82D6-4064-8220-796A19DE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388-2F30-40B1-9B87-C94A09BF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F24F-0055-4B4E-B057-5DDBA5E51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pril 9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6F3-012B-49F7-82A9-DC0FD0B4CE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4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349-81A5-4FB1-8595-F456178E66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680" y="5943600"/>
            <a:ext cx="779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8AA-16C5-41ED-9401-61501A6AC8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680" y="5943600"/>
            <a:ext cx="7794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store sells to every person at most on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020-E6C1-42B4-8142-D88C165DA6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0740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do we say that every person shops at at most one sto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5120" y="5943600"/>
            <a:ext cx="537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annot.  This is the best approxim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only approxi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1C1-BF0C-42A5-B56A-1CF3E04462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1E3-4BC2-40D4-9168-37C573DF04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2A8-1331-4092-920D-066D7C6CCF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D80-E6C7-4E1E-9C7C-F49A58842E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158-FCF5-4B32-9BF1-9CD80F6C78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369-0AE6-4485-A587-2927482481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4AE-EB84-4F70-AB81-E0EC9DB046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3.2, 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FEB-0B5E-4E87-88FE-3DE36605F2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296" idx="0"/>
            <a:endCxn id="311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296" idx="0"/>
            <a:endCxn id="297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296" idx="0"/>
            <a:endCxn id="298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294" idx="0"/>
            <a:endCxn id="305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294" idx="3"/>
            <a:endCxn id="295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944-A9E3-4109-AF64-524CB5A903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22" idx="0"/>
            <a:endCxn id="33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22" idx="0"/>
            <a:endCxn id="32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22" idx="0"/>
            <a:endCxn id="32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20" idx="0"/>
            <a:endCxn id="33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20" idx="3"/>
            <a:endCxn id="32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790-C7D0-4231-8F75-FA416CB5CE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B9A-EE53-4E63-9F53-4D51A7CDE7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684-6E9E-4B63-99EA-6023ABCF8E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F66-7431-4A71-BC3A-C46292379C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397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00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03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15" name="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18" name="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21" name="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C90-9E08-4DA4-8FF6-544FE5C7F1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28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7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721-3FC9-44E0-B8FF-0583915D96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55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F1F-2CC9-4D3C-A28E-298B2CCC79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475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51B-5E3A-4B93-849F-B3A0E0B192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491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53341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687-7ADB-4621-908C-35C7DEBF2F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ormalisms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588-862B-40CC-A2DF-9D425D23C0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08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F4D-D0AE-4EDA-9962-0A54772965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15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0A1-359F-4330-ACED-C9195DC296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28" idx="0"/>
            <a:endCxn id="526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9" idx="0"/>
            <a:endCxn id="532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6" idx="0"/>
            <a:endCxn id="531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2" idx="0"/>
            <a:endCxn id="531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93B-D32A-42C2-9B7A-1D34818789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1BB-8E21-4F44-8735-0BBBA1A3C0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AC7-3DCB-418B-820F-F39B74F598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8492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0400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D8D-9F9D-4B75-A20B-9A401D4D3C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6164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8460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F19-DAB0-46AD-83F7-B28D48EEE4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44B-E895-40D3-86E9-795964E9BF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916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972-D4B4-47B7-960A-4531B790E0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872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83A-2642-4388-A5D9-990FA4CC68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0A5-A8D8-45F3-B26E-8CAEB61F32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1600200"/>
            <a:ext cx="6400800" cy="3581280"/>
            <a:chOff x="1371600" y="1600200"/>
            <a:chExt cx="6400800" cy="3581280"/>
          </a:xfrm>
        </p:grpSpPr>
        <p:sp>
          <p:nvSpPr>
            <p:cNvPr id="59" name=""/>
            <p:cNvSpPr/>
            <p:nvPr/>
          </p:nvSpPr>
          <p:spPr>
            <a:xfrm>
              <a:off x="1371600" y="350532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600" y="16002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36576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plo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971440" y="22860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337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4876920"/>
              <a:ext cx="99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638680" y="4343400"/>
              <a:ext cx="609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1" idx="0"/>
              <a:endCxn id="56" idx="2"/>
            </p:cNvCxnSpPr>
            <p:nvPr/>
          </p:nvCxnSpPr>
          <p:spPr>
            <a:xfrm flipV="1">
              <a:off x="7010280" y="2666520"/>
              <a:ext cx="49608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grpSp>
          <p:nvGrpSpPr>
            <p:cNvPr id="69" name=""/>
            <p:cNvGrpSpPr/>
            <p:nvPr/>
          </p:nvGrpSpPr>
          <p:grpSpPr>
            <a:xfrm>
              <a:off x="152280" y="457200"/>
              <a:ext cx="4038840" cy="1828440"/>
              <a:chOff x="152280" y="457200"/>
              <a:chExt cx="4038840" cy="1828440"/>
            </a:xfrm>
          </p:grpSpPr>
          <p:sp>
            <p:nvSpPr>
              <p:cNvPr id="70" name=""/>
              <p:cNvSpPr/>
              <p:nvPr/>
            </p:nvSpPr>
            <p:spPr>
              <a:xfrm>
                <a:off x="11430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432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tego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2280" y="1371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142640" y="198072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905120" y="1142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514600" y="1142640"/>
                <a:ext cx="7621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295280" y="5486400"/>
              <a:ext cx="6705720" cy="1219320"/>
              <a:chOff x="1295280" y="5486400"/>
              <a:chExt cx="6705720" cy="1219320"/>
            </a:xfrm>
          </p:grpSpPr>
          <p:sp>
            <p:nvSpPr>
              <p:cNvPr id="77" name=""/>
              <p:cNvSpPr/>
              <p:nvPr/>
            </p:nvSpPr>
            <p:spPr>
              <a:xfrm>
                <a:off x="1295280" y="601992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8620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5308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590920" y="5486400"/>
                <a:ext cx="16761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7080" y="54864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9200" y="5486400"/>
                <a:ext cx="1676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391520" y="685800"/>
              <a:ext cx="1600200" cy="2971800"/>
              <a:chOff x="7391520" y="685800"/>
              <a:chExt cx="1600200" cy="2971800"/>
            </a:xfrm>
          </p:grpSpPr>
          <p:sp>
            <p:nvSpPr>
              <p:cNvPr id="84" name=""/>
              <p:cNvSpPr/>
              <p:nvPr/>
            </p:nvSpPr>
            <p:spPr>
              <a:xfrm>
                <a:off x="7543800" y="29718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91520" y="685800"/>
                <a:ext cx="144756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772400" y="1295280"/>
                <a:ext cx="2286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56" idx="2"/>
                <a:endCxn id="84" idx="0"/>
              </p:cNvCxnSpPr>
              <p:nvPr/>
            </p:nvCxnSpPr>
            <p:spPr>
              <a:xfrm>
                <a:off x="7505280" y="2666520"/>
                <a:ext cx="762840" cy="30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E1E-FA0D-4B49-A2CB-8C74843CD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46A-7022-4982-8315-09B75EEE33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00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821040" y="5843520"/>
            <a:ext cx="746280" cy="67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5640" y="5992920"/>
            <a:ext cx="108288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6180120"/>
            <a:ext cx="104616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67320" y="618012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84080" y="6180120"/>
            <a:ext cx="33660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888-B721-4C87-A006-02666D450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31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7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40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F60-F16C-4558-A1F1-64DCF6827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58" idx="0"/>
            <a:endCxn id="159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9" idx="2"/>
            <a:endCxn id="163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B5E-7590-4D25-9228-AC446F8FE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7-04-09T05:00:25Z</dcterms:modified>
  <cp:revision>397</cp:revision>
  <dc:subject/>
  <dc:title>PowerPoint Presentation</dc:title>
</cp:coreProperties>
</file>