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93DB-1BF9-4A58-9B18-6F2DE167D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BF6C-FC92-4BB8-A6D9-C2D2C88E7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059B-639A-49C5-AC07-A16CE8402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F725-D012-4260-ACF5-C72444DE6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2AC2-E8B2-4388-AFA7-FF13073B3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6FBB-E42A-4F8C-8077-4A9D499EF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4AD6-89EC-45E4-BAE7-CF1FA6AE8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73F1-F8A2-401D-88DC-CB172D170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B178-ADE2-41B0-9F5B-454A450FD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AA3D-233F-4694-A262-7D065788E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38A3-5C02-4215-BA6A-157869BD4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0CB3-9204-429F-9726-9EBD17248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B81E0-B857-41EF-A0A5-26C0A2018F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projsrv.cs.washington.edu/444/Phase1_Example/" TargetMode="Externa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cma-international.org/activities/Languages/Introduction%20to%20Csharp.pdf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06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 in C#, Pro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iday, April 6, 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E9AD-D0BD-4AC4-AAB5-70F13C4F7C3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ataset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an important class that allows you to interact with a data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set = a “mini” database in main mem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R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E606-F28D-43A7-B07C-32F57A8461F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924840" y="1676520"/>
            <a:ext cx="7233840" cy="478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Set myLocalDB = new DataSet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 .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 . . /* create inside a table called “books” *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 . . /* (this is shown on a following slide) *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* now use “books” *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Table x = myLocalDB.Tables[“books”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each (DataRow y in x.Rows)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(y[“title”] == “Harry Potter”) y[“price”]++;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S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E949-C8A7-4FAF-A0D2-5FEB3EB37B7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necting to a Data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or edit web.config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y iprojsrv, user, 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 a ‘name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a SqlConn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er to ‘name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a SqlDataAdap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bed SQL query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e the Fill( ) method to run query and store answers in a data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7FD6-E1E2-492A-AE93-25DEF352462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6440" y="1930320"/>
            <a:ext cx="8280720" cy="478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* create inside a table called “books” *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lConnection c = new SqlConnection( . . . “name” . . .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ng q = “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select title, price ye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                 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from produc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                 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where price &lt; 1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”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lDataAdapter a = new SqlDataAdapter(q, c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Set myLocalDB = new DataSet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Fill(myLocalDB, “books”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necting to a Data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96920" y="3561120"/>
            <a:ext cx="3368520" cy="1692360"/>
          </a:xfrm>
          <a:prstGeom prst="wedgeEllipseCallout">
            <a:avLst>
              <a:gd name="adj1" fmla="val -61240"/>
              <a:gd name="adj2" fmla="val -10166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 = a string !!!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impedanc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mat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9B23-9CA1-4754-8CC8-6CDC82DAE94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as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sk 1: Schema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sk 2: Import sample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sk 3: Modify starter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674C-4152-4779-9B82-9D86932039D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sk 1: Schema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ficial requir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the project descri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 a “good” database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AF58-4877-4FF1-89FB-9769BF88DE2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sk 1: Schema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onal: draw an E/R dia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a fi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a second file: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why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69720" y="2819520"/>
            <a:ext cx="46490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ustomer (   . . .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voice (   . . .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036400" y="4495680"/>
            <a:ext cx="33109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ROP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usto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ROP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v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9A4F-86D1-4E63-A1CF-B0DAF597DAB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sk 1: Schema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you should d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description AND look inside the starter code App_code/Provided/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the classes, determine the field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D63F-D57A-4F29-BB7B-0A5B1D3C1DB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sk 1: Schema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ngs to worry abou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s/foreign keys: note table order matter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 sure you represent all the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ll-able or not (don’t worry too muc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ngs not to worry abou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name or FirstName or PersonFirstNam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char(20) or char(200) or varchar(120)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016E-510D-4D06-B8B3-2E6E9CAE1AB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sk 2: Import Sample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a fi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may need to run this: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why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402080" y="1752480"/>
            <a:ext cx="427860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SERT I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ustomer (   . . .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‘John’, …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SERT I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ustomer (   . . .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‘Sue’, …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036400" y="4495680"/>
            <a:ext cx="33109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ROP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usto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ROP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v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36E3-6AFC-411C-9EA3-1485F2FD21B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QL in C#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 Chapter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note that it does not talk about C#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ct Ph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et our TA: Chi-Wai L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1515-F2F5-4D3E-A4AF-123299995FF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sk 3: Modify Starter Co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tarter co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#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P.NET (you do not need to understand i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provides a Website for accessing your online store BUT it misses the fragments of code that get the data from the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</a:t>
            </a:r>
            <a:br>
              <a:rPr sz="2800"/>
            </a:b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iprojsrv.cs.washington.edu/444/Phase1_Example/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63C3-F441-43C4-AFA7-9D798373C5C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sk 3: Modify Starter Co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you have to d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_Code/Phase1/Billing and Shipping/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1800" y="3429000"/>
            <a:ext cx="6101640" cy="308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partial class Customer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*  add your own fields, like: *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vate int id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dure List&lt;invoice&gt; GetInvoices()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*  your GetInvoices code goes here *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FD8A-7280-40C0-B4D7-3CB627CA4B7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sk 3: Modify Starter Co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4520" y="1676520"/>
            <a:ext cx="8722800" cy="478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*  your GetInvoices code goes here *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ng s = String.Format(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@“SELECT …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FROM …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WHERE x.customerId = {0} …”, id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reContext store = StoreContext.curren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Set ds = new DataSet( 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Table invoices = store.GetDataTable(s, ds, “invoices”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*  continued on next slide…. *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81040" y="1905120"/>
            <a:ext cx="2161800" cy="1172520"/>
          </a:xfrm>
          <a:prstGeom prst="wedgeEllipseCallout">
            <a:avLst>
              <a:gd name="adj1" fmla="val -61069"/>
              <a:gd name="adj2" fmla="val 109666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titut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 for {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057800" y="3581280"/>
            <a:ext cx="2099520" cy="1172520"/>
          </a:xfrm>
          <a:prstGeom prst="wedgeEllipseCallout">
            <a:avLst>
              <a:gd name="adj1" fmla="val -98736"/>
              <a:gd name="adj2" fmla="val 133361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d 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0786-D8A8-43C7-AEC7-9F23A317DB2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sk 3: Modify Starter Co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18120" y="1752480"/>
            <a:ext cx="7189560" cy="435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*  … continued from previous slide *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&lt;Invoice&gt; invoiceList new List&lt;Invoice&gt; ( 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each(datarow r in invoices.Rows)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oiceList.Add(new Invoice( r )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invoiceLis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701600" y="4648320"/>
            <a:ext cx="3296880" cy="1172520"/>
          </a:xfrm>
          <a:prstGeom prst="wedgeEllipseCallout">
            <a:avLst>
              <a:gd name="adj1" fmla="val -52879"/>
              <a:gd name="adj2" fmla="val -69365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you ne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implement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DE69-6A3E-4C52-A38B-BA0AF340486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sk 3: Modify Starter Co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68000" y="1676520"/>
            <a:ext cx="8239680" cy="435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partial class Invoice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Invoice(DataRow invoiceData)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* here goes your code, something like that: *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(invoiceData);   /* may need it in several places *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vate void init(DataRow invoiceData)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oiceId  = (int) invoiceData[“invoiceId”]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derDate = (DateTime) invoiceData[“date”]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0120" y="6019920"/>
            <a:ext cx="2292120" cy="652680"/>
          </a:xfrm>
          <a:prstGeom prst="wedgeEllipseCallout">
            <a:avLst>
              <a:gd name="adj1" fmla="val 9356"/>
              <a:gd name="adj2" fmla="val -88750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rovi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218560" y="6019920"/>
            <a:ext cx="2300400" cy="652680"/>
          </a:xfrm>
          <a:prstGeom prst="wedgeEllipseCallout">
            <a:avLst>
              <a:gd name="adj1" fmla="val 20583"/>
              <a:gd name="adj2" fmla="val -112124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you SQ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84D8-6287-413D-800E-A3CBA819BCC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e Estim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sk 1: about 9 tables or 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hours or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sk 2: try 2 tuples per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h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sk 3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to find out WHAT to mofiy in starter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need to DROP TABLEs then go to Task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time here: anywhere from 2 to 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B6EB-A826-4397-88CB-016CD11EEB0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# - Crash Cour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llo Wor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erties (getters/sette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u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ial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set: DataTable, DataR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necting to a data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7240" y="5943600"/>
            <a:ext cx="759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ecma-international.org/activities/Languages/Introduction%20to%20Csharp.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F33B-D7EF-495F-8C2E-A2D65A10B62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# - Highligh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#   =  C++.Sytnax  +   Java.Seman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a “safe” language (like Jav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e embedded in Webp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access a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x, but you should see the predecessors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32FF-F36B-4417-9A93-D3C3FE24AF7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216080" y="2057400"/>
            <a:ext cx="6886440" cy="350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System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Hello 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ic void Main() {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ole.WriteLine("Hello world"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BE94-2F22-4D0E-ABE9-9C69E72AC95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38960" y="1523880"/>
            <a:ext cx="4713120" cy="521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class Point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vate int x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vate string c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int position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t { return x;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 { x = value; c = “red”;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string color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t { return c;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{ c = value; x++;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erties: Getters and Set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148360" y="1905120"/>
            <a:ext cx="3836880" cy="39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 uvw = new Point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vw.position = 55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vw.color = “green”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vw.position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vw.position * 2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(uvw.color == “green”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2A90-8B31-44C4-B82D-B0C4B89B562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13840" y="1836720"/>
            <a:ext cx="36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ters and setters with […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36880" y="1701720"/>
            <a:ext cx="5820840" cy="308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class Stuff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vate int x[]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int this[int i]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t {x[2*i+1]=0; return x[2*i];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{ x[2*i] = value; x[2*i+1]=1;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01080" y="4724280"/>
            <a:ext cx="3981600" cy="18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ff uvw = new Stuff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vw[12] = 55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vw[99] = uvw[12]*7 + 2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D7C5-FD7A-4789-A7E0-EDFCFF8791E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904040" y="2362320"/>
            <a:ext cx="5114160" cy="350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um Color: byte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 = 1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en = 2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ue = 4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ack = 0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te = Red | Green | Blu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2E07-F997-4222-9325-D07B3827A59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ial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fields defined in fil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fields defined in file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?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-Wai creates file 1, you create file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F875-FEE4-463A-8C3A-D9515BF6EFE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Dan Suciu</dc:creator>
  <dc:description/>
  <dc:language>en-US</dc:language>
  <cp:lastModifiedBy>Dan Suciu</cp:lastModifiedBy>
  <dcterms:modified xsi:type="dcterms:W3CDTF">2007-04-06T17:28:09Z</dcterms:modified>
  <cp:revision>402</cp:revision>
  <dc:subject/>
  <dc:title>PowerPoint Presentation</dc:title>
</cp:coreProperties>
</file>