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9098-ED66-44F8-B8BF-313006E7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LL !  Because the system doesn’t know where the customers in seattl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LL !  The system doesn’t know where the customers in seattl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804-F7CB-45DB-8976-5A7A2ACE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115-44E5-4F54-BCD4-D7CECBB9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EC9-14AF-4554-AAD9-DC05C91D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DC0-742D-4E56-8A08-F3A42F52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8B2-D768-4EB7-BEAF-71A593F2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130-4CF7-4B57-8E97-E191DE31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DD3-5163-48A4-A5B1-18E6B5CE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815-AAE0-4F15-BC8F-0848E7AD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3D0-5A09-4E60-A49D-22BAA33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03F-9715-42BB-8867-85C289D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220-B366-40DD-98D1-804BFEC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3EB-76B1-4752-8666-7610F14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2CB-D519-4231-8272-F4BCBEBCA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,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April 4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00F-1E20-4D6D-8E7E-87C1AE2502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About Thi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488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3887280" y="48769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9BE-E4B4-4518-8AF1-D88B16544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038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54880" y="21337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9040" y="44686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A39-13AE-492A-BF60-200621A7C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Virtual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data indepen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data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data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V reveals only what the users are allow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0E9-3FE6-459B-AF69-A738EACE0E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828800" y="1600200"/>
          <a:ext cx="6781680" cy="227808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4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4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306000" y="1600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4952880"/>
          <a:ext cx="2971800" cy="1460520"/>
        </p:xfrm>
        <a:graphic>
          <a:graphicData uri="http://schemas.openxmlformats.org/drawingml/2006/table">
            <a:tbl>
              <a:tblPr/>
              <a:tblGrid>
                <a:gridCol w="990360"/>
                <a:gridCol w="83844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62520" y="4940280"/>
          <a:ext cx="2209680" cy="146052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1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b2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400800" y="4952880"/>
          <a:ext cx="2133720" cy="1460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1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b2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8760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60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962520"/>
            <a:ext cx="11430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1F4-5FE1-4BF6-82BC-522BB84B24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040" y="2514600"/>
            <a:ext cx="841032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Resu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1.ssn, T1.name, T1.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T2.resume, T3.pi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T1,T2,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T1.ssn=T2.ssn and T2.ssn=T3.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5440" y="5775840"/>
            <a:ext cx="69469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 we use vertical partition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22A-E8F1-47B4-9D54-CA44C3E843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53440" y="2133720"/>
            <a:ext cx="3621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Res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name = ‘Su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160" y="4495680"/>
            <a:ext cx="45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tables T1, T2, T3 w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queried by the syst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067-C822-4216-85F9-6B970FA8BB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me fields are large, and rarely ac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istributed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personal info at one site, customer profile at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comes from on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 comes from a differ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528-8B0A-47BD-89E6-B1FD7652E7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2763720"/>
          <a:ext cx="4114800" cy="2646360"/>
        </p:xfrm>
        <a:graphic>
          <a:graphicData uri="http://schemas.openxmlformats.org/drawingml/2006/table">
            <a:tbl>
              <a:tblPr/>
              <a:tblGrid>
                <a:gridCol w="1054080"/>
                <a:gridCol w="851040"/>
                <a:gridCol w="1143000"/>
                <a:gridCol w="106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29320" y="18288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10080" y="2590920"/>
          <a:ext cx="3429000" cy="669960"/>
        </p:xfrm>
        <a:graphic>
          <a:graphicData uri="http://schemas.openxmlformats.org/drawingml/2006/table">
            <a:tbl>
              <a:tblPr/>
              <a:tblGrid>
                <a:gridCol w="833400"/>
                <a:gridCol w="735120"/>
                <a:gridCol w="9302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24040" y="216216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H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10080" y="3886200"/>
          <a:ext cx="3429000" cy="1004760"/>
        </p:xfrm>
        <a:graphic>
          <a:graphicData uri="http://schemas.openxmlformats.org/drawingml/2006/table">
            <a:tbl>
              <a:tblPr/>
              <a:tblGrid>
                <a:gridCol w="833400"/>
                <a:gridCol w="735120"/>
                <a:gridCol w="9302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324400" y="34257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410080" y="5410080"/>
          <a:ext cx="3429000" cy="100512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1050840"/>
                <a:gridCol w="93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re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327640" y="498168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sIn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40384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849-265A-47BC-A087-1DCD85EBE9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960" y="2514600"/>
            <a:ext cx="55983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InHu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In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ACA-EEB1-40B2-9CB9-FD2307E215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8160" y="2514600"/>
            <a:ext cx="3819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ot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ty =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0640" y="43434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bles are inspected by the syste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08040" y="58482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6C1-AD79-48CC-BD04-5EC5E2A3AA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6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0B3-5EA4-4864-B9C5-114A7F162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440" y="2209680"/>
            <a:ext cx="724140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LECT * FROM CustomersInHus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WHERE city = ‘Huston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LECT * FROM CustomersIn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city = ‘Seattl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6160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B3F-5C65-43BB-A6B9-4119CA58B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05360" y="2057400"/>
            <a:ext cx="38199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ot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ty = ‘Seatt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73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32520" y="5105520"/>
            <a:ext cx="432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otmersInSe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983-55B7-45B1-9A52-1CAD9422A0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rchived applications and act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D6D-627B-4AE8-B1EB-E79394D677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2920" y="5257800"/>
            <a:ext cx="5484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Public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Name,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0" y="266688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1520" y="4706640"/>
            <a:ext cx="1774800" cy="1432800"/>
          </a:xfrm>
          <a:prstGeom prst="wedgeEllipseCallout">
            <a:avLst>
              <a:gd name="adj1" fmla="val 62083"/>
              <a:gd name="adj2" fmla="val 501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1480" y="2009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2400" y="1436400"/>
            <a:ext cx="1884600" cy="1432800"/>
          </a:xfrm>
          <a:prstGeom prst="wedgeEllipseCallout">
            <a:avLst>
              <a:gd name="adj1" fmla="val -71939"/>
              <a:gd name="adj2" fmla="val 9350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31F-1F8C-4D56-879C-82AD2AA87A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2362320"/>
          <a:ext cx="4572000" cy="22780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2275200" y="5029200"/>
            <a:ext cx="5667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BadCredit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Balance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" y="182880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12680" y="1505520"/>
            <a:ext cx="1930320" cy="1866240"/>
          </a:xfrm>
          <a:prstGeom prst="wedgeEllipseCallout">
            <a:avLst>
              <a:gd name="adj1" fmla="val -79254"/>
              <a:gd name="adj2" fmla="val 315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only &lt;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84B-CD94-4C21-BA2A-C84F25484B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3656160"/>
            <a:ext cx="1750680" cy="1172520"/>
          </a:xfrm>
          <a:prstGeom prst="wedgeEllipseCallout">
            <a:avLst>
              <a:gd name="adj1" fmla="val -123782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8B0-B3C0-4FE4-A701-0BC3061C2C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268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7600" y="37339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B5A-F90D-4F66-A209-702A5BCC57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5103360" y="480060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0FD-3013-46FC-AB40-D022570D92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600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0FA-4581-4AB5-9AAA-0354162BE3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152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726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080" y="4495680"/>
            <a:ext cx="2341800" cy="1692360"/>
          </a:xfrm>
          <a:prstGeom prst="wedgeEllipseCallout">
            <a:avLst>
              <a:gd name="adj1" fmla="val -93541"/>
              <a:gd name="adj2" fmla="val -96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9A5-03A6-4697-967D-ACB154EF11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28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0120" y="3962520"/>
            <a:ext cx="51152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‘Developmen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6A7-39A6-4482-9A78-D03244911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9051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584-A26E-4A56-B6C0-FB3CEC46A6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725-716E-47FD-A9EE-DF24AAA391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94E-1DDE-44A6-88D1-FA17BA8C06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476-5734-4154-B46D-39B08CE3D7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01B-3944-4661-9932-C42BB6079F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404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3000" y="304920"/>
            <a:ext cx="4007520" cy="1692360"/>
          </a:xfrm>
          <a:prstGeom prst="wedgeEllipseCallout">
            <a:avLst>
              <a:gd name="adj1" fmla="val -39486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451-FBE4-4479-81FF-E2136D9176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20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BDE-586B-4D7C-A14F-D1F0F2A24C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1680" y="2819520"/>
            <a:ext cx="63194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4880" y="14256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440" y="556272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1080" y="563868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t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357-588C-4C8B-B161-55B2D1B8F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54880" y="419112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276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4880" y="914400"/>
            <a:ext cx="58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(customer, product, st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3360" y="198108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ustomerPrice(customer,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927-00E9-4AD8-890D-847FC61CB3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90400" y="1351440"/>
            <a:ext cx="2666880" cy="1692360"/>
          </a:xfrm>
          <a:prstGeom prst="wedgeEllipseCallout">
            <a:avLst>
              <a:gd name="adj1" fmla="val -80620"/>
              <a:gd name="adj2" fmla="val 1452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virtu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3BD-137D-4AF4-9BC0-2840C1C73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45600" y="4210200"/>
            <a:ext cx="61671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67840" y="2133720"/>
            <a:ext cx="5525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Customer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960" y="2666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560" y="4724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035-7093-4078-B731-97EA3C7000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240" y="2971800"/>
            <a:ext cx="835416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.customer, y.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urchase x, Product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.product = y.pname) u, Purc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u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price &g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64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D41-AEFD-49C1-9AC9-CD4A1E3F9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Over View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43440" y="2895480"/>
            <a:ext cx="663336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, v.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Purchase x, Product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urchase v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ustomer = v.customer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rice &gt; 100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x.product = y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05740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ied and rewritten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6EF-435D-4526-B8A0-A9C45FF48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Dan Suciu</cp:lastModifiedBy>
  <dcterms:modified xsi:type="dcterms:W3CDTF">2007-04-04T01:11:38Z</dcterms:modified>
  <cp:revision>337</cp:revision>
  <dc:subject/>
  <dc:title>PowerPoint Presentation</dc:title>
</cp:coreProperties>
</file>