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4B73-2ED9-44F8-8C5D-4B9D0BA0A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A569-38B4-4E38-A327-37FCC6104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FDDB-E242-486A-9251-A12F18D5D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112E-F5F3-43A1-9068-8C5DB6182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1C19-1530-4281-B390-A613526F5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0EDF-B46A-4706-A6BA-4B08D265B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5398-E7C8-4E91-BF06-9783791F1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B3CC-523F-41D8-A019-5B8FE37A6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45C6-6E90-4855-A5ED-A5BEC79F2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8920-1022-437F-BEEB-A75BECDA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088D-178B-47DB-939B-D4BD7F48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EEAE-11D3-4949-8A6C-DEABF01C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0D1D1-DB36-4F70-976E-98B9881E2B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03: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day, March 30,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738F-FBBA-4F17-A7CA-095DA98EB30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EL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6040" y="4648320"/>
            <a:ext cx="73494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duct, Sum(price*quantity) AS Total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date &gt; ‘10/1/2005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28600" y="1981080"/>
          <a:ext cx="4038480" cy="1825920"/>
        </p:xfrm>
        <a:graphic>
          <a:graphicData uri="http://schemas.openxmlformats.org/drawingml/2006/table">
            <a:tbl>
              <a:tblPr/>
              <a:tblGrid>
                <a:gridCol w="1009440"/>
                <a:gridCol w="1009800"/>
                <a:gridCol w="891000"/>
                <a:gridCol w="11282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u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Quant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g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g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n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n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5562720" y="1905120"/>
          <a:ext cx="3429000" cy="180324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</a:tblGrid>
              <a:tr h="601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u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otalS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g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n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4419720" y="26668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CB0E-7F27-4BF9-BD36-2367454F138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OUP BY v.s. Nested Quere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12000" y="1523880"/>
            <a:ext cx="7273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, Sum(price*quantity)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tal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date &gt; ‘10/1/2005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7680" y="3505320"/>
            <a:ext cx="8626680" cy="30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x.product,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m(y.price*y.quantity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urchase 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.product = y.produc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AND y.date &gt; ‘10/1/2005’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tal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Purchas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x.date &gt; ‘10/1/2005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1FDF-2E92-43B6-9AF8-B5BFF68A327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41320" y="3048120"/>
            <a:ext cx="615636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sum(price * quantity) AS Sum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(quantity) AS MaxQua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45800" y="1661400"/>
            <a:ext cx="2089080" cy="116676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mea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DF90-3C09-49C7-A7E9-BABB774ECDE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VING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7640" y="3352680"/>
            <a:ext cx="55954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duct, Sum(price *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date &gt; ‘10/1/2005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HAV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Sum(quantity) &gt;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5520" y="1600200"/>
            <a:ext cx="745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query, except that we consider only products that h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least 100 buy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9920" y="5603760"/>
            <a:ext cx="650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ING clause contains conditions on aggreg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E172-3FEF-444F-8AC2-14CAD182171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 form of Grouping and 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…,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C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…,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AV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C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= may contain attributes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/or any aggregates but NO OTHER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 = is any condition on the attributes in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…,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 = is any condition on aggregate expre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280640" y="3276720"/>
            <a:ext cx="1399680" cy="652680"/>
          </a:xfrm>
          <a:prstGeom prst="wedgeEllipseCallout">
            <a:avLst>
              <a:gd name="adj1" fmla="val -26962"/>
              <a:gd name="adj2" fmla="val 172930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E9FB-01E1-4692-A632-E2BBD121EDB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 form of Grouping and 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4114800"/>
            <a:ext cx="778536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ion step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e FROM-WHERE, apply condition 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by the attributes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…,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 condition C2 to each group (may have aggreg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aggregates in S and return the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87920" y="1981080"/>
            <a:ext cx="2691000" cy="21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…,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…,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67E5-1138-473A-89E3-8E2F6285D25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vanced SQLiz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ting around INTERSECT and EXCE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tifi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gregation v.s. subqu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examples (study at ho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EE02-86D5-4043-9AFD-AC0F8236CC6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INTERSECT and EXCEP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2920" y="2286000"/>
            <a:ext cx="221076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.A, R.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R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INTERS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.A, S.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29600" y="2286000"/>
            <a:ext cx="488376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.A, R.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R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EXIS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.A=S.A and R.B=S.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66880" y="28954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880" y="4495680"/>
            <a:ext cx="221076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.A, R.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R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EXCE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.A, S.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5920" y="4495680"/>
            <a:ext cx="488376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.A, R.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R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EXIS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.A=S.A and R.B=S.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743200" y="5105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636240" y="1143000"/>
            <a:ext cx="2540880" cy="1862280"/>
          </a:xfrm>
          <a:prstGeom prst="wedgeEllipseCallout">
            <a:avLst>
              <a:gd name="adj1" fmla="val -57490"/>
              <a:gd name="adj2" fmla="val 43254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R, S have n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plicates, then ca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rite withou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bqueri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HOW ?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5080" y="151560"/>
            <a:ext cx="6001920" cy="509400"/>
          </a:xfrm>
          <a:prstGeom prst="roundRect">
            <a:avLst>
              <a:gd name="adj" fmla="val 16667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SECT and EXCEPT: not in SQL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3408-F8EC-49E4-B5B7-DF1FEC7E480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Quantif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2240" y="2057400"/>
            <a:ext cx="441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 pname,  price, compa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( cname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8840" y="3352680"/>
            <a:ext cx="77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companies that mak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s with price &l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7480" y="4648320"/>
            <a:ext cx="751896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 DISTIN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Company.c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Company, 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Company.cname = Product.company and Product.price &lt;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43240" y="5884920"/>
            <a:ext cx="364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Existential: easy  ! </a:t>
            </a:r>
            <a:r>
              <a:rPr b="0" lang="en-US" sz="3200" spc="-1" strike="noStrike">
                <a:solidFill>
                  <a:srgbClr val="ff505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F262-183F-4EC5-B2CD-6319CECB4B3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Quantif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2240" y="2057400"/>
            <a:ext cx="441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 pname,  price, compa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( cname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0400" y="4495680"/>
            <a:ext cx="753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companies s.t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ir products have price &l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62920" y="5562720"/>
            <a:ext cx="34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Universal: hard !  </a:t>
            </a:r>
            <a:r>
              <a:rPr b="0" lang="en-US" sz="3200" spc="-1" strike="noStrike">
                <a:solidFill>
                  <a:srgbClr val="ff5050"/>
                </a:solidFill>
                <a:latin typeface="Wingdings"/>
                <a:ea typeface="Wingdings"/>
              </a:rPr>
              <a:t>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1480" y="3276720"/>
            <a:ext cx="76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companies that mak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s with price &l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48360" y="3886200"/>
            <a:ext cx="12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447E-814F-4200-B221-2603F247899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queries (6.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gregations (6.4.3 – 6.4.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, examples, example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the entire chapter 6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6A2C-525A-4B20-9D11-8A3163F2C36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Quantif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3560" y="4343400"/>
            <a:ext cx="751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Find all companies s.t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ir products have price &l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7200" y="1828800"/>
            <a:ext cx="714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Fi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oth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ies: i.e. s.t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2480" y="2438280"/>
            <a:ext cx="651024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 DISTIN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Company.c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Company.cname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.compan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.price &gt;=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46280" y="4952880"/>
            <a:ext cx="708624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 DISTIN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Company.c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Company.cname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.compan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.price &gt;=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B61E-B855-4EA3-BB03-21170CD06E2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Group-by v.s. Nested 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26665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uthors who wrot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0 docum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empt 1: with nested qu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95040" y="4038480"/>
            <a:ext cx="716364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uthor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Auth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rote.ur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ro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uthor.login=Wrote.login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&gt;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56000" y="2666880"/>
            <a:ext cx="1713960" cy="1692360"/>
          </a:xfrm>
          <a:prstGeom prst="wedgeEllipseCallout">
            <a:avLst>
              <a:gd name="adj1" fmla="val -96847"/>
              <a:gd name="adj2" fmla="val 33300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0600" y="1447920"/>
            <a:ext cx="34315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uthor(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login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na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rote(login,ur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1A0B-2436-4134-9293-203EF434B3E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Group-by v.s. Nested 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ll authors who wrote at least 10 docum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empt 2: SQL style (with GROUP B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33120" y="3962520"/>
            <a:ext cx="500436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Author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Author, Wr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Author.login=Wrote.lo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uthor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ING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unt(wrote.url) &gt;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983280" y="3733920"/>
            <a:ext cx="1859400" cy="1692360"/>
          </a:xfrm>
          <a:prstGeom prst="wedgeEllipseCallout">
            <a:avLst>
              <a:gd name="adj1" fmla="val -93300"/>
              <a:gd name="adj2" fmla="val -34245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 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xp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98920" y="6137280"/>
            <a:ext cx="720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need for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utomatically from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EA21-60BE-4B6B-B341-2BBDAC808DC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Group-by v.s. Nested 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3429000"/>
            <a:ext cx="761076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uthors with vocabular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0000 wor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4440" y="4321080"/>
            <a:ext cx="87364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Author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Author, Wrote, Men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Author.login=Wrote.login AND Wrote.url=Mentions.u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uthor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ING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unt(distinct Mentions.word) &gt; 1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960" y="1676520"/>
            <a:ext cx="301680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hor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login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na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rote(login,ur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Mentions(url,wor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6B18-59C0-450E-835E-D53908F1028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wo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7240" y="2187720"/>
            <a:ext cx="458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ore(sid, sna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duct(pid, pname, price, s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9000" y="3886200"/>
            <a:ext cx="784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all stores that se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ts with price &gt; 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e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all stores s.t. all their products have price &gt; 1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C5CF-3B9E-4FAB-ADA1-DEFCD6E7254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56960" y="130320"/>
            <a:ext cx="455436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re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Store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tore.sid = Product.s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tore.sid, Store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 &lt; min(Product.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52600" y="4494240"/>
            <a:ext cx="578484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re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tore.sid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.s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.price &lt;= 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88280" y="2133720"/>
            <a:ext cx="8876880" cy="2288520"/>
            <a:chOff x="188280" y="2133720"/>
            <a:chExt cx="8876880" cy="2288520"/>
          </a:xfrm>
        </p:grpSpPr>
        <p:sp>
          <p:nvSpPr>
            <p:cNvPr id="144" name=""/>
            <p:cNvSpPr/>
            <p:nvPr/>
          </p:nvSpPr>
          <p:spPr>
            <a:xfrm>
              <a:off x="3087000" y="2133720"/>
              <a:ext cx="5978160" cy="228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SELEC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Store.n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FRO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Sto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WHER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100 &lt;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AL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SELEC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Product.pric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 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FRO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product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 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WHER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Store.sid = Product.sid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88280" y="2895480"/>
              <a:ext cx="273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lmost equivalent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5891760" y="699480"/>
            <a:ext cx="2279520" cy="652680"/>
          </a:xfrm>
          <a:prstGeom prst="wedgeEllipseCallout">
            <a:avLst>
              <a:gd name="adj1" fmla="val -104870"/>
              <a:gd name="adj2" fmla="val 69347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both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EECC-A935-4B27-996A-AE99A440448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6880" y="2187720"/>
            <a:ext cx="458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ore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sid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sna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duct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pid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pname, price, s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4760" y="3886200"/>
            <a:ext cx="464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store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its most expensive 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4FA8-FBF4-4418-9440-BEEBFA6E972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27320" y="1905120"/>
            <a:ext cx="53928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re.sname, max(Product.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Store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tore.sid = Product.s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tore.sid, Store.s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11720" y="3962520"/>
            <a:ext cx="586692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re.sname, x.p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Store, Produc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tore.sid = x.sid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.price &gt;=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.pri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 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re.sid = y.s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7520" y="1523880"/>
            <a:ext cx="529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easy but doesn’t do what we wa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2760" y="3699000"/>
            <a:ext cx="10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4724280"/>
            <a:ext cx="1969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ma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 nam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F529-5FD2-4042-98A3-7487508EBE4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8920" y="2743200"/>
            <a:ext cx="5866920" cy="30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re.sname, max(x.p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Store, Produc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tore.sid = x.sid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.price &gt;=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.pri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 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re.sid = y.sid)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re.s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87520" y="1565280"/>
            <a:ext cx="676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ly, choose some pid arbitrarily, if there are man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highest pri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C23F-444B-40FA-A7D2-4EBF1EA3AA7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87600" y="1905120"/>
            <a:ext cx="29516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unt(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year &gt; 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08640" y="5562720"/>
            <a:ext cx="70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pt count, all aggregations apply to a single 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15240" y="1905120"/>
            <a:ext cx="35622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vg(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maker=“Toyot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3280" y="3657600"/>
            <a:ext cx="576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supports several aggregation oper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, count, min, max, av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8C55-1D03-4A18-9557-486DE932AE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14800" y="1946160"/>
            <a:ext cx="70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   applies to duplicates, unless otherwise stat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4880" y="2819520"/>
            <a:ext cx="35258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unt(category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year &gt; 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96040" y="2743200"/>
            <a:ext cx="23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as Count(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560" y="4343400"/>
            <a:ext cx="25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probably wa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92280" y="5029200"/>
            <a:ext cx="49125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unt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teg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year &gt; 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ion: Cou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0E3D-376E-4921-8E79-6A0CD2AD274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29920" y="1981080"/>
            <a:ext cx="49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product, date, price,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6440" y="3352680"/>
            <a:ext cx="41295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um(price *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0120" y="5029200"/>
            <a:ext cx="41295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um(price *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 = ‘bagel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41240" y="4024080"/>
            <a:ext cx="2341440" cy="116676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mea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88CE-747B-4168-B0C5-6050A4592A0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Aggreg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200" y="1197000"/>
            <a:ext cx="165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urch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990720" y="1905120"/>
          <a:ext cx="6476760" cy="2895480"/>
        </p:xfrm>
        <a:graphic>
          <a:graphicData uri="http://schemas.openxmlformats.org/drawingml/2006/table">
            <a:tbl>
              <a:tblPr/>
              <a:tblGrid>
                <a:gridCol w="1619280"/>
                <a:gridCol w="1618920"/>
                <a:gridCol w="1619280"/>
                <a:gridCol w="1619280"/>
              </a:tblGrid>
              <a:tr h="57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u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Quant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g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n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n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g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461520" y="5181480"/>
            <a:ext cx="41295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um(price *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 = ‘bagel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029200" y="5562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629760" y="5562720"/>
            <a:ext cx="18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  (= 20+3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2A3E-395B-4E08-A908-853524ADA4A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ouping and 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5480" y="1641600"/>
            <a:ext cx="49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product, date, price,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6040" y="3733920"/>
            <a:ext cx="73494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duct, Sum(price*quantity) AS Total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date &gt; ‘10/1/2005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49760" y="5985000"/>
            <a:ext cx="362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’s see what this mean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3960" y="2590920"/>
            <a:ext cx="553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otal sales after 10/1/2005 per produ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C99E-B6DD-4897-B96C-B42B46F250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ouping and 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76920" y="2209680"/>
            <a:ext cx="8436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Compute th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u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Group by the attributes in th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Compute th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use: grouped attributes and aggreg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BB00-7771-4F74-8A8C-EFC304EDB01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&amp;2. FROM-WHERE-GROUPB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066680" y="2438280"/>
          <a:ext cx="6477120" cy="2894040"/>
        </p:xfrm>
        <a:graphic>
          <a:graphicData uri="http://schemas.openxmlformats.org/drawingml/2006/table">
            <a:tbl>
              <a:tblPr/>
              <a:tblGrid>
                <a:gridCol w="1619280"/>
                <a:gridCol w="1619280"/>
                <a:gridCol w="1619280"/>
                <a:gridCol w="1619280"/>
              </a:tblGrid>
              <a:tr h="57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u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Quant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g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g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n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n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DCC4-534F-44E3-90FA-6B934E34AC5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Dan Suciu</dc:creator>
  <dc:description/>
  <dc:language>en-US</dc:language>
  <cp:lastModifiedBy>Dan Suciu</cp:lastModifiedBy>
  <dcterms:modified xsi:type="dcterms:W3CDTF">2007-03-30T01:12:10Z</dcterms:modified>
  <cp:revision>329</cp:revision>
  <dc:subject/>
  <dc:title>PowerPoint Presentation</dc:title>
</cp:coreProperties>
</file>