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FB2-AA0E-48FF-808E-6109175D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CCEE-B0EF-41D4-9046-382A9D66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5157-6611-45EA-B9DF-F312A8F3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1CE-239B-4DE2-A083-262674F6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C8C-07F6-40F1-AC56-E85669C0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05DA-ADA5-4943-805E-0083974A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961-F479-4ED6-9D30-DC5DF514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0E1-2385-40CE-A71E-C7D2BE0D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3B9-1452-48CC-8D3C-254E3CCD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4E8-946A-47F2-88AB-80B9811A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673-F784-4E4C-9621-95AFD68B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36F7-BEE1-4AEE-91F6-B0888204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8B6F-18E7-4079-A623-CCE39036B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2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March 28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8092-5C20-4CE3-95B3-C8464E7DB9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2160" y="2666880"/>
            <a:ext cx="686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orm: (plus many many more bells and whist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01040" y="3957480"/>
            <a:ext cx="4449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attribut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one or more rela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condi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A8C-A9EC-420F-943B-20A6BFBF5A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233280" y="3809880"/>
            <a:ext cx="3919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340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76720" y="5257800"/>
          <a:ext cx="541008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2160" y="5852160"/>
            <a:ext cx="2175120" cy="6498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F8F-6F09-4385-A582-3B89E0D840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32560" y="3809880"/>
            <a:ext cx="5018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340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14800" y="5257800"/>
          <a:ext cx="405756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45600" y="5319000"/>
            <a:ext cx="290628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9AF-213D-4642-9A01-A5C438788E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4960" y="3200400"/>
            <a:ext cx="49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525780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swer(PName, Price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10360" y="1752480"/>
            <a:ext cx="2653560" cy="652680"/>
          </a:xfrm>
          <a:prstGeom prst="wedgeEllipseCallout">
            <a:avLst>
              <a:gd name="adj1" fmla="val -37972"/>
              <a:gd name="adj2" fmla="val 1689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52840" y="6019920"/>
            <a:ext cx="2941560" cy="652680"/>
          </a:xfrm>
          <a:prstGeom prst="wedgeEllipseCallout">
            <a:avLst>
              <a:gd name="adj1" fmla="val 20055"/>
              <a:gd name="adj2" fmla="val -10347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560" y="3809880"/>
            <a:ext cx="5018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D63-1825-4E6B-925C-C922AF702C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insensi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: SELECT  Select  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: Product  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: ‘Seattle’  ‘seattl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’  -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” -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9525-1D40-46ED-A5C8-B4040552F3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:  pattern matching on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may contain two special symb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 = any sequence of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  = any single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6640" y="1981080"/>
            <a:ext cx="55317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Product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‘%gizmo%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9B16-E38E-4C38-99FA-47802B760A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9320" y="2133720"/>
            <a:ext cx="403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4560" y="4876920"/>
            <a:ext cx="2576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324480" y="4343400"/>
          <a:ext cx="1352520" cy="167472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248520" y="1905120"/>
          <a:ext cx="1352520" cy="13395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353-C222-418B-9353-9B4F26CC3F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5720" y="2133720"/>
            <a:ext cx="5734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izmo’ AND 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8120" y="4079880"/>
            <a:ext cx="84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s are broken by the second attribute on the ORDER BY lis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ing is ascending, unless you specify the DESC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C3ED-D389-4A98-AF8B-A69D04281B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9520" y="3772080"/>
            <a:ext cx="2759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429000" y="228600"/>
          <a:ext cx="5410080" cy="167472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510552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3120" y="22096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440" y="213372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440" y="541008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4114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9440" y="36576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571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9440" y="52578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F03-E164-4009-B932-00BC297DCD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and Foreign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4724280"/>
          <a:ext cx="6324480" cy="1825560"/>
        </p:xfrm>
        <a:graphic>
          <a:graphicData uri="http://schemas.openxmlformats.org/drawingml/2006/table">
            <a:tbl>
              <a:tblPr/>
              <a:tblGrid>
                <a:gridCol w="1638360"/>
                <a:gridCol w="1257120"/>
                <a:gridCol w="1676520"/>
                <a:gridCol w="17524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305640" y="41940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2000" y="16034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3880" y="2133720"/>
          <a:ext cx="4419720" cy="1930320"/>
        </p:xfrm>
        <a:graphic>
          <a:graphicData uri="http://schemas.openxmlformats.org/drawingml/2006/table">
            <a:tbl>
              <a:tblPr/>
              <a:tblGrid>
                <a:gridCol w="1600200"/>
                <a:gridCol w="1371600"/>
                <a:gridCol w="144792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96920" y="2650320"/>
            <a:ext cx="977760" cy="652680"/>
          </a:xfrm>
          <a:prstGeom prst="wedgeEllipseCallout">
            <a:avLst>
              <a:gd name="adj1" fmla="val 108444"/>
              <a:gd name="adj2" fmla="val -9988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27880" y="4600080"/>
            <a:ext cx="1605240" cy="1172520"/>
          </a:xfrm>
          <a:prstGeom prst="wedgeEllipseCallout">
            <a:avLst>
              <a:gd name="adj1" fmla="val -111476"/>
              <a:gd name="adj2" fmla="val -2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B35-578D-4B58-8BD7-BA5EACC2CF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1 is out. Due: Fri., April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login on IPROJSRV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change your passwor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subscribe to CSE444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read today’s reading assignmen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2E9-952D-4D51-8687-E33892D1C6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under $200 manufactured in Japa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heir names and pr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7320" y="4191120"/>
            <a:ext cx="71395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38280" y="3200400"/>
            <a:ext cx="6395040" cy="2209680"/>
            <a:chOff x="2438280" y="3200400"/>
            <a:chExt cx="6395040" cy="2209680"/>
          </a:xfrm>
        </p:grpSpPr>
        <p:sp>
          <p:nvSpPr>
            <p:cNvPr id="126" name=""/>
            <p:cNvSpPr/>
            <p:nvPr/>
          </p:nvSpPr>
          <p:spPr>
            <a:xfrm>
              <a:off x="2438280" y="4876920"/>
              <a:ext cx="2743200" cy="5331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75040" y="3200400"/>
              <a:ext cx="3158280" cy="1692360"/>
            </a:xfrm>
            <a:prstGeom prst="wedgeEllipseCallout">
              <a:avLst>
                <a:gd name="adj1" fmla="val -77064"/>
                <a:gd name="adj2" fmla="val 55060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oi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ween Produ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98E-CEC4-468C-BF93-D24745E536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3028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33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37" name=""/>
          <p:cNvGraphicFramePr/>
          <p:nvPr/>
        </p:nvGraphicFramePr>
        <p:xfrm>
          <a:off x="6019920" y="5257800"/>
          <a:ext cx="1904760" cy="546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219320" y="2362320"/>
            <a:ext cx="7619760" cy="1066680"/>
            <a:chOff x="1219320" y="2362320"/>
            <a:chExt cx="7619760" cy="1066680"/>
          </a:xfrm>
        </p:grpSpPr>
        <p:sp>
          <p:nvSpPr>
            <p:cNvPr id="140" name=""/>
            <p:cNvSpPr/>
            <p:nvPr/>
          </p:nvSpPr>
          <p:spPr>
            <a:xfrm>
              <a:off x="7772400" y="2666880"/>
              <a:ext cx="1066680" cy="7621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2362320"/>
              <a:ext cx="83808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1134400">
              <a:off x="3346200" y="2746080"/>
              <a:ext cx="29718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77400" y="4419720"/>
            <a:ext cx="5406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E8D-3478-421A-A112-5D5965DB10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hinese companies that manufacture products both in the ‘electronic’ and ‘toy’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5640" y="4191120"/>
            <a:ext cx="71301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nam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372-5845-468C-8B1F-15C90BE20C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ubtlety about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untries that manufacture some product in the ‘Gadgets’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1680" y="4191120"/>
            <a:ext cx="7563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413-F565-4B52-93C7-914AAD9674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ubtlety about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3028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57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2209680" y="2438280"/>
            <a:ext cx="76212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553080" y="5181480"/>
          <a:ext cx="1270080" cy="1092240"/>
        </p:xfrm>
        <a:graphic>
          <a:graphicData uri="http://schemas.openxmlformats.org/drawingml/2006/table">
            <a:tbl>
              <a:tblPr/>
              <a:tblGrid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1440" y="5524200"/>
            <a:ext cx="2238120" cy="8643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1360" y="3962520"/>
            <a:ext cx="50878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AC6-A01C-4C2D-8A7A-A412D8DE0F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ubtlety about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028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71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2209680" y="2438280"/>
            <a:ext cx="76212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553080" y="5181480"/>
          <a:ext cx="1270080" cy="819360"/>
        </p:xfrm>
        <a:graphic>
          <a:graphicData uri="http://schemas.openxmlformats.org/drawingml/2006/table">
            <a:tbl>
              <a:tblPr/>
              <a:tblGrid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575640" y="5340240"/>
            <a:ext cx="2004840" cy="123048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plicat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’s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1360" y="3962520"/>
            <a:ext cx="50878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0D5B-B657-4995-B5F7-0DB155DEF7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73160" y="2819520"/>
            <a:ext cx="4870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for = 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62360" y="2360520"/>
            <a:ext cx="1859400" cy="1172520"/>
          </a:xfrm>
          <a:prstGeom prst="wedgeEllipseCallout">
            <a:avLst>
              <a:gd name="adj1" fmla="val -78587"/>
              <a:gd name="adj2" fmla="val 10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6000" y="1752480"/>
            <a:ext cx="504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address, worksfo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33520" y="4152960"/>
            <a:ext cx="8339760" cy="1191240"/>
            <a:chOff x="533520" y="4152960"/>
            <a:chExt cx="8339760" cy="1191240"/>
          </a:xfrm>
        </p:grpSpPr>
        <p:sp>
          <p:nvSpPr>
            <p:cNvPr id="185" name=""/>
            <p:cNvSpPr/>
            <p:nvPr/>
          </p:nvSpPr>
          <p:spPr>
            <a:xfrm>
              <a:off x="1834560" y="4152960"/>
              <a:ext cx="70387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ISTIN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erson.pname, Company.address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Person, Company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.worksfor = Company.c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46483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33520" y="5486400"/>
            <a:ext cx="6629040" cy="1191240"/>
            <a:chOff x="533520" y="5486400"/>
            <a:chExt cx="6629040" cy="1191240"/>
          </a:xfrm>
        </p:grpSpPr>
        <p:sp>
          <p:nvSpPr>
            <p:cNvPr id="188" name=""/>
            <p:cNvSpPr/>
            <p:nvPr/>
          </p:nvSpPr>
          <p:spPr>
            <a:xfrm>
              <a:off x="1835280" y="5486400"/>
              <a:ext cx="532728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ISTIN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x.pname, y.address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Person AS x, Company AS y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.worksfor = y.c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3520" y="56865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F2A-B7E9-46AF-8058-D6B8D259DB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5430600" cy="11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9400" y="3505320"/>
            <a:ext cx="7746120" cy="290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D95-130C-4E7D-B267-73FB88804D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067120" y="2743200"/>
            <a:ext cx="4658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, S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Unintuitive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07560" y="5562720"/>
            <a:ext cx="6540120" cy="459720"/>
            <a:chOff x="907560" y="5562720"/>
            <a:chExt cx="6540120" cy="459720"/>
          </a:xfrm>
        </p:grpSpPr>
        <p:sp>
          <p:nvSpPr>
            <p:cNvPr id="196" name=""/>
            <p:cNvSpPr/>
            <p:nvPr/>
          </p:nvSpPr>
          <p:spPr>
            <a:xfrm>
              <a:off x="907560" y="5562720"/>
              <a:ext cx="30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utes 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S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3600" y="5562720"/>
              <a:ext cx="24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ut what if S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912400" y="447192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it compu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A34-BEA6-4279-9C75-CF34574C13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3080" y="3886200"/>
            <a:ext cx="75189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 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pname=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urchase .buyer = ‘Joe Blow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6400" y="2971800"/>
            <a:ext cx="773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cities where one can find companies that manufact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bought by Joe B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560" y="1600200"/>
            <a:ext cx="42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city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make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urchas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product, buy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9BE-5DBE-4E26-8BA0-5C3510443B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Queries in SQL (6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with more than one relation (6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C56-90EE-4F7D-A1CD-40B6292FE8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9960" y="3102120"/>
            <a:ext cx="6409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p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5520" y="20224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equivalent to th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4920" y="586728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eware of duplicat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3BC-7A2D-4AF9-B332-EB3EA20CB39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560" y="4800600"/>
            <a:ext cx="14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3080" y="1676520"/>
            <a:ext cx="75189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 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pname=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urchase .buyer = ‘Joe Blow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0480" y="4648320"/>
            <a:ext cx="6409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p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6C0-C18D-488A-984A-AA925E51D07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5720" y="4572000"/>
            <a:ext cx="7452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 &gt;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‘Gizmo-Work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4440" y="312408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that are more expensive than all thos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“Gizmo-Work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0600" y="190512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so use:   s &gt; ALL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&gt; ANY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CAA-6B42-4175-B6F9-5DEAFE732B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for Database Fa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ir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express this query as a single SELECT-FROM-WHERE query, without subquer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686-9DC4-439A-9092-098488442C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otone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ery Q i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monot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ever we add tuples to one or more of the tabl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swer to the query cannot contain fewer tu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:  all SFW (select-from-where) queries are monot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: A query with ALL is not mono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: we cannot rewrite an ALL query into a S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6DA-2D96-4657-A1B5-4177BF3F71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8520" y="3276720"/>
            <a:ext cx="55483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ovie A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 &lt;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tle =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tit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6240" y="1828800"/>
            <a:ext cx="64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vie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itle,  yea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director,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ovies whose title appears more than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6480" y="58672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(1) scope of variables (2) this can still be expressed as single S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34320" y="2438280"/>
            <a:ext cx="1523880" cy="762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495680" y="28954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866920" y="320040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453-EEAB-4644-AC77-D713110D0CF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Correla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,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(and their manufacturers) that are more expensive than all products made by the same manufacturer before 19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Very powerful ! Also much harder to optim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360" y="3505320"/>
            <a:ext cx="795492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name,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A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 &g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Product A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.maker = y.maker AND y.year &lt; 197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A57-F7E0-46B5-BAD3-C94AE96F013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720" y="1717560"/>
            <a:ext cx="68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anguage for querying and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ctured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ry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6880" y="3200400"/>
            <a:ext cx="88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tandards out the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I SQL,  SQL92 (a.k.a. SQL2),  SQL99 (a.k.a. SQL3),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s support various subsets: watch for fun discussions in clas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4C8-30A7-4A8F-BF52-DF1EC368F9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Definition Language (D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/alter/delete tables and their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lectur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anipulation Language (D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one or more tables – discussed next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/delete/modify tuples in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A05-7C20-4CFD-BF8D-BA78A23B10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143000" y="2209680"/>
          <a:ext cx="7696080" cy="355572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610200" y="16765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01120" y="304920"/>
            <a:ext cx="3041280" cy="652680"/>
          </a:xfrm>
          <a:prstGeom prst="wedgeEllipseCallout">
            <a:avLst>
              <a:gd name="adj1" fmla="val 546"/>
              <a:gd name="adj2" fmla="val 2791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8520" y="228600"/>
            <a:ext cx="2292120" cy="652680"/>
          </a:xfrm>
          <a:prstGeom prst="wedgeEllipseCallout">
            <a:avLst>
              <a:gd name="adj1" fmla="val -22365"/>
              <a:gd name="adj2" fmla="val 19839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480" y="6095880"/>
            <a:ext cx="2856960" cy="652680"/>
          </a:xfrm>
          <a:prstGeom prst="wedgeEllipseCallout">
            <a:avLst>
              <a:gd name="adj1" fmla="val -1861"/>
              <a:gd name="adj2" fmla="val -11681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or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71A-CE4B-4E7F-BC26-8E5EE792BB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table is the table name and its attrib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PName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attribute whose values are uniqu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nderlin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4063-61C7-4A55-B10E-1F87E6F7B0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CHAR(20), VARCHAR(5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 INT, BIGINT, SMALLINT, FL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: MONEY, DATETIME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attribute must have an atomic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tables are f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C23-84EF-4128-9138-9B8FE0C38A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uple = a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: all attributes are of atomic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ble = a set of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 lis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t is unorderd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97F-70EA-40D8-B85D-A52E9E0E1C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Thach Nguyen</cp:lastModifiedBy>
  <dcterms:modified xsi:type="dcterms:W3CDTF">2007-03-28T04:07:43Z</dcterms:modified>
  <cp:revision>254</cp:revision>
  <dc:subject/>
  <dc:title>PowerPoint Presentation</dc:title>
</cp:coreProperties>
</file>