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988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8880" y="0"/>
            <a:ext cx="29988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2080" y="70128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53040" cy="412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02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8880" y="8802360"/>
            <a:ext cx="29988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8BD2DA0-82D8-423E-BC88-C3138A549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62080" y="70164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53040" cy="412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ff"/>
                </a:solidFill>
                <a:latin typeface="Courier New"/>
              </a:rPr>
              <a:t>select 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ff"/>
                </a:solidFill>
                <a:latin typeface="Courier New"/>
              </a:rPr>
              <a:t>from Actor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, </a:t>
            </a:r>
            <a:r>
              <a:rPr b="0" sz="1200" spc="-1" strike="noStrike">
                <a:solidFill>
                  <a:srgbClr val="ff00ff"/>
                </a:solidFill>
                <a:latin typeface="Courier New"/>
              </a:rPr>
              <a:t>Cast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,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ff"/>
                </a:solidFill>
                <a:latin typeface="Courier New"/>
              </a:rPr>
              <a:t>where lname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=</a:t>
            </a:r>
            <a:r>
              <a:rPr b="0" sz="1200" spc="-1" strike="noStrike">
                <a:solidFill>
                  <a:srgbClr val="ff0000"/>
                </a:solidFill>
                <a:latin typeface="Courier New"/>
              </a:rPr>
              <a:t>'Hanks' 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and Actor.id = </a:t>
            </a:r>
            <a:r>
              <a:rPr b="0" sz="1200" spc="-1" strike="noStrike">
                <a:solidFill>
                  <a:srgbClr val="ff00ff"/>
                </a:solidFill>
                <a:latin typeface="Courier New"/>
              </a:rPr>
              <a:t>Cast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.p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and </a:t>
            </a:r>
            <a:r>
              <a:rPr b="0" sz="1200" spc="-1" strike="noStrike">
                <a:solidFill>
                  <a:srgbClr val="ff00ff"/>
                </a:solidFill>
                <a:latin typeface="Courier New"/>
              </a:rPr>
              <a:t>Cast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.mid=Movie.id and Movie.</a:t>
            </a:r>
            <a:r>
              <a:rPr b="0" sz="1200" spc="-1" strike="noStrike">
                <a:solidFill>
                  <a:srgbClr val="ff00ff"/>
                </a:solidFill>
                <a:latin typeface="Courier New"/>
              </a:rPr>
              <a:t>year</a:t>
            </a:r>
            <a:r>
              <a:rPr b="0" sz="1200" spc="-1" strike="noStrike">
                <a:solidFill>
                  <a:srgbClr val="808080"/>
                </a:solidFill>
                <a:latin typeface="Courier New"/>
              </a:rPr>
              <a:t>=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62080" y="70164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53040" cy="412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ML = “Data Manipulation Langua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DL = “Data Definition Langua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27A6-944C-42B5-A993-500BDDE4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9B4-74C1-4871-99CC-56714C2D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FB32-2F2E-4B6A-9379-62BC3035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5610-4EFA-4238-B631-CA5DB56E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7579-158D-4B80-BBE8-0D0CA339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0F5D-954B-46E7-8DA6-6B593A20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610-DC75-4436-BACA-220E12E6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606E-9613-4DC4-B7F8-39EB4906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4D5-41A7-40A7-AA19-83B83460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A75-F800-4305-B75B-6A4CB578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112-778E-4551-AADB-95FC720C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B6F9-6C95-40EF-9968-358D2393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CA6E-F924-4369-A152-B83707B72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s.washington.edu/444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4920" y="3733920"/>
            <a:ext cx="72392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26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AF9-DC1B-4851-A273-98D02E1EAE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Managemen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BM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xamples of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6E35-5A9C-4AA1-B5CE-072949E0A5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Managemen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DBM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big C program written by someone else that allows us to manage efficiently a large database and allows it to persist over long periods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examples of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2 (IBM), SQL Server (MS), Oracle, S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SQL, Postgr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47A-C906-4DC7-8266-BFAF4D7161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 Sh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2004 www.computerworld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B: 35% market with $2.5BN in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cle: 33% market with $2.3BN in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: 19% market with $1.3BN in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61F-413C-4995-8F68-14EA01F0A0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net Movie Datab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imdb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i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ors (800k), Movies (400k), Directors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played where, who directed what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755-DCB8-4EAA-AA05-6CE6EE2106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981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36680" y="198108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_Dir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760" y="36576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3520" y="2438280"/>
          <a:ext cx="4495680" cy="119700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24452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is F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p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133720" y="3886200"/>
          <a:ext cx="4876560" cy="119700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62540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God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486400" y="2438280"/>
          <a:ext cx="3251160" cy="119700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957-7907-4728-9534-C2BB4C6619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 Database Systems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/store large data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/query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access to many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 from cra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E24-4FA8-4F95-829B-3C2139A4DA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ible Organ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4B8-A466-4515-8EA1-8B2AB8A2CF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e/store Large Data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84640" y="1812240"/>
            <a:ext cx="2134080" cy="652680"/>
          </a:xfrm>
          <a:prstGeom prst="wedgeEllipseCallout">
            <a:avLst>
              <a:gd name="adj1" fmla="val -99180"/>
              <a:gd name="adj2" fmla="val 65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bu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89720" y="3259800"/>
            <a:ext cx="2436840" cy="652680"/>
          </a:xfrm>
          <a:prstGeom prst="wedgeEllipseCallout">
            <a:avLst>
              <a:gd name="adj1" fmla="val -90944"/>
              <a:gd name="adj2" fmla="val 4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real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87520" y="4326840"/>
            <a:ext cx="929880" cy="652680"/>
          </a:xfrm>
          <a:prstGeom prst="wedgeEllipseCallout">
            <a:avLst>
              <a:gd name="adj1" fmla="val -80995"/>
              <a:gd name="adj2" fmla="val 5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657-7CF4-4C84-AAE2-02A8626BBA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Search/Query/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54880" y="1552320"/>
            <a:ext cx="4139280" cy="1172520"/>
          </a:xfrm>
          <a:prstGeom prst="wedgeEllipseCallout">
            <a:avLst>
              <a:gd name="adj1" fmla="val -100375"/>
              <a:gd name="adj2" fmla="val 67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queries (grep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s are 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25480" y="2999880"/>
            <a:ext cx="2970000" cy="1172520"/>
          </a:xfrm>
          <a:prstGeom prst="wedgeEllipseCallout">
            <a:avLst>
              <a:gd name="adj1" fmla="val -91314"/>
              <a:gd name="adj2" fmla="val 49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queries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46920" y="4326840"/>
            <a:ext cx="810720" cy="652680"/>
          </a:xfrm>
          <a:prstGeom prst="wedgeEllipseCallout">
            <a:avLst>
              <a:gd name="adj1" fmla="val -79912"/>
              <a:gd name="adj2" fmla="val 5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594360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s: generally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6AD-5BE3-48B6-A718-40AE4DA004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Change th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94240" y="2878920"/>
            <a:ext cx="2002320" cy="652680"/>
          </a:xfrm>
          <a:prstGeom prst="wedgeEllipseCallout">
            <a:avLst>
              <a:gd name="adj1" fmla="val -109013"/>
              <a:gd name="adj2" fmla="val -46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85840" y="4326840"/>
            <a:ext cx="929880" cy="652680"/>
          </a:xfrm>
          <a:prstGeom prst="wedgeEllipseCallout">
            <a:avLst>
              <a:gd name="adj1" fmla="val -88699"/>
              <a:gd name="adj2" fmla="val -67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33400" y="5393520"/>
            <a:ext cx="929880" cy="652680"/>
          </a:xfrm>
          <a:prstGeom prst="wedgeEllipseCallout">
            <a:avLst>
              <a:gd name="adj1" fmla="val -264703"/>
              <a:gd name="adj2" fmla="val 1681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A18-FCF3-476B-8A72-7A0C85558B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ut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 Suci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ed the department in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that: Bell Labs, AT&amp;T 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: XML and semi-structured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language: XML-QL (later XQue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or: X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: XPath containment, XML type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: Probabilistic databases: Myst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5BB4-4A8D-4EA7-8CFE-CF82F0F5A7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Concurrent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users access/update the data concurr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go wrong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protect against that in 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insufficient in databases; wh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18600" y="2820240"/>
            <a:ext cx="4812120" cy="496440"/>
          </a:xfrm>
          <a:prstGeom prst="wedgeRoundRectCallout">
            <a:avLst>
              <a:gd name="adj1" fmla="val -35773"/>
              <a:gd name="adj2" fmla="val 139129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updates; inconsistent reads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4680" y="4115880"/>
            <a:ext cx="891000" cy="496440"/>
          </a:xfrm>
          <a:prstGeom prst="wedgeRoundRectCallout">
            <a:avLst>
              <a:gd name="adj1" fmla="val -101611"/>
              <a:gd name="adj2" fmla="val -4856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55160" y="5747040"/>
            <a:ext cx="3429000" cy="891000"/>
          </a:xfrm>
          <a:prstGeom prst="wedgeRoundRectCallout">
            <a:avLst>
              <a:gd name="adj1" fmla="val -38884"/>
              <a:gd name="adj2" fmla="val -91675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gical action consis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ultiple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CAF-770E-4C8A-8A99-3D13308E42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Recover from cr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 $100 from account #4662 to #7199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819520"/>
            <a:ext cx="4405320" cy="2460960"/>
          </a:xfrm>
          <a:prstGeom prst="foldedCorner">
            <a:avLst>
              <a:gd name="adj" fmla="val 1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Read(Account, #466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.amount = X.amount - 10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(Account, #4662, X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Read(Account, #719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.amount = Y.amount + 10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(Account, #7199, 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25760" y="3505320"/>
            <a:ext cx="1949760" cy="652680"/>
          </a:xfrm>
          <a:prstGeom prst="wedgeEllipseCallout">
            <a:avLst>
              <a:gd name="adj1" fmla="val -78407"/>
              <a:gd name="adj2" fmla="val -93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7480" y="617220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robl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C4D8-0996-4641-A856-FABB09A52A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76640" y="2085480"/>
            <a:ext cx="2703600" cy="1172520"/>
          </a:xfrm>
          <a:prstGeom prst="wedgeEllipseCallout">
            <a:avLst>
              <a:gd name="adj1" fmla="val -111453"/>
              <a:gd name="adj2" fmla="val 31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31640" y="3793320"/>
            <a:ext cx="1811520" cy="652680"/>
          </a:xfrm>
          <a:prstGeom prst="wedgeEllipseCallout">
            <a:avLst>
              <a:gd name="adj1" fmla="val -91601"/>
              <a:gd name="adj2" fmla="val -67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[?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22960" y="4935240"/>
            <a:ext cx="3656160" cy="1172520"/>
          </a:xfrm>
          <a:prstGeom prst="wedgeEllipseCallout">
            <a:avLst>
              <a:gd name="adj1" fmla="val -94842"/>
              <a:gd name="adj2" fmla="val -120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/attribut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acc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30EE-4D09-40C1-987B-9228F8B051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2438280"/>
            <a:ext cx="2895840" cy="2971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ers a DM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6668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35812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57200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4160" y="6019920"/>
            <a:ext cx="1932840" cy="652680"/>
          </a:xfrm>
          <a:prstGeom prst="wedgeEllipseCallout">
            <a:avLst>
              <a:gd name="adj1" fmla="val -171"/>
              <a:gd name="adj2" fmla="val -11901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03960" y="5105520"/>
            <a:ext cx="3041280" cy="1692360"/>
          </a:xfrm>
          <a:prstGeom prst="wedgeEllipseCallout">
            <a:avLst>
              <a:gd name="adj1" fmla="val -29148"/>
              <a:gd name="adj2" fmla="val -5633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erv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meone else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13840" y="5943600"/>
            <a:ext cx="2474280" cy="652680"/>
          </a:xfrm>
          <a:prstGeom prst="wedgeEllipseCallout">
            <a:avLst>
              <a:gd name="adj1" fmla="val -8685"/>
              <a:gd name="adj2" fmla="val -8809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81280" y="2742840"/>
            <a:ext cx="2819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3886200"/>
            <a:ext cx="2743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4572000"/>
            <a:ext cx="2895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8040" y="3429000"/>
            <a:ext cx="2125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BC, JDB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1880" y="167652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ier system” or “client-serv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4BA-109B-407E-A374-A3076E1EFE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Indepe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981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36680" y="198108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_Dir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760" y="36576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33520" y="2438280"/>
          <a:ext cx="4495680" cy="119700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24452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is F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p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133720" y="3886200"/>
          <a:ext cx="4876560" cy="119700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62540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God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486400" y="2438280"/>
          <a:ext cx="3251160" cy="119700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6837120" y="1365840"/>
            <a:ext cx="2095560" cy="5288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533412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1480" y="5541840"/>
            <a:ext cx="201204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s_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0760" y="6151680"/>
            <a:ext cx="384228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s_fname_index_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9200" y="5541840"/>
            <a:ext cx="347040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ws_title_index_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4840" y="6151680"/>
            <a:ext cx="172404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ies_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3920" y="6106320"/>
            <a:ext cx="2216160" cy="5288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E81D-E03D-46FC-B339-DEE6733FF8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 Database Systems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/store large data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/query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access to many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 from cra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8240" y="2210760"/>
            <a:ext cx="1628280" cy="496440"/>
          </a:xfrm>
          <a:prstGeom prst="wedgeRoundRectCallout">
            <a:avLst>
              <a:gd name="adj1" fmla="val -130013"/>
              <a:gd name="adj2" fmla="val 87314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D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7520" y="3160080"/>
            <a:ext cx="1572120" cy="496440"/>
          </a:xfrm>
          <a:prstGeom prst="wedgeRoundRectCallout">
            <a:avLst>
              <a:gd name="adj1" fmla="val -127472"/>
              <a:gd name="adj2" fmla="val 15287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D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31800" y="4115160"/>
            <a:ext cx="1880280" cy="891000"/>
          </a:xfrm>
          <a:prstGeom prst="wedgeRoundRectCallout">
            <a:avLst>
              <a:gd name="adj1" fmla="val -96476"/>
              <a:gd name="adj2" fmla="val -17611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0360" y="5792040"/>
            <a:ext cx="3030480" cy="496440"/>
          </a:xfrm>
          <a:prstGeom prst="wedgeRoundRectCallout">
            <a:avLst>
              <a:gd name="adj1" fmla="val -54203"/>
              <a:gd name="adj2" fmla="val -165430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, Revoke,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9A5-6E72-487F-82AE-CB80B60717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utline - TENTATIVE 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/26: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/2: SQL in C#; Database Design: E/R, 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/9: Views, Constraints,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/16: XML/XPath/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/23: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/30: Database storage, inde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/7:  Physical operators,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/14: Statistics, Database tu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/21: Advanced topics (or sl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1BA4-9C26-4076-9983-3F90C2F3B6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ing (TENTATIV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      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term     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         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angibles:  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66240" y="2649600"/>
            <a:ext cx="3058560" cy="652680"/>
          </a:xfrm>
          <a:prstGeom prst="wedgeEllipseCallout">
            <a:avLst>
              <a:gd name="adj1" fmla="val -93884"/>
              <a:gd name="adj2" fmla="val -70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ge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104-A487-4A0F-AE5E-D511E11D6A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ment for Wed, March 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 for Web Nerd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Philip Greenspun, http://philip.greenspun.com/sql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one-time assignment, no grading, B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ructive and lots of fun 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F9CF-42B5-4106-83E2-6478EC25937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Friday, April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posted already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ual design: E/R diagrams, Normal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Friday, April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/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Friday, May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s: concurrency control and re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Friday, May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C00E-54B0-43AD-843F-313A6A48BB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48376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or:  Dan Suc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en, Room 662, suciu@cs.washington.ed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:  Fridays 11:30-12:30 (appointment strongly recommend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 Thach Nguyen, ncthach@cs.washington.edu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: T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CB3-3093-4D4E-9DAE-7CAD052BF4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utique Online S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38320"/>
            <a:ext cx="830592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a Database Schema, Build Related Data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Friday, April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 data, Web Inventory Data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Friday, April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out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Friday, May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 Tu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Friday, May 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DCE-4343-44B8-8BDE-B55F2D9610C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Server, C#, ASP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provide starter code in C#, ASP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mport data is in SQL/XML on SQ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technologies: MySQL, postgres, PH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supported (you are on your 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ry about the SQL/XML par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4BF2-586E-41A7-9D9F-4DB53E0806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SQL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Server Management 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Type = Database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Name = IPROJS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= SQL Serv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n = your UW email addres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CSE ema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word = 123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your password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lay with IMDB, start thinking about HW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75D-494A-4160-827F-1A6ED011031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cs.washington.edu/444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s will be availab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 will be posted here (HW1 is pos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description will b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ments, group discu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subscri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FE7-A51A-471C-95C1-FD6F070F74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book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textbook, available at the booksto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base Systems: The Complete 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ector Garcia-Molina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ffrey Ullma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nnifer Wi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7400" y="5562720"/>
            <a:ext cx="80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hapters are good.  Some are not (functional dependecies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TO CLASS !  ASK QUESTIONS ! READ SLID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FFAC-6678-4C41-9632-85222C2095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x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at the Engineering Library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reserv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base Managemen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amakrish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Query from the Expe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Katz,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damentals of Database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lmasri, Nav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ndations of Datab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biteboul, Hull, Vian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on the Web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iteboul, Buneman, Suc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5607-681E-4ADE-8725-499CBE8411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of Today’s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 through 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ment 1, Homework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DA0B-A73B-4F95-8BDF-34D2C66015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ataba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xamples of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73D-0800-4A45-9FA9-ACF40E01EB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ataba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files storing relat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xamples of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s database; payroll database; UW’s students database; Amazon’s products database; airline reservation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3E4-EEF5-4E37-BE62-28927DC1CE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1T22:48:26Z</dcterms:created>
  <dc:creator>Dan Suciu</dc:creator>
  <dc:description/>
  <dc:language>en-US</dc:language>
  <cp:lastModifiedBy>Thach Nguyen</cp:lastModifiedBy>
  <cp:lastPrinted>1998-09-26T21:35:18Z</cp:lastPrinted>
  <dcterms:modified xsi:type="dcterms:W3CDTF">2007-03-26T04:32:40Z</dcterms:modified>
  <cp:revision>517</cp:revision>
  <dc:subject/>
  <dc:title>Introduction to Database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lecture1\lecture1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