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C98-22BE-4865-9ADF-2E99B6C9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558-E3DB-43AC-BDBC-378FF521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90C-8021-4602-ADD0-04B8C44C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63D-47EE-452E-B567-9BA2BC86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FAC9-753B-4F52-8986-CF8E31A7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4F76-B65F-4BF4-80F2-7075D9D9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088A-7699-45ED-93B8-2201E88A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B96C-45DD-489B-8675-67756F3C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C9CE-328B-496F-8814-7534BFDF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-7632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61B-8E00-4C00-B071-001747E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CA00-BF27-48E3-A08E-8D09540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E31-A91E-4A79-9798-DEFA57A8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44D3-E90D-4B3B-831C-29BA8B5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D0AB-F594-455F-A527-04A5DEFA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41E-8A50-4A1D-BC0E-1FCDF716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C4CD-EE91-4072-A7F5-4189D5CA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4B23-CBC4-4046-8D99-6BF29FA1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5CF-8D13-4BD5-A39D-AED69A2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30C-B36B-4720-916A-403762E6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04C-AE02-4BB1-9DD3-0CE2F745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-7632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ACF-C1DC-4857-ACD7-6D72578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BE3-54A7-4D89-AC67-6F63E123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87F-B8E6-44F6-8D57-66ACFBF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F4B-7A8F-4BEE-988D-29C8BCFE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8082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8082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2304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2304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1574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7002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4907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7B4-9588-48EA-9A6A-DCA14597A8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9146-9AC4-450A-B269-7417D34DF1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3.pct"/><Relationship Id="rId5" Type="http://schemas.openxmlformats.org/officeDocument/2006/relationships/image" Target="../media/image3.pct"/><Relationship Id="rId6" Type="http://schemas.openxmlformats.org/officeDocument/2006/relationships/image" Target="../media/image3.pct"/><Relationship Id="rId7" Type="http://schemas.openxmlformats.org/officeDocument/2006/relationships/image" Target="../media/image3.pct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3.pct"/><Relationship Id="rId5" Type="http://schemas.openxmlformats.org/officeDocument/2006/relationships/image" Target="../media/image3.pct"/><Relationship Id="rId6" Type="http://schemas.openxmlformats.org/officeDocument/2006/relationships/image" Target="../media/image3.pct"/><Relationship Id="rId7" Type="http://schemas.openxmlformats.org/officeDocument/2006/relationships/image" Target="../media/image3.pct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3.pct"/><Relationship Id="rId5" Type="http://schemas.openxmlformats.org/officeDocument/2006/relationships/image" Target="../media/image3.pct"/><Relationship Id="rId6" Type="http://schemas.openxmlformats.org/officeDocument/2006/relationships/image" Target="../media/image3.pct"/><Relationship Id="rId7" Type="http://schemas.openxmlformats.org/officeDocument/2006/relationships/image" Target="../media/image3.pct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Web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ael J. Cafare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ember 5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 Relev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search engines use hundreds of different clues for ra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 title, meta tags, bold text, text position on page, word frequency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ew are usually considered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fidf(t, d) = freq(t-in-d) / freq(t-in-corp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nalysis: link counting, PageRank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ancho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gains are now hard to f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ing to many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even the inverted index can handle billions of docs on a single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parallelize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by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by search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4520" y="4471200"/>
            <a:ext cx="4546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itn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-762120"/>
            <a:ext cx="7793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ing (2) doc segm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581280" y="5638680"/>
            <a:ext cx="1459080" cy="1105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648240" y="3809880"/>
            <a:ext cx="1304640" cy="689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1305000" cy="688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971720" y="1901880"/>
            <a:ext cx="1305000" cy="689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3800520" y="1905120"/>
            <a:ext cx="1305000" cy="688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705640" y="1905120"/>
            <a:ext cx="1304640" cy="688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7467480" y="1905120"/>
            <a:ext cx="1305000" cy="688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V="1">
            <a:off x="4572000" y="44953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914040" y="2590920"/>
            <a:ext cx="342900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2819160" y="259056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19720" y="2590560"/>
            <a:ext cx="38088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495680" y="2590560"/>
            <a:ext cx="22860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2590920"/>
            <a:ext cx="403848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520" y="1479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s 0-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43640" y="14619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s 1-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72440" y="14619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s 2-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7200" y="14619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s 3-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040" y="14619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s 4-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7345400">
            <a:off x="2516760" y="2380320"/>
            <a:ext cx="4546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itn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507600">
            <a:off x="3692160" y="2531520"/>
            <a:ext cx="4546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itn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1722200">
            <a:off x="4494960" y="2504520"/>
            <a:ext cx="4546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itn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4464800">
            <a:off x="6064560" y="2304720"/>
            <a:ext cx="4546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itn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5203400">
            <a:off x="7163280" y="2456640"/>
            <a:ext cx="4546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itn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2590920"/>
            <a:ext cx="388620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2590920"/>
            <a:ext cx="152388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25909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343400" y="2590920"/>
            <a:ext cx="190512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495680" y="2590920"/>
            <a:ext cx="381024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7227200">
            <a:off x="1253880" y="2633760"/>
            <a:ext cx="393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s 1,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8454200">
            <a:off x="2846520" y="2295360"/>
            <a:ext cx="39348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s 1.2M, 1.7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42080" y="2387880"/>
            <a:ext cx="39348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s 2.3M, 2.9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4104200">
            <a:off x="5435280" y="2412360"/>
            <a:ext cx="39348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s 3.1M, 3.2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5227400">
            <a:off x="6891840" y="2486160"/>
            <a:ext cx="39348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s 4.4M, 4.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4956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302360"/>
            <a:ext cx="3934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2M, 4.4M, 29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ing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by document, pros/c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partition (just MOD the doc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new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chine fails, quality goes down but queries don’t d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by term, pros/c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partition (terms unev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ier to add a new document (need to touch many mach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chine fails, search term might disappear, but not critical pages (e.g., yahoo.com/index.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Nu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arch engine is more than just the query system.  Simply obtaining the pages and constructing the index is a lot of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 rot="10800000">
            <a:off x="1828440" y="15228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66680" y="2362320"/>
            <a:ext cx="2057400" cy="1066320"/>
            <a:chOff x="1066680" y="2362320"/>
            <a:chExt cx="2057400" cy="1066320"/>
          </a:xfrm>
        </p:grpSpPr>
        <p:sp>
          <p:nvSpPr>
            <p:cNvPr id="247" name=""/>
            <p:cNvSpPr/>
            <p:nvPr/>
          </p:nvSpPr>
          <p:spPr>
            <a:xfrm>
              <a:off x="1523880" y="2362320"/>
              <a:ext cx="1600200" cy="48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er 2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5280" y="2653200"/>
              <a:ext cx="1600200" cy="48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er 1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6680" y="2944080"/>
              <a:ext cx="1600200" cy="48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er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6320" y="1371600"/>
            <a:ext cx="1904760" cy="685440"/>
            <a:chOff x="76320" y="1371600"/>
            <a:chExt cx="1904760" cy="685440"/>
          </a:xfrm>
        </p:grpSpPr>
        <p:sp>
          <p:nvSpPr>
            <p:cNvPr id="251" name=""/>
            <p:cNvSpPr/>
            <p:nvPr/>
          </p:nvSpPr>
          <p:spPr>
            <a:xfrm>
              <a:off x="339120" y="1371600"/>
              <a:ext cx="1641960" cy="2858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list 2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7720" y="1600200"/>
              <a:ext cx="1641600" cy="2854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list 1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20" y="1771560"/>
              <a:ext cx="1641960" cy="2854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list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895480" y="1371600"/>
            <a:ext cx="1828800" cy="609120"/>
            <a:chOff x="2895480" y="1371600"/>
            <a:chExt cx="1828800" cy="609120"/>
          </a:xfrm>
        </p:grpSpPr>
        <p:sp>
          <p:nvSpPr>
            <p:cNvPr id="255" name=""/>
            <p:cNvSpPr/>
            <p:nvPr/>
          </p:nvSpPr>
          <p:spPr>
            <a:xfrm>
              <a:off x="3166200" y="1371600"/>
              <a:ext cx="1558080" cy="3384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date 2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30840" y="1506600"/>
              <a:ext cx="1557720" cy="3384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date 1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1641960"/>
              <a:ext cx="1557720" cy="338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date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429000" y="2971800"/>
            <a:ext cx="2133720" cy="1752120"/>
            <a:chOff x="3429000" y="2971800"/>
            <a:chExt cx="2133720" cy="1752120"/>
          </a:xfrm>
        </p:grpSpPr>
        <p:sp>
          <p:nvSpPr>
            <p:cNvPr id="259" name=""/>
            <p:cNvSpPr/>
            <p:nvPr/>
          </p:nvSpPr>
          <p:spPr>
            <a:xfrm>
              <a:off x="3733920" y="2971800"/>
              <a:ext cx="1828800" cy="1447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81280" y="3124080"/>
              <a:ext cx="1828800" cy="144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3276360"/>
              <a:ext cx="1828800" cy="1447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2" name=""/>
          <p:cNvCxnSpPr>
            <a:stCxn id="245" idx="3"/>
            <a:endCxn id="251" idx="0"/>
          </p:cNvCxnSpPr>
          <p:nvPr/>
        </p:nvCxnSpPr>
        <p:spPr>
          <a:xfrm flipV="1" rot="10800000">
            <a:off x="1159920" y="608400"/>
            <a:ext cx="668880" cy="762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3" idx="2"/>
            <a:endCxn id="248" idx="1"/>
          </p:cNvCxnSpPr>
          <p:nvPr/>
        </p:nvCxnSpPr>
        <p:spPr>
          <a:xfrm flipH="1" rot="16200000">
            <a:off x="676080" y="2277000"/>
            <a:ext cx="838800" cy="3992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8" idx="3"/>
            <a:endCxn id="257" idx="2"/>
          </p:cNvCxnSpPr>
          <p:nvPr/>
        </p:nvCxnSpPr>
        <p:spPr>
          <a:xfrm flipV="1">
            <a:off x="2895480" y="1980720"/>
            <a:ext cx="780480" cy="915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5" name=""/>
          <p:cNvCxnSpPr>
            <a:stCxn id="255" idx="0"/>
            <a:endCxn id="245" idx="1"/>
          </p:cNvCxnSpPr>
          <p:nvPr/>
        </p:nvCxnSpPr>
        <p:spPr>
          <a:xfrm flipV="1" rot="16200000">
            <a:off x="3039480" y="464040"/>
            <a:ext cx="762840" cy="1051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3"/>
            <a:endCxn id="261" idx="1"/>
          </p:cNvCxnSpPr>
          <p:nvPr/>
        </p:nvCxnSpPr>
        <p:spPr>
          <a:xfrm>
            <a:off x="2895480" y="2895480"/>
            <a:ext cx="534240" cy="1105920"/>
          </a:xfrm>
          <a:prstGeom prst="curvedConnector5">
            <a:avLst>
              <a:gd name="adj1" fmla="val 49966"/>
              <a:gd name="adj2" fmla="val 49983"/>
              <a:gd name="adj3" fmla="val 4996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67" name=""/>
          <p:cNvGrpSpPr/>
          <p:nvPr/>
        </p:nvGrpSpPr>
        <p:grpSpPr>
          <a:xfrm>
            <a:off x="5638680" y="152280"/>
            <a:ext cx="2057400" cy="1066320"/>
            <a:chOff x="5638680" y="152280"/>
            <a:chExt cx="2057400" cy="1066320"/>
          </a:xfrm>
        </p:grpSpPr>
        <p:sp>
          <p:nvSpPr>
            <p:cNvPr id="268" name=""/>
            <p:cNvSpPr/>
            <p:nvPr/>
          </p:nvSpPr>
          <p:spPr>
            <a:xfrm>
              <a:off x="6095880" y="152280"/>
              <a:ext cx="1600200" cy="48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er 2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67280" y="443160"/>
              <a:ext cx="1600200" cy="48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er 1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38680" y="734040"/>
              <a:ext cx="1600200" cy="48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er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553080" y="3200400"/>
            <a:ext cx="2209680" cy="1218960"/>
            <a:chOff x="6553080" y="3200400"/>
            <a:chExt cx="2209680" cy="1218960"/>
          </a:xfrm>
        </p:grpSpPr>
        <p:sp>
          <p:nvSpPr>
            <p:cNvPr id="272" name=""/>
            <p:cNvSpPr/>
            <p:nvPr/>
          </p:nvSpPr>
          <p:spPr>
            <a:xfrm>
              <a:off x="7044120" y="3200400"/>
              <a:ext cx="1718640" cy="554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archer 2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98600" y="3532680"/>
              <a:ext cx="1718640" cy="554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archer 1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3865320"/>
              <a:ext cx="1718640" cy="554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archer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867280" y="5029200"/>
            <a:ext cx="2590560" cy="914040"/>
            <a:chOff x="5867280" y="5029200"/>
            <a:chExt cx="2590560" cy="914040"/>
          </a:xfrm>
        </p:grpSpPr>
        <p:sp>
          <p:nvSpPr>
            <p:cNvPr id="276" name=""/>
            <p:cNvSpPr/>
            <p:nvPr/>
          </p:nvSpPr>
          <p:spPr>
            <a:xfrm>
              <a:off x="6442920" y="5029200"/>
              <a:ext cx="2014920" cy="415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bServer 2 of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54920" y="5278320"/>
              <a:ext cx="2014920" cy="415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bServer 1 of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67280" y="5527800"/>
              <a:ext cx="2014920" cy="415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bServer 0 of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905120" y="3429000"/>
            <a:ext cx="0" cy="3429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5943600"/>
            <a:ext cx="0" cy="914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934320" y="1600200"/>
            <a:ext cx="1828800" cy="609120"/>
            <a:chOff x="6934320" y="1600200"/>
            <a:chExt cx="1828800" cy="609120"/>
          </a:xfrm>
        </p:grpSpPr>
        <p:sp>
          <p:nvSpPr>
            <p:cNvPr id="282" name=""/>
            <p:cNvSpPr/>
            <p:nvPr/>
          </p:nvSpPr>
          <p:spPr>
            <a:xfrm>
              <a:off x="7205040" y="1600200"/>
              <a:ext cx="1558080" cy="3384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 2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69680" y="1735200"/>
              <a:ext cx="1557720" cy="3384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 1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4320" y="1870560"/>
              <a:ext cx="1557720" cy="338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 0 of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391520" y="4419720"/>
            <a:ext cx="0" cy="6094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59" idx="3"/>
            <a:endCxn id="270" idx="2"/>
          </p:cNvCxnSpPr>
          <p:nvPr/>
        </p:nvCxnSpPr>
        <p:spPr>
          <a:xfrm flipV="1">
            <a:off x="5562720" y="1218600"/>
            <a:ext cx="876960" cy="24771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7" name=""/>
          <p:cNvCxnSpPr>
            <a:stCxn id="269" idx="3"/>
            <a:endCxn id="282" idx="0"/>
          </p:cNvCxnSpPr>
          <p:nvPr/>
        </p:nvCxnSpPr>
        <p:spPr>
          <a:xfrm>
            <a:off x="7467480" y="685800"/>
            <a:ext cx="518400" cy="915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8" name=""/>
          <p:cNvCxnSpPr>
            <a:stCxn id="284" idx="2"/>
            <a:endCxn id="272" idx="0"/>
          </p:cNvCxnSpPr>
          <p:nvPr/>
        </p:nvCxnSpPr>
        <p:spPr>
          <a:xfrm flipH="1" rot="16200000">
            <a:off x="7312680" y="2609640"/>
            <a:ext cx="991440" cy="19116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9" name=""/>
          <p:cNvCxnSpPr>
            <a:stCxn id="259" idx="3"/>
            <a:endCxn id="273" idx="1"/>
          </p:cNvCxnSpPr>
          <p:nvPr/>
        </p:nvCxnSpPr>
        <p:spPr>
          <a:xfrm>
            <a:off x="5562360" y="3695400"/>
            <a:ext cx="1236960" cy="11484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90" name=""/>
          <p:cNvGrpSpPr/>
          <p:nvPr/>
        </p:nvGrpSpPr>
        <p:grpSpPr>
          <a:xfrm>
            <a:off x="2971440" y="90360"/>
            <a:ext cx="1981080" cy="368280"/>
            <a:chOff x="2971440" y="90360"/>
            <a:chExt cx="1981080" cy="368280"/>
          </a:xfrm>
        </p:grpSpPr>
        <p:sp>
          <p:nvSpPr>
            <p:cNvPr id="291" name=""/>
            <p:cNvSpPr/>
            <p:nvPr/>
          </p:nvSpPr>
          <p:spPr>
            <a:xfrm flipH="1">
              <a:off x="2971440" y="4572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91720" y="90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</a:rPr>
                <a:t>In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ing P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quisition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nalysis (may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ng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D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info on all pages, l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, last download, # failures, link score, content hash, ref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hash, target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always be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d to minimize disk see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ms seek time x 200m new pages/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~44 days of disk seek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tc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tcher is very stupid.  Not a “crawl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“to-fetch list”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ieces, one for each fetcher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s for one domain go to same list, otherwise ran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teness” w/o inter-fetch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observe robots.txt simila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DNS, robots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outputs: pages, WebDB edi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983160" y="62485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. Sort edits (externally,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DB/Fetcher Upd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4038480"/>
          <a:ext cx="3962520" cy="9903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www.flickr/com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tUpdated: N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52280" y="3048120"/>
          <a:ext cx="3962520" cy="100152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www.cnn.com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tUpdated: N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52280" y="4038480"/>
          <a:ext cx="3962520" cy="9903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www.yahoo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tUpdated: 4/07/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MD5_toewkekqmekkalek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52280" y="2057400"/>
          <a:ext cx="3962520" cy="98892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www.about.com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tUpdated: 3/22/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MD5_sdflkjweroiwelk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876920" y="3048120"/>
          <a:ext cx="3962160" cy="100800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it: DOWNLOAD_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www.cnn.com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MD5_balboglerropewolefb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876920" y="2057400"/>
          <a:ext cx="3962160" cy="10033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it: DOWNLOAD_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www.yahoo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MD5_toewkekqmekkalek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876920" y="4038480"/>
          <a:ext cx="3962160" cy="9889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it: NEW_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www.flickr.com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616040" y="5213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03840" y="51814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tcher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498600" y="62485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 Write down fetcher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1047600" y="624852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 Read streams in parallel, emitting new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571320" y="62485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4. Repeat for othe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2280" y="3048120"/>
          <a:ext cx="3962520" cy="10126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www.cnn.com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tUpdated: Today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MD5_balboglerropewolefb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52280" y="5029200"/>
          <a:ext cx="3962520" cy="9414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: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ttp://www.yahoo.com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tUpdated: Today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Hash: MD5_toewkekqmekkalek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85185E-006 L 1.11022E-016 0.29352 E">
                                      <p:cBhvr>
                                        <p:cTn id="552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0.00463 L 1.11022E-016 -0.14467 E">
                                      <p:cBhvr>
                                        <p:cTn id="55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33333E-006 L 1.11022E-016 -0.14445 E">
                                      <p:cBhvr>
                                        <p:cTn id="55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0.14467 L -0.51667 0.0044 E">
                                      <p:cBhvr>
                                        <p:cTn id="56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3704 L -3.33333E-006 0.14814 E">
                                      <p:cBhvr>
                                        <p:cTn id="57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 4.44444E-006 L 0.0092 0.11319 E">
                                      <p:cBhvr>
                                        <p:cTn id="581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0.14444 L -0.51667 -0.01644 E">
                                      <p:cBhvr>
                                        <p:cTn id="583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29352 L -0.51667 0.44907 E">
                                      <p:cBhvr>
                                        <p:cTn id="592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ing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240" y="1600200"/>
            <a:ext cx="7580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earch is basically a database problem, but no one uses SQL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query is a top-k 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query plan is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ive numbers of queries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-onl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arch query can be thought of in SQL terms, but the engineered system is completely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ex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240" y="1600200"/>
            <a:ext cx="7123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erate through al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ge sets in parallel, constructing inverted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s a “searchable document” like we saw earli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ancho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ted index provided by the Lucene open sourc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ministering Nu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 costs are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a hassle when you have 25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gle has maybe &gt;100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DB content, work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tchlists, fetched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analysis outputs, work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it fetchlists, fetch, update Web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link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ministering Nutch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 sounds boring, but it’s no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sw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-file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gle File System (Ghemawat, Gobioff, Leu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tch Distributed Fi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/Reduce (Dean and Ghemaw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Hadoop, a Nutch spin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tch Distributed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, but not identical, to G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fairly st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ely large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files read once, from start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admin costs per G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lly strang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-once, with de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ile can exist across many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lly automatic failure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DF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divided into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cks can be copied, replic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nodes hold and serve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node holds meta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ock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tanode-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nodes report in to namenode every few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52280" y="-762120"/>
            <a:ext cx="7793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DFS File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1446120" cy="7635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311720" y="114768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019920" y="114300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696080" y="11430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4311720" y="2757600"/>
            <a:ext cx="990360" cy="7617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6019920" y="275256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7696080" y="275256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99520" y="247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me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89600" y="1905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08880" y="1919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42280" y="1919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89600" y="34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85200" y="34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461360" y="34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8"/>
          <a:stretch/>
        </p:blipFill>
        <p:spPr>
          <a:xfrm>
            <a:off x="272880" y="5715000"/>
            <a:ext cx="1327320" cy="1046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V="1">
            <a:off x="914400" y="281916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79840" y="5089680"/>
            <a:ext cx="5487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ient asks datanode for filename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amenode responds with blocklist, and location(s) for ea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ient fetches each block, in sequence, from a data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8440" y="3886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awl.tx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289548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3560" y="3960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lock-33 / datanodes 1,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lock-95 / datanodes 0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lock-65 / datanodes 1, 4,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914400" y="2209320"/>
            <a:ext cx="3733920" cy="350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990720" y="2285640"/>
            <a:ext cx="5486400" cy="3352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990720" y="3809880"/>
            <a:ext cx="723888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52280" y="-762120"/>
            <a:ext cx="7793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DFS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1446120" cy="7635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311720" y="114768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019920" y="114300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7696080" y="11430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4311720" y="2757600"/>
            <a:ext cx="990360" cy="761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6019920" y="275256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7696080" y="275256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272880" y="5715000"/>
            <a:ext cx="1327320" cy="1046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9520" y="247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me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48280" y="1905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33, 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10320" y="1919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46, 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44080" y="1919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33, 1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75480" y="3443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1, 33, 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86640" y="3443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41480" y="3443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nod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1, 90, 1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79840" y="4800600"/>
            <a:ext cx="5487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lways keep at least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copies of each b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magine datanode 4 dies; blk 90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amenode loses heartbeat, decrements blk 90’s reference count.  Asks datanode 5 to replicate blk 90 to datanod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hoosing replication target is tric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76520" y="2362320"/>
            <a:ext cx="60195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445800">
            <a:off x="1757160" y="2133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lk 90 to dn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257440" y="1752480"/>
            <a:ext cx="289548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/Redu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/Reduce is programming model from Lisp (and other pla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istribute a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ce retry/failure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p(key, val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run on each item in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ts key/val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duce(key, vals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run for each unique key emitted by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p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ts final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problems can be phrased this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/Reduc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: count words in do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consists of (url, contents)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(key=url, val=conten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wor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contents, emit (w, “1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(key=word, values=uniq_coun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 all “1”s in values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it result “(word, sum)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/Reduc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: gr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consists of (url+offset, single l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(key=url+offset, val=line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contents matches regexp, emit (line, “1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(key=line, values=uniq_coun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do anything; just emi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also do graph inversion, link analysis, WebDB updates,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tch &amp; Hadoop: A case stu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-source, free to use and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tch is a search engine, can handle ~200M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doop is backend infrastructure, biggest deployment is a 2000 machine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have been many different search engine designs, but Nutch is pretty standard and easy to learn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/Reduce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this distribu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input key/value pairs into chunks, run map() tasks in parall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all map()s are complete, consolidate all emitted values for each unique emitted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partition space of output map keys, and run reduce() in parall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9920" indent="-5299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ap() or reduce() fails, reexecut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2280" y="-762120"/>
            <a:ext cx="7793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/Reduce Job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1446120" cy="763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311720" y="114768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019920" y="114300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7696080" y="11430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4311720" y="2757600"/>
            <a:ext cx="990360" cy="761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6019920" y="275256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7696080" y="275256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8"/>
          <a:stretch/>
        </p:blipFill>
        <p:spPr>
          <a:xfrm>
            <a:off x="272880" y="5715000"/>
            <a:ext cx="1327320" cy="1046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72440" y="2470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b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43440" y="19051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skTracke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05480" y="19191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skTrac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19191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skTrack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06720" y="34434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skTrack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81800" y="34434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skTrack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42200" y="34434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skTrack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79840" y="4038480"/>
            <a:ext cx="5487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ient submits “grep” job, indicating code and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obTracker breaks input file into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chunks, (in this case 6).  Assigns work to ttrack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fter map(), tasktrackers exchange map-output to build reduce() key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obTracker breaks reduce() keyspace into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chunks (in this case 6). Assign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uce() output may go to N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838080" y="281916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1520" y="384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e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676520" y="1600200"/>
            <a:ext cx="2666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52480" y="1904760"/>
            <a:ext cx="4800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76520" y="1904760"/>
            <a:ext cx="62481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133720"/>
            <a:ext cx="29718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2133720"/>
            <a:ext cx="48006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2133720"/>
            <a:ext cx="64771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2209680"/>
            <a:ext cx="32004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952880" y="2209680"/>
            <a:ext cx="335304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752480" y="1752480"/>
            <a:ext cx="25909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752480" y="1980720"/>
            <a:ext cx="48006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752480" y="1904760"/>
            <a:ext cx="647712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2514600"/>
            <a:ext cx="24386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514600"/>
            <a:ext cx="46483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2514600"/>
            <a:ext cx="632484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http://www.nutch.org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 discussion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cene in Action” by Hatcher, Gospodne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http://www.hadoop.org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, take 490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elementary step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ch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database, fetcher, indexer, etc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doop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filesystem, job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document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a “web document” as a tuple with several colum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link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e content (maybe many sub-par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doc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eb search is real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* FROM docs WHERE docs.text LIKE ‘userquery’ AND docs.title LIKE ‘userquery’ AND … ORDER BY ‘relevance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lev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very complicated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document model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main challenges to processing a que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ing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relev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ing to many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ing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ould grep, but each query will need to touch each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to fast processing is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verted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idea is: for each word, list all the documents where that word can be f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066680"/>
          <a:ext cx="1752480" cy="51750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iend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k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057400" y="1523880"/>
            <a:ext cx="3505320" cy="533520"/>
            <a:chOff x="2057400" y="1523880"/>
            <a:chExt cx="3505320" cy="533520"/>
          </a:xfrm>
        </p:grpSpPr>
        <p:sp>
          <p:nvSpPr>
            <p:cNvPr id="105" name=""/>
            <p:cNvSpPr/>
            <p:nvPr/>
          </p:nvSpPr>
          <p:spPr>
            <a:xfrm>
              <a:off x="2819520" y="15238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33920" y="15238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15238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179856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057400" y="2590920"/>
            <a:ext cx="2590920" cy="533160"/>
            <a:chOff x="2057400" y="2590920"/>
            <a:chExt cx="2590920" cy="533160"/>
          </a:xfrm>
        </p:grpSpPr>
        <p:sp>
          <p:nvSpPr>
            <p:cNvPr id="110" name=""/>
            <p:cNvSpPr/>
            <p:nvPr/>
          </p:nvSpPr>
          <p:spPr>
            <a:xfrm>
              <a:off x="2819520" y="2590920"/>
              <a:ext cx="9144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2590920"/>
              <a:ext cx="9144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7400" y="286560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057400" y="3124080"/>
            <a:ext cx="6553080" cy="581400"/>
            <a:chOff x="2057400" y="3124080"/>
            <a:chExt cx="6553080" cy="581400"/>
          </a:xfrm>
        </p:grpSpPr>
        <p:sp>
          <p:nvSpPr>
            <p:cNvPr id="114" name=""/>
            <p:cNvSpPr/>
            <p:nvPr/>
          </p:nvSpPr>
          <p:spPr>
            <a:xfrm>
              <a:off x="2819520" y="31240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31240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8320" y="31240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2720" y="31240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38880" y="3124080"/>
              <a:ext cx="1371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#docs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98800" y="3124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ahom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339876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057400" y="3657600"/>
            <a:ext cx="4419720" cy="533520"/>
            <a:chOff x="2057400" y="3657600"/>
            <a:chExt cx="4419720" cy="533520"/>
          </a:xfrm>
        </p:grpSpPr>
        <p:sp>
          <p:nvSpPr>
            <p:cNvPr id="122" name=""/>
            <p:cNvSpPr/>
            <p:nvPr/>
          </p:nvSpPr>
          <p:spPr>
            <a:xfrm>
              <a:off x="2819520" y="36576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36576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8320" y="36576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36576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393228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57400" y="4191120"/>
            <a:ext cx="3505320" cy="533160"/>
            <a:chOff x="2057400" y="4191120"/>
            <a:chExt cx="3505320" cy="533160"/>
          </a:xfrm>
        </p:grpSpPr>
        <p:sp>
          <p:nvSpPr>
            <p:cNvPr id="128" name=""/>
            <p:cNvSpPr/>
            <p:nvPr/>
          </p:nvSpPr>
          <p:spPr>
            <a:xfrm>
              <a:off x="2819520" y="4191120"/>
              <a:ext cx="9144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3920" y="4191120"/>
              <a:ext cx="9144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4191120"/>
              <a:ext cx="9144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7400" y="446580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57400" y="4724280"/>
            <a:ext cx="6553080" cy="581400"/>
            <a:chOff x="2057400" y="4724280"/>
            <a:chExt cx="6553080" cy="581400"/>
          </a:xfrm>
        </p:grpSpPr>
        <p:sp>
          <p:nvSpPr>
            <p:cNvPr id="133" name=""/>
            <p:cNvSpPr/>
            <p:nvPr/>
          </p:nvSpPr>
          <p:spPr>
            <a:xfrm>
              <a:off x="2819520" y="47242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920" y="47242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48320" y="47242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47242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38880" y="4724280"/>
              <a:ext cx="1371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#docs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98800" y="4724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ahom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499896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057400" y="5715000"/>
            <a:ext cx="2590920" cy="533520"/>
            <a:chOff x="2057400" y="5715000"/>
            <a:chExt cx="2590920" cy="533520"/>
          </a:xfrm>
        </p:grpSpPr>
        <p:sp>
          <p:nvSpPr>
            <p:cNvPr id="141" name=""/>
            <p:cNvSpPr/>
            <p:nvPr/>
          </p:nvSpPr>
          <p:spPr>
            <a:xfrm>
              <a:off x="2819520" y="57150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57150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598968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057400" y="2057400"/>
            <a:ext cx="5334120" cy="533520"/>
            <a:chOff x="2057400" y="2057400"/>
            <a:chExt cx="5334120" cy="533520"/>
          </a:xfrm>
        </p:grpSpPr>
        <p:sp>
          <p:nvSpPr>
            <p:cNvPr id="145" name=""/>
            <p:cNvSpPr/>
            <p:nvPr/>
          </p:nvSpPr>
          <p:spPr>
            <a:xfrm>
              <a:off x="2057400" y="233208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9520" y="20574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20574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8320" y="20574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2720" y="20574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7120" y="20574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57400" y="1020600"/>
            <a:ext cx="6553080" cy="581400"/>
            <a:chOff x="2057400" y="1020600"/>
            <a:chExt cx="6553080" cy="581400"/>
          </a:xfrm>
        </p:grpSpPr>
        <p:sp>
          <p:nvSpPr>
            <p:cNvPr id="152" name=""/>
            <p:cNvSpPr/>
            <p:nvPr/>
          </p:nvSpPr>
          <p:spPr>
            <a:xfrm>
              <a:off x="2819520" y="1020600"/>
              <a:ext cx="9144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920" y="1020600"/>
              <a:ext cx="9144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020600"/>
              <a:ext cx="9144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62720" y="1020600"/>
              <a:ext cx="9144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38880" y="1020600"/>
              <a:ext cx="1371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#docs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98800" y="1020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ahom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129528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057400" y="5211720"/>
            <a:ext cx="6553080" cy="581400"/>
            <a:chOff x="2057400" y="5211720"/>
            <a:chExt cx="6553080" cy="581400"/>
          </a:xfrm>
        </p:grpSpPr>
        <p:sp>
          <p:nvSpPr>
            <p:cNvPr id="160" name=""/>
            <p:cNvSpPr/>
            <p:nvPr/>
          </p:nvSpPr>
          <p:spPr>
            <a:xfrm>
              <a:off x="2819520" y="5211720"/>
              <a:ext cx="9144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#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5211720"/>
              <a:ext cx="9144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5211720"/>
              <a:ext cx="9144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5211720"/>
              <a:ext cx="9144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8880" y="5211720"/>
              <a:ext cx="1371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docid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Tahoma"/>
                </a:rPr>
                <a:t>#docs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8800" y="5211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ahom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7400" y="5486400"/>
              <a:ext cx="762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04920" y="1066680"/>
          <a:ext cx="1752480" cy="51750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iend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k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819520" y="5211720"/>
            <a:ext cx="914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#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5211720"/>
            <a:ext cx="914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ci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211720"/>
            <a:ext cx="914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ci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5211720"/>
            <a:ext cx="914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ci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5211720"/>
            <a:ext cx="13716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ci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#doc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98800" y="521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5486400"/>
            <a:ext cx="7621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19520" y="1523880"/>
            <a:ext cx="5790960" cy="381240"/>
            <a:chOff x="2819520" y="1523880"/>
            <a:chExt cx="5790960" cy="381240"/>
          </a:xfrm>
        </p:grpSpPr>
        <p:sp>
          <p:nvSpPr>
            <p:cNvPr id="176" name=""/>
            <p:cNvSpPr/>
            <p:nvPr/>
          </p:nvSpPr>
          <p:spPr>
            <a:xfrm>
              <a:off x="2819520" y="15238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15238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48320" y="15238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15238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38880" y="1523880"/>
              <a:ext cx="13716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19520" y="5715000"/>
            <a:ext cx="5790960" cy="380880"/>
            <a:chOff x="2819520" y="5715000"/>
            <a:chExt cx="5790960" cy="380880"/>
          </a:xfrm>
        </p:grpSpPr>
        <p:sp>
          <p:nvSpPr>
            <p:cNvPr id="182" name=""/>
            <p:cNvSpPr/>
            <p:nvPr/>
          </p:nvSpPr>
          <p:spPr>
            <a:xfrm>
              <a:off x="2819520" y="5715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33920" y="5715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8320" y="5715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62720" y="5715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38880" y="5715000"/>
              <a:ext cx="1371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3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1148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6172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2819520"/>
            <a:ext cx="58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st for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dvance smaller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bort when a list is exha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1120" y="63388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turned do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3120" y="632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0" y="1843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ry: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020600"/>
            <a:ext cx="914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#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020600"/>
            <a:ext cx="914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ci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1020600"/>
            <a:ext cx="914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ci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1020600"/>
            <a:ext cx="914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ci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102060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ci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#doc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98800" y="102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295280"/>
            <a:ext cx="7621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0417 4.44444E-006 E">
                                      <p:cBhvr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0417 3.33333E-006 E">
                                      <p:cBhvr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17 4.44444E-006 L 0.20417 4.44444E-006 E">
                                      <p:cBhvr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4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e4a8"/>
                                      </p:to>
                                    </p:animClr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e4a8"/>
                                      </p:to>
                                    </p:animClr>
                                    <p:set>
                                      <p:cBhvr>
                                        <p:cTn id="206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e4a8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e4a8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17 3.33333E-006 L 0.20417 3.33333E-006 E">
                                      <p:cBhvr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17 4.44444E-006 L 0.2875 4.44444E-006 E">
                                      <p:cBhvr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16 4.44444E-006 C 0.29132 -0.00116 0.31181 -0.00348 0.31892 -0.00718 C 0.32535 -0.01042 0.33681 -0.02153 0.33681 -0.0213 C 0.34635 -0.03727 0.35208 -0.05301 0.35816 -0.07153 C 0.3625 -0.11528 0.35469 -0.17709 0.32257 -0.20232 C 0.3158 -0.20764 0.30868 -0.2125 0.30104 -0.21436 C 0.28455 -0.21829 0.25104 -0.21899 0.25104 -0.21875 C 0.21354 -0.20255 0.19219 -0.1926 0.17604 -0.14283 C 0.17778 -0.12223 0.17778 -0.10116 0.18142 -0.08102 C 0.1849 -0.06227 0.19653 -0.04815 0.20642 -0.03565 C 0.21372 -0.02639 0.22066 -0.01551 0.22969 -0.0095 C 0.24566 0.000920000000000001 0.2658 4.44444E-006 0.28316 4.44444E-006 Z">
                                      <p:cBhvr>
                                        <p:cTn id="222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17 3.33333E-006 L 0.2875 3.33333E-006 E">
                                      <p:cBhvr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28385 4.44444E-006 C 0.31875 -0.00811 0.3316 -0.00116 0.35347 -0.04283 C 0.3592 -0.05371 0.35955 -0.06806 0.3625 -0.08079 C 0.36128 -0.1007 0.36146 -0.12084 0.35885 -0.14051 C 0.35781 -0.14885 0.35451 -0.15649 0.35174 -0.16412 C 0.33472 -0.21227 0.30313 -0.21158 0.26771 -0.21412 C 0.2375 -0.20764 0.21753 -0.16598 0.20712 -0.13079 C 0.20521 -0.11343 0.20069 -0.08959 0.20521 -0.0713 C 0.21233 -0.04306 0.24896 -0.02454 0.26771 -0.01181 C 0.27309 -0.00139 0.27483 -0.00301 0.28385 4.44444E-006 Z">
                                      <p:cBhvr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27361 3.33333E-006 C 0.28889 -0.00301 0.30451 -0.00371 0.31823 -0.01436 C 0.34271 -0.03311 0.35486 -0.08102 0.36649 -0.11181 C 0.36771 -0.12385 0.37083 -0.13565 0.36997 -0.14769 C 0.36493 -0.22014 0.3276 -0.23426 0.28247 -0.25 C 0.25104 -0.23912 0.22552 -0.23959 0.20938 -0.2 C 0.20486 -0.18866 0.20226 -0.17616 0.19861 -0.16436 C 0.19497 -0.12523 0.1901 -0.08218 0.20399 -0.04514 C 0.21632 -0.01227 0.24826 0.00416 0.27361 3.33333E-006 Z">
                                      <p:cBhvr>
                                        <p:cTn id="230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5 3.33333E-006 L 0.4125 3.33333E-006 E">
                                      <p:cBhvr>
                                        <p:cTn id="234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142 4.44444E-006 C 0.29566 -0.00487 0.31128 -0.0051 0.32431 -0.01436 C 0.33872 -0.02454 0.34618 -0.07246 0.34931 -0.08565 C 0.34809 -0.11274 0.34913 -0.14005 0.34566 -0.16667 C 0.33872 -0.222 0.29549 -0.2169 0.26354 -0.21899 C 0.23056 -0.20093 0.21493 -0.19862 0.20104 -0.15232 C 0.19583 -0.0963 0.19618 -0.06598 0.22969 -0.02616 C 0.24323 -0.01019 0.24358 -0.01019 0.25816 -0.00232 C 0.26285 0.00023 0.26788 0.0074 0.27257 0.00486 C 0.27552 0.00324 0.27847 0.00162 0.28142 4.44444E-006 Z">
                                      <p:cBhvr>
                                        <p:cTn id="236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6:48:51Z</dcterms:created>
  <dc:creator>cse</dc:creator>
  <dc:description/>
  <dc:language>en-US</dc:language>
  <cp:lastModifiedBy>Michael Cafarella</cp:lastModifiedBy>
  <dcterms:modified xsi:type="dcterms:W3CDTF">2007-12-05T17:50:51Z</dcterms:modified>
  <cp:revision>35</cp:revision>
  <dc:subject/>
  <dc:title>All About Nutch</dc:title>
</cp:coreProperties>
</file>