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186A-C3B8-4CD7-A3A5-83EECFBB6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8948D92A-38BC-4EE5-8D77-1A1D1F3FB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882-A8E4-4E87-8B8D-C61831CB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312-5AB5-4F7E-86F7-0920B489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21D-3E58-4E33-B731-42375530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3CB-C419-49DE-BC1B-C0F48D81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DDC-49AA-4435-AE6B-44EB7264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430-C11E-4905-849C-7655062E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E5C-3893-45AA-89A0-B9575F06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C03-978B-4A05-90FD-6F193C1D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2FA-43B5-47E4-BF33-0BB008E7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2E6-9897-46EA-8FBE-833C28DE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30C-0A26-48AF-A1F3-E9783275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4BA-BCEB-499B-9390-F8300A1B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D777-ABD4-4277-830C-92B8B6D09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6587-2DB8-4987-BFCF-5D3707FC2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lu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6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23D8-5F50-4F06-BF40-229C91D40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10:30-11:20, i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design,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 little XML (very l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51560" y="6176880"/>
            <a:ext cx="3167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book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F55B-051B-42B1-9FA3-F43BF73BD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s and GROUP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and non-monotone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/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2697-0008-40ED-9150-D4F0910A0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/R diagram ba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, relationships, IS-A, weak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all slides - including weak entity sets (for midterm and/or fi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to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 The foreign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l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-one or one-on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BE2B-26A4-4185-9FCB-5C82E88D0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 FDs and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X --&gt; Y mean, how do we check if it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trong’s rules, X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algorithm on the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E7C0-1D26-44E7-BBC2-7E0E0B912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plan on reading during the midterm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questions are easy, others are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ier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ome definition of fu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0-26T01:48:46Z</dcterms:modified>
  <cp:revision>387</cp:revision>
  <dc:subject/>
  <dc:title>Lecture 09:</dc:title>
</cp:coreProperties>
</file>