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904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F77BE5-7C05-4225-A216-88B463A9D70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fld id="{BE4E1501-00E1-4706-87A8-06B4A16DF58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F95040-AA4C-4153-8604-08BAD8FB096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3EA99C-3B0B-45D8-A21F-9CC707E18FC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1923DC-7C0C-4AF9-A2D1-B90C43CDF1F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3A3644-9837-4E63-8E73-04398AA1D33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031544-0CFE-4FEA-8273-F1458892409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C41ADB-96A3-4080-936C-E9810B56236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E3FC57-9007-4C43-B49F-217E2D3FF3E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3C0C06-021D-4E38-B90E-6BD16B36988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C6E7A9-2600-421D-B7F5-78DD688AF42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FD8D53-D981-495F-A621-B6384A61E66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555602-E772-465F-BBC0-7ACD2F20DC3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2757B6-D655-4DE4-8059-A4828A82F82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EA03E7-1741-41B7-BD68-82F152DCAB0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EB0EB3-CDC9-4DC6-8922-5EC680450FE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88E57C-B124-42D9-8829-8E599C9EEF4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F0A83D-8539-42D2-8382-B8A5B13165C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2557-B566-428D-AE7A-62B8E49D0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D519-4EBF-4A41-93BB-907F2C68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E49C-CEF8-4451-A67D-AD55F7B8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CE74-9924-46A8-A34E-AF4AFAB6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7F8A-784C-4E20-9151-C3CA473C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95B7-03CC-4CF5-97D7-656CEAB8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89AA-7DE8-4241-A803-BA60AAF7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2508-2340-4EAD-AE2D-789B5F4B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931C-38FE-46AB-A05E-28EC8D91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729B-8BD0-4DFF-8C09-C28894A9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C608-4BFF-4731-8FF6-022505FB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3808-38AA-47B0-826A-6CC83521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81AB-88BC-41AA-9A6C-2E69C3BED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6235-0CBC-4DA4-B7E6-7DEFAFAE9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7631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3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Final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66320" y="4095360"/>
            <a:ext cx="723924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ember 7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F56D-5907-43CB-9932-8327C63A8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o 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 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o/redo 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C55A-7FC1-43B4-986E-9B7ED6E1C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1F46-E4E7-4929-B050-485719BEF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 4: Query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op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E67E-2105-4599-9767-2454D4F57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olo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se/sparse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/secondary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BA39-12C1-4902-AAF9-1DC4B2A84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ed-loop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pass algorithms based on hash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-based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5419-D2E2-4B5B-9BE5-B1D03F17C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that you know how to convert from 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se expressions are equal ? What if we have keys/foreign key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pel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should be able to discuss alternative choices of query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12BD-30FD-4E32-B8FF-4C703167A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Ad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roblems will require th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difficulty may be unev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the easy ones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3D7B-E13D-45B0-9AB8-973FE8842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e En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0622-D8C6-4538-9D98-2C660D35C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: Monday, December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: 10:30 - 12: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: this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book exam (textbook, course slid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E447-1DAD-45F7-9D1F-5957C644E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DD19-BE70-4D88-94C2-36A05A88A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to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DAF4-0997-4199-8C14-A8AB52324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3ACA-EC6C-4C93-9030-B1BFF6CF0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-from-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er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3F20-3D83-496A-9EC1-4BD05C2C2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od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and modifying relation sch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ttribute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ign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53B0-861F-4B90-8DAA-FCDBA8646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 2: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query/X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relations to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XML to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5885-81E8-410C-9467-75B655CBB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 3: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ID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Hal Perkins</cp:lastModifiedBy>
  <dcterms:modified xsi:type="dcterms:W3CDTF">2007-12-07T01:05:01Z</dcterms:modified>
  <cp:revision>387</cp:revision>
  <dc:subject/>
  <dc:title>Lecture 09:</dc:title>
</cp:coreProperties>
</file>