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BFB3F-60D9-49A3-A5AB-4343A037D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B7895B-320A-487C-9CF9-CB832EE26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3A2CF-CAAF-4372-A940-C053026EC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08342-0E21-4A76-B39B-FED107CB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1A40C-EC53-4D03-9F20-E9188400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D4781-50C8-4313-A992-2EF87380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89B63-2F73-49AD-B15D-03A3438B3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4CD6D-64DB-4846-BA81-75D8CD0B8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9DD47-8EAD-42A8-B4B4-F26A753AC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C92C5-0707-42E8-A2DF-18A992C2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E7453-72AA-4A9E-9EED-ED0E1E452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CC947-A339-4C2F-9779-8CCC7AE9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D415-89C0-43A5-AC84-DD2375C26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3CE59-58FB-4719-8214-23FC19ED8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A7DF3-D410-49BC-802A-5DDC226B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021D0-18CB-48A3-98E3-E9673076D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0CE6E-2BF0-4195-BE77-A3F594D53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3DBFE-F181-40EF-BBAC-91B38C1A5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388E4-2F6E-4F86-BDD7-27BCA868B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st = B(R)+B(S)+B(T)+B(U)+2B(R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) + 2B(R ⋈ S ⋈ 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max(B(S), B(T), B(U)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B377F-FB5F-4B89-8524-D4C563BA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= B(R)+B(S)+B(T)+B(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B(S) + B(T) + B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3BA70-5390-4032-BD21-AB2AFAB7D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D46F8-D723-4DB2-B51C-7AB5FAD7E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BED98-696A-4F7D-A7E3-E4138BA0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5D1BD-2766-4082-ADE8-C4BF6D7AA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6A86-3DF2-485D-A88F-07A84C2D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9C1-2E99-48EB-830B-D407B25E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E95-C281-4C42-8834-95ED2FE2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3D9-B215-4913-847A-89F9FEC2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D02-1CA6-4DD3-A4B9-F4F46351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646-C645-45DD-96E7-C6BAD9EE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0D6-138C-464C-9EA3-BC1FF798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39D-C18E-4333-8C2E-E646A56E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CF4-64BD-4A85-96DE-8E95B2E2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9D6-0D2C-4804-BAB5-ADBE778D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9DD-7A3A-4D25-9541-F22F5FC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37F-28B1-48B6-8F7C-FD40F2A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BC6-8C72-4B15-B811-6768C59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ED4F-83B6-432E-BE15-82F37DE32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55C-4FBB-4B4C-A905-FCDD4160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320" y="4095360"/>
            <a:ext cx="723924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26-30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C97A-B0AB-4800-B455-766CF993D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55116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148104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49652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FA5-9DC9-49FC-A13B-8673F18C8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456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0B80-1A02-40AB-B21C-DA2F087AF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6844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7140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661-DA3C-4AFB-863D-A798304E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8BC9-0F16-47E6-87F5-69A234D73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SQL query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pla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quivalent plans P = P’ = P’’ =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“cheapest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748200" y="3336120"/>
            <a:ext cx="1783080" cy="652680"/>
          </a:xfrm>
          <a:prstGeom prst="wedgeEllipseCallout">
            <a:avLst>
              <a:gd name="adj1" fmla="val -35773"/>
              <a:gd name="adj2" fmla="val 1062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F9CC-2A99-468A-B121-EACD128D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-1958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P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5378400" y="2797200"/>
            <a:ext cx="180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5"/>
          <p:cNvSpPr/>
          <p:nvPr/>
        </p:nvSpPr>
        <p:spPr>
          <a:xfrm>
            <a:off x="5465880" y="2797200"/>
            <a:ext cx="144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6"/>
          <p:cNvSpPr/>
          <p:nvPr/>
        </p:nvSpPr>
        <p:spPr>
          <a:xfrm>
            <a:off x="5337000" y="2781360"/>
            <a:ext cx="17496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158" name="Freeform 8"/>
            <p:cNvSpPr/>
            <p:nvPr/>
          </p:nvSpPr>
          <p:spPr>
            <a:xfrm>
              <a:off x="5495760" y="479412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5843520" y="479412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5495760" y="479412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5495760" y="479412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Freeform 12"/>
          <p:cNvSpPr/>
          <p:nvPr/>
        </p:nvSpPr>
        <p:spPr>
          <a:xfrm>
            <a:off x="4900680" y="5305320"/>
            <a:ext cx="6699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3"/>
          <p:cNvSpPr/>
          <p:nvPr/>
        </p:nvSpPr>
        <p:spPr>
          <a:xfrm>
            <a:off x="5816520" y="5305320"/>
            <a:ext cx="6843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4"/>
          <p:cNvSpPr/>
          <p:nvPr/>
        </p:nvSpPr>
        <p:spPr>
          <a:xfrm>
            <a:off x="5672160" y="4081320"/>
            <a:ext cx="144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5"/>
          <p:cNvSpPr/>
          <p:nvPr/>
        </p:nvSpPr>
        <p:spPr>
          <a:xfrm>
            <a:off x="5672160" y="3154320"/>
            <a:ext cx="1440" cy="512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6"/>
          <p:cNvSpPr/>
          <p:nvPr/>
        </p:nvSpPr>
        <p:spPr>
          <a:xfrm>
            <a:off x="5627520" y="3794040"/>
            <a:ext cx="87480" cy="15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17"/>
          <p:cNvSpPr/>
          <p:nvPr/>
        </p:nvSpPr>
        <p:spPr>
          <a:xfrm>
            <a:off x="5713560" y="3807000"/>
            <a:ext cx="75960" cy="145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156240" y="5362200"/>
            <a:ext cx="4089960" cy="1172520"/>
          </a:xfrm>
          <a:prstGeom prst="wedgeEllipseCallout">
            <a:avLst>
              <a:gd name="adj1" fmla="val 42824"/>
              <a:gd name="adj2" fmla="val -1153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4268880" y="2513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4799880" y="1217880"/>
            <a:ext cx="29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se(buyer, c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(name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12CE-3C39-4CE2-98CB-567B262FF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919800" y="1828800"/>
            <a:ext cx="395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sum(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quantity)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027040" y="54864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quantity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7293240" y="40384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7293240" y="30481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156240" y="5362200"/>
            <a:ext cx="4089960" cy="1172520"/>
          </a:xfrm>
          <a:prstGeom prst="wedgeEllipseCallout">
            <a:avLst>
              <a:gd name="adj1" fmla="val 62425"/>
              <a:gd name="adj2" fmla="val -1495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230400" y="2056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5106960" y="3123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28B2-39E8-4DD9-A059-02A5CC73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099A-B144-4049-B319-A3EE3BEAF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 (incomplete li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678A-2BAB-4891-A338-1E7EB817B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 (incomplete li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E9AB-ADCA-4D5B-B272-D8BA4607B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5A60-AF16-41D0-B52B-A1BE658E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CB92-C87F-4C43-8289-5E5FCB13C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C13A-D1AE-42AC-8AEE-95DD80DD3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BB40-36FB-4DA8-ABEB-35D0D18FA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3E6-6850-4425-BBE9-61908BD36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1BE2-CCF6-404A-9365-36C5F0E09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proposed in System R (the first research prototype for a relational database system -- late 7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ndles single block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selections down, projection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oin re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774000" y="3352680"/>
            <a:ext cx="744984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. . .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0A5B-BEC2-404D-8854-9CC256BF2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2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….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8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229" name="Line 9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1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234" name="Line 14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6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18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239" name="Line 19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Line 23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5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7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48B6-1671-473C-A2AF-AD331F3A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253" name="Line 5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258" name="Line 10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263" name="Line 15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7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8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9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268" name="Line 20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1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2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3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24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9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1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2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3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4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5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6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4048-C269-4EAA-A8CD-F9956852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293" name="Line 9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0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1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2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3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298" name="Line 14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6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7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8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303" name="Line 19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0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21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Line 23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5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6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7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29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314" name="Line 30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31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Text Box 34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5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6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E5E3-2F58-4B71-9D04-3B99CD523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325" name="Line 5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6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7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8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330" name="Line 10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1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2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3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14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335" name="Line 15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8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19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340" name="Line 20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1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2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3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Text Box 24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9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31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2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3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4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5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36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56C1-38DA-490B-B239-5CEBF8EF9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686600" y="266688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B453-6F3A-4780-BB57-4A37F7BEE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C3D-EDF0-43F7-B296-C91C1DBC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AC88-E468-4967-BD1A-2E396AA2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F432-FAF7-4F02-8205-433C6D84A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B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(cost of scanning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BD19-1E21-4B31-BF28-F87662B53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5F39-1B78-4EC0-A46E-D50728831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3C89-CCBD-47FE-A563-F6812AAF8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join, then the size of the intermediate result is size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F275-1660-4126-9C80-BBBEED63C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64F3-3D8A-41DB-8F71-3128B8FF3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82D8-30D8-4CC0-8A31-CDFBA6310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09680" y="152280"/>
          <a:ext cx="5410440" cy="645480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9C8E-D0A1-4563-BF69-BB06BC91E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F84B-45B2-4D5E-8055-C62AAFC51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209680" y="152280"/>
          <a:ext cx="548640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C6E2-A835-4332-9854-075A6B11F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has a cartesian product – most query optimizers will not consi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41D9-FD80-425F-B591-2C884E6B1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only join qu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s are pushed down (i.e. ea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s are pulled up (i.e. 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exponential time in genera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linear joins may reduc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rtesian products may reduce tim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3A0B-9E9E-4B2D-9141-FE60803D9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Based Optimiz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ction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= Algebraic law with a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firing thes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many alternative plans,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ne b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 (later SQL S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burst (later DB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A45A-CD8B-4405-89B2-3F460406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DF9-2703-41A7-BCF1-4572DDD04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3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4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"/>
          <p:cNvSpPr/>
          <p:nvPr/>
        </p:nvSpPr>
        <p:spPr>
          <a:xfrm>
            <a:off x="1102320" y="4761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6"/>
          <p:cNvCxnSpPr>
            <a:stCxn id="402" idx="3"/>
            <a:endCxn id="403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AutoShape 7"/>
          <p:cNvCxnSpPr>
            <a:stCxn id="403" idx="3"/>
            <a:endCxn id="404" idx="7"/>
          </p:cNvCxnSpPr>
          <p:nvPr/>
        </p:nvCxnSpPr>
        <p:spPr>
          <a:xfrm flipH="1">
            <a:off x="1568160" y="4110120"/>
            <a:ext cx="7149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7" name="Oval 8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9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AutoShape 12"/>
          <p:cNvCxnSpPr>
            <a:stCxn id="404" idx="3"/>
            <a:endCxn id="408" idx="7"/>
          </p:cNvCxnSpPr>
          <p:nvPr/>
        </p:nvCxnSpPr>
        <p:spPr>
          <a:xfrm flipH="1">
            <a:off x="758160" y="5447880"/>
            <a:ext cx="477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2" name="AutoShape 13"/>
          <p:cNvCxnSpPr>
            <a:stCxn id="404" idx="5"/>
            <a:endCxn id="409" idx="1"/>
          </p:cNvCxnSpPr>
          <p:nvPr/>
        </p:nvCxnSpPr>
        <p:spPr>
          <a:xfrm>
            <a:off x="1568520" y="5448240"/>
            <a:ext cx="411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AutoShape 14"/>
          <p:cNvCxnSpPr>
            <a:stCxn id="403" idx="5"/>
            <a:endCxn id="407" idx="1"/>
          </p:cNvCxnSpPr>
          <p:nvPr/>
        </p:nvCxnSpPr>
        <p:spPr>
          <a:xfrm>
            <a:off x="2615760" y="4110120"/>
            <a:ext cx="63756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4" name="AutoShape 15"/>
          <p:cNvCxnSpPr>
            <a:stCxn id="402" idx="5"/>
            <a:endCxn id="410" idx="1"/>
          </p:cNvCxnSpPr>
          <p:nvPr/>
        </p:nvCxnSpPr>
        <p:spPr>
          <a:xfrm>
            <a:off x="3625920" y="2725200"/>
            <a:ext cx="66060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Line 16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18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0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21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22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3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D382-69E2-470B-A510-90263D51C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B656-C1A3-4EB0-84C8-A83B7A52D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1102320" y="4761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6"/>
          <p:cNvCxnSpPr>
            <a:stCxn id="428" idx="3"/>
            <a:endCxn id="429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AutoShape 7"/>
          <p:cNvCxnSpPr>
            <a:stCxn id="429" idx="3"/>
            <a:endCxn id="430" idx="7"/>
          </p:cNvCxnSpPr>
          <p:nvPr/>
        </p:nvCxnSpPr>
        <p:spPr>
          <a:xfrm flipH="1">
            <a:off x="1568160" y="4110120"/>
            <a:ext cx="7149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Oval 8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9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1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2"/>
          <p:cNvCxnSpPr>
            <a:stCxn id="430" idx="3"/>
            <a:endCxn id="434" idx="7"/>
          </p:cNvCxnSpPr>
          <p:nvPr/>
        </p:nvCxnSpPr>
        <p:spPr>
          <a:xfrm flipH="1">
            <a:off x="758160" y="5447880"/>
            <a:ext cx="477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AutoShape 13"/>
          <p:cNvCxnSpPr>
            <a:stCxn id="430" idx="5"/>
            <a:endCxn id="435" idx="1"/>
          </p:cNvCxnSpPr>
          <p:nvPr/>
        </p:nvCxnSpPr>
        <p:spPr>
          <a:xfrm>
            <a:off x="1568520" y="5448240"/>
            <a:ext cx="411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AutoShape 14"/>
          <p:cNvCxnSpPr>
            <a:stCxn id="429" idx="5"/>
            <a:endCxn id="433" idx="1"/>
          </p:cNvCxnSpPr>
          <p:nvPr/>
        </p:nvCxnSpPr>
        <p:spPr>
          <a:xfrm>
            <a:off x="2615760" y="4110120"/>
            <a:ext cx="63756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AutoShape 15"/>
          <p:cNvCxnSpPr>
            <a:stCxn id="428" idx="5"/>
            <a:endCxn id="436" idx="1"/>
          </p:cNvCxnSpPr>
          <p:nvPr/>
        </p:nvCxnSpPr>
        <p:spPr>
          <a:xfrm>
            <a:off x="3625920" y="2725200"/>
            <a:ext cx="66060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AutoShape 16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446" name="Line 21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22"/>
            <p:cNvSpPr/>
            <p:nvPr/>
          </p:nvSpPr>
          <p:spPr>
            <a:xfrm rot="18570000">
              <a:off x="484920" y="32374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451C-6916-48A1-8BB5-3813952CA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95D2-16AE-4F45-A4E6-6E170207D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813240" y="485784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6"/>
          <p:cNvCxnSpPr>
            <a:stCxn id="453" idx="3"/>
            <a:endCxn id="454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7" name="AutoShape 7"/>
          <p:cNvCxnSpPr>
            <a:stCxn id="454" idx="3"/>
            <a:endCxn id="455" idx="7"/>
          </p:cNvCxnSpPr>
          <p:nvPr/>
        </p:nvCxnSpPr>
        <p:spPr>
          <a:xfrm flipH="1">
            <a:off x="1279080" y="4109760"/>
            <a:ext cx="100368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Oval 8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AutoShape 11"/>
          <p:cNvCxnSpPr>
            <a:stCxn id="455" idx="3"/>
            <a:endCxn id="459" idx="7"/>
          </p:cNvCxnSpPr>
          <p:nvPr/>
        </p:nvCxnSpPr>
        <p:spPr>
          <a:xfrm flipH="1">
            <a:off x="713880" y="5544720"/>
            <a:ext cx="23256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AutoShape 12"/>
          <p:cNvCxnSpPr>
            <a:stCxn id="455" idx="4"/>
            <a:endCxn id="460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AutoShape 13"/>
          <p:cNvCxnSpPr>
            <a:stCxn id="454" idx="5"/>
            <a:endCxn id="464" idx="1"/>
          </p:cNvCxnSpPr>
          <p:nvPr/>
        </p:nvCxnSpPr>
        <p:spPr>
          <a:xfrm>
            <a:off x="2615760" y="4110120"/>
            <a:ext cx="3117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AutoShape 14"/>
          <p:cNvCxnSpPr>
            <a:stCxn id="453" idx="5"/>
            <a:endCxn id="466" idx="1"/>
          </p:cNvCxnSpPr>
          <p:nvPr/>
        </p:nvCxnSpPr>
        <p:spPr>
          <a:xfrm>
            <a:off x="3625560" y="2725200"/>
            <a:ext cx="181044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7" name="Line 15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18"/>
          <p:cNvSpPr/>
          <p:nvPr/>
        </p:nvSpPr>
        <p:spPr>
          <a:xfrm>
            <a:off x="5302800" y="3638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19"/>
          <p:cNvSpPr/>
          <p:nvPr/>
        </p:nvSpPr>
        <p:spPr>
          <a:xfrm>
            <a:off x="4293000" y="50227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0"/>
          <p:cNvCxnSpPr>
            <a:stCxn id="466" idx="3"/>
            <a:endCxn id="470" idx="7"/>
          </p:cNvCxnSpPr>
          <p:nvPr/>
        </p:nvCxnSpPr>
        <p:spPr>
          <a:xfrm flipH="1">
            <a:off x="4758480" y="43254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AutoShape 21"/>
          <p:cNvCxnSpPr>
            <a:stCxn id="470" idx="3"/>
            <a:endCxn id="458" idx="7"/>
          </p:cNvCxnSpPr>
          <p:nvPr/>
        </p:nvCxnSpPr>
        <p:spPr>
          <a:xfrm flipH="1">
            <a:off x="4215960" y="5710320"/>
            <a:ext cx="21024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3" name="Oval 22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AutoShape 23"/>
          <p:cNvCxnSpPr>
            <a:stCxn id="466" idx="5"/>
            <a:endCxn id="473" idx="1"/>
          </p:cNvCxnSpPr>
          <p:nvPr/>
        </p:nvCxnSpPr>
        <p:spPr>
          <a:xfrm>
            <a:off x="5769000" y="4325760"/>
            <a:ext cx="65160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5" name="Oval 24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AutoShape 25"/>
          <p:cNvCxnSpPr>
            <a:stCxn id="470" idx="5"/>
            <a:endCxn id="475" idx="1"/>
          </p:cNvCxnSpPr>
          <p:nvPr/>
        </p:nvCxnSpPr>
        <p:spPr>
          <a:xfrm>
            <a:off x="4758840" y="5710320"/>
            <a:ext cx="20556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Oval 26"/>
          <p:cNvSpPr/>
          <p:nvPr/>
        </p:nvSpPr>
        <p:spPr>
          <a:xfrm>
            <a:off x="2794680" y="4248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AutoShape 27"/>
          <p:cNvCxnSpPr>
            <a:stCxn id="464" idx="3"/>
            <a:endCxn id="478" idx="7"/>
          </p:cNvCxnSpPr>
          <p:nvPr/>
        </p:nvCxnSpPr>
        <p:spPr>
          <a:xfrm flipH="1">
            <a:off x="2727000" y="4935240"/>
            <a:ext cx="2008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9" name="Oval 28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AutoShape 29"/>
          <p:cNvCxnSpPr>
            <a:stCxn id="464" idx="5"/>
            <a:endCxn id="479" idx="1"/>
          </p:cNvCxnSpPr>
          <p:nvPr/>
        </p:nvCxnSpPr>
        <p:spPr>
          <a:xfrm>
            <a:off x="3260520" y="4935240"/>
            <a:ext cx="33228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1" name="Oval 30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1"/>
          <p:cNvSpPr/>
          <p:nvPr/>
        </p:nvSpPr>
        <p:spPr>
          <a:xfrm>
            <a:off x="2261160" y="51624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AutoShape 32"/>
          <p:cNvCxnSpPr>
            <a:stCxn id="478" idx="3"/>
            <a:endCxn id="481" idx="7"/>
          </p:cNvCxnSpPr>
          <p:nvPr/>
        </p:nvCxnSpPr>
        <p:spPr>
          <a:xfrm flipH="1">
            <a:off x="2210760" y="5850000"/>
            <a:ext cx="1832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3" name="Oval 33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AutoShape 34"/>
          <p:cNvCxnSpPr>
            <a:stCxn id="478" idx="5"/>
            <a:endCxn id="483" idx="1"/>
          </p:cNvCxnSpPr>
          <p:nvPr/>
        </p:nvCxnSpPr>
        <p:spPr>
          <a:xfrm>
            <a:off x="2727000" y="5850000"/>
            <a:ext cx="1846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Line 35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6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7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38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39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40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41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CF32-D082-4371-A2DE-AC99A4FEA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3"/>
          <p:cNvSpPr/>
          <p:nvPr/>
        </p:nvSpPr>
        <p:spPr>
          <a:xfrm>
            <a:off x="49309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285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68576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419360" y="275760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167B-3EBD-4100-BE1F-9878DFE16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496" name="Line 5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6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7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9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501" name="Line 10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2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3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Text Box 14"/>
          <p:cNvSpPr/>
          <p:nvPr/>
        </p:nvSpPr>
        <p:spPr>
          <a:xfrm>
            <a:off x="217620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363924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494892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7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8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9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0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220968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F55A-D637-49B4-92A9-3613A8772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17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23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671-BA28-4C3D-B80F-EAC61AFD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40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41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46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B6D-95D4-496F-B1F8-B99F640D7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63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64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69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B7E4-A15A-4203-82A8-F7D270C82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86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87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92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1CF3-DBDB-4582-BC26-EDCB0FD17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609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610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615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6CC2-091F-43CB-B403-B794EC811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8ED-0090-45BC-B468-7CA744826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: Given an expression E, compute T(E) and V(E, 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 without computing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92BC-AA55-4C81-9516-1606D2DEA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D479-099E-46C6-9C8A-0FADADEDF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T(R)/V(R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V(R,A) is not available, estimate T(S) = T(R)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(c - Low(R, A))/(High(R,A) - Low(R,A))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Low, High unavailable, estimate T(S) = T(R)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87C3-DFD1-46A0-9678-15DDAC0DA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3"/>
          <p:cNvSpPr/>
          <p:nvPr/>
        </p:nvSpPr>
        <p:spPr>
          <a:xfrm>
            <a:off x="70164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66616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6708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7BEB-61C9-4606-81C5-B87C1F7D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AFAE-45EE-4F36-BF2B-9628D6CCB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other attribute 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A0FA-581B-468B-B01F-3D27ABA2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will contribute T(S)/V(S,A) tuples in R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: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A17D-D02E-4E75-88C3-BB2B61813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C03C-9DB1-45E1-A4D2-470496139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1130-0BCA-4FD4-B9D0-432FFBF46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4AB8-2CC2-43B6-9414-7280D055A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1040"/>
                <a:gridCol w="1120680"/>
                <a:gridCol w="1122480"/>
                <a:gridCol w="1122120"/>
                <a:gridCol w="1120680"/>
                <a:gridCol w="1121040"/>
                <a:gridCol w="112068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CF0-0F62-40A9-921F-B1C75203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size of Employe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C56-0F92-4EB1-A018-D177028F9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200400" y="2133720"/>
          <a:ext cx="5410080" cy="79200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3200400" y="3629160"/>
          <a:ext cx="5410080" cy="79200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3119-7E3D-4B92-B8EF-1D28F2B07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Rectangle 3"/>
          <p:cNvSpPr/>
          <p:nvPr/>
        </p:nvSpPr>
        <p:spPr>
          <a:xfrm>
            <a:off x="69073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833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6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7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48956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3816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1856-CE04-4E5A-9759-52095F7A8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3"/>
          <p:cNvSpPr/>
          <p:nvPr/>
        </p:nvSpPr>
        <p:spPr>
          <a:xfrm>
            <a:off x="70164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66616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6996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76716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4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446256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85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31028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0E15-6C19-4418-9B0D-0520FEBF2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3"/>
          <p:cNvSpPr/>
          <p:nvPr/>
        </p:nvSpPr>
        <p:spPr>
          <a:xfrm>
            <a:off x="69073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833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1814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746460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153036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188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334404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0960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1-25T01:45:23Z</dcterms:modified>
  <cp:revision>390</cp:revision>
  <dc:subject/>
  <dc:title>Lecture 09:</dc:title>
</cp:coreProperties>
</file>