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FD8D-203A-4B46-B2F9-F0E8D63D6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1E64B02-88EA-46A3-BCA8-331AFFBA6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14D3-BB81-4C64-8031-4F9D9601A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2B2F-7199-4DCF-9D8B-C71066006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B401-017B-4A9D-811B-B39EE5A71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801A-5E0F-4BEF-97A2-8D833D46A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04F0-85A5-40D4-8197-53A46B691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1EB4-F3DB-4A31-942F-1FFF57315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559A-0117-4F32-9005-37C0D7158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2F9B-C0BA-4CCB-BBAC-068ED2AEB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A139-E9EA-4579-93B4-D9ABA0238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642B-D026-47A6-AC47-F62ABF53A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A007-8B61-44BB-83A2-D05189445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663D-9B17-4499-BF21-C5BC155F8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9377-0078-49AB-9881-0AA230DF5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D854-0486-4336-AEE6-4938C772A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2D2D-7AD8-4002-9985-DCE3CC26A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432D-DCC7-4E78-94AD-1E886FE02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65F8-408A-4E6F-9A8B-F5F08617A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2838-5316-47D3-B167-45D3A8058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7329-5383-4E6B-B1BA-438303139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6186-8BF5-48A6-AC40-8E838C3BD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2091-1DAB-4B8C-A14C-2B3BEFF19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F80A-60D7-4A1E-81FC-144C3F3C6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33F0-BF87-4A50-98A2-9CA6CC86D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CAFE-541B-4AA3-8CD5-326331DAD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AC47-8B5A-4B9B-818F-A884469FF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87C3-FAF9-48F5-9EE1-0D7C71C44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DD02-38C9-4AC7-9D53-BD2C7A042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lan means: read the City-index and find the entries for Seattle.  Each such entry consists of a key, the ‘buyer’ key.  For each of them go to Purchase and use the primary index to retrieve the purc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5EA2-FB5F-4C6C-A0CF-0858A453B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4930-4753-4FAC-8647-CD69EAD90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DE66-02F3-4EB6-AEDD-50D7A0A17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660F-DFC4-447A-BFD5-A0BBE686F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2B5C-48C6-4290-81A0-77782AC4F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02AE-EB0D-4BFC-AD74-BD856BE29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D52-41C7-4529-A11A-30D01B6D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1D2-3A90-4E72-B4E2-153E3B01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8A2B-B1FA-456F-A471-280D7526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0448-FE55-495C-9EF3-65054302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2F2-AEF9-4123-A58F-82FB20F2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4B5B-843D-4E11-A29D-1626FEE7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A38-59A9-45B4-8A8A-70D65BDC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109A-D7C0-4D6E-926E-DCE28010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B7F-AD28-4793-A186-1CE48E70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E0D-0E85-4AAD-93E7-0B93FC77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E7FF-0493-4757-9FA0-5CB0DFA3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2AB-1B2A-440E-ADB5-FDC36A3C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DB64-4E99-478E-963B-9982B0885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CC0B-64AF-4171-8CF4-196546B71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7631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Query Execution: 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 16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CD78-0FB0-4792-A885-B2549A59A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71360" y="3276720"/>
            <a:ext cx="378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ame,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14600" y="533520"/>
          <a:ext cx="6019920" cy="218412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505320" y="4267080"/>
          <a:ext cx="4012920" cy="1638360"/>
        </p:xfrm>
        <a:graphic>
          <a:graphicData uri="http://schemas.openxmlformats.org/drawingml/2006/table">
            <a:tbl>
              <a:tblPr/>
              <a:tblGrid>
                <a:gridCol w="2006640"/>
                <a:gridCol w="200628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9ADC-029B-4CF0-BAD1-A47609C82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Cartesian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uple in R1 with each tuple in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rare in practice; mainly used to express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F365-23D6-4D6C-8825-B8EF4781D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1374840" y="274680"/>
            <a:ext cx="635796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A82A-C268-4BB6-B3F4-735C0E269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ECBD-1984-486A-A483-DAA2D8D47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he schema, not the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1,…,B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chema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(LastName, SocSoc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EA6F-0C26-4ABB-B8B6-5AD9D27A2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am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90120" y="194616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9400" y="231768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005360" y="231768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609480" y="22874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24360" y="22874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3946680" y="22874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90480" y="26719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4005000" y="26719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609480" y="265284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3924360" y="26528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3935520" y="265284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690120" y="30160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4005000" y="30160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609480" y="335268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3924360" y="33526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8"/>
          <p:cNvSpPr/>
          <p:nvPr/>
        </p:nvSpPr>
        <p:spPr>
          <a:xfrm>
            <a:off x="3946680" y="335268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842040" y="5060880"/>
            <a:ext cx="125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4157640" y="506088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Soc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762120" y="503064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4076640" y="50306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4098960" y="503064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4"/>
          <p:cNvSpPr/>
          <p:nvPr/>
        </p:nvSpPr>
        <p:spPr>
          <a:xfrm>
            <a:off x="842760" y="54151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4157280" y="54151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762120" y="5396040"/>
            <a:ext cx="33145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4076640" y="53960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4087800" y="5396040"/>
            <a:ext cx="33037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842760" y="57592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0"/>
          <p:cNvSpPr/>
          <p:nvPr/>
        </p:nvSpPr>
        <p:spPr>
          <a:xfrm>
            <a:off x="4157280" y="57592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762120" y="609588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4076640" y="60958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3"/>
          <p:cNvSpPr/>
          <p:nvPr/>
        </p:nvSpPr>
        <p:spPr>
          <a:xfrm>
            <a:off x="4098960" y="609588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228600" y="3505320"/>
            <a:ext cx="74674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Symbol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69F2-40F2-4EDC-B30B-B0A935707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aning:  R1     R2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selec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hecks equality of all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projection eliminates the duplicate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1"/>
          <p:cNvSpPr/>
          <p:nvPr/>
        </p:nvSpPr>
        <p:spPr>
          <a:xfrm rot="16200000">
            <a:off x="3367800" y="127548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61"/>
          <p:cNvSpPr/>
          <p:nvPr/>
        </p:nvSpPr>
        <p:spPr>
          <a:xfrm rot="16200000">
            <a:off x="3444120" y="234216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2BBD-1A84-4994-A908-872106271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222560" y="407880"/>
            <a:ext cx="288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Joi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163160" y="87804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162440" y="124920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478400" y="12492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082520" y="121932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4397400" y="121932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419720" y="121932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1163520" y="16034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4478040" y="160344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1082520" y="158436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4397400" y="158436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4408560" y="158436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1163160" y="194796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4478040" y="1947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1082520" y="2284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4397400" y="2284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4419720" y="2284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1163520" y="2654280"/>
            <a:ext cx="152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1163880" y="30258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4477320" y="302580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2"/>
          <p:cNvSpPr/>
          <p:nvPr/>
        </p:nvSpPr>
        <p:spPr>
          <a:xfrm>
            <a:off x="1082520" y="2995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3"/>
          <p:cNvSpPr/>
          <p:nvPr/>
        </p:nvSpPr>
        <p:spPr>
          <a:xfrm>
            <a:off x="4397400" y="2995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4"/>
          <p:cNvSpPr/>
          <p:nvPr/>
        </p:nvSpPr>
        <p:spPr>
          <a:xfrm>
            <a:off x="4419720" y="2995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1163160" y="33796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6"/>
          <p:cNvSpPr/>
          <p:nvPr/>
        </p:nvSpPr>
        <p:spPr>
          <a:xfrm>
            <a:off x="4476960" y="337968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7"/>
          <p:cNvSpPr/>
          <p:nvPr/>
        </p:nvSpPr>
        <p:spPr>
          <a:xfrm>
            <a:off x="1082520" y="3363840"/>
            <a:ext cx="331488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8"/>
          <p:cNvSpPr/>
          <p:nvPr/>
        </p:nvSpPr>
        <p:spPr>
          <a:xfrm>
            <a:off x="4397400" y="336384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9"/>
          <p:cNvSpPr/>
          <p:nvPr/>
        </p:nvSpPr>
        <p:spPr>
          <a:xfrm>
            <a:off x="4408560" y="3363840"/>
            <a:ext cx="33033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0"/>
          <p:cNvSpPr/>
          <p:nvPr/>
        </p:nvSpPr>
        <p:spPr>
          <a:xfrm>
            <a:off x="1163160" y="372420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1"/>
          <p:cNvSpPr/>
          <p:nvPr/>
        </p:nvSpPr>
        <p:spPr>
          <a:xfrm>
            <a:off x="4478040" y="372420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2"/>
          <p:cNvSpPr/>
          <p:nvPr/>
        </p:nvSpPr>
        <p:spPr>
          <a:xfrm>
            <a:off x="1082520" y="40622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3"/>
          <p:cNvSpPr/>
          <p:nvPr/>
        </p:nvSpPr>
        <p:spPr>
          <a:xfrm>
            <a:off x="4397400" y="40622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4"/>
          <p:cNvSpPr/>
          <p:nvPr/>
        </p:nvSpPr>
        <p:spPr>
          <a:xfrm>
            <a:off x="4419720" y="40622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5"/>
          <p:cNvSpPr/>
          <p:nvPr/>
        </p:nvSpPr>
        <p:spPr>
          <a:xfrm>
            <a:off x="1222920" y="502272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6"/>
          <p:cNvSpPr/>
          <p:nvPr/>
        </p:nvSpPr>
        <p:spPr>
          <a:xfrm>
            <a:off x="2586240" y="502272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7"/>
          <p:cNvSpPr/>
          <p:nvPr/>
        </p:nvSpPr>
        <p:spPr>
          <a:xfrm>
            <a:off x="4267800" y="502272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8"/>
          <p:cNvSpPr/>
          <p:nvPr/>
        </p:nvSpPr>
        <p:spPr>
          <a:xfrm>
            <a:off x="1143000" y="499284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9"/>
          <p:cNvSpPr/>
          <p:nvPr/>
        </p:nvSpPr>
        <p:spPr>
          <a:xfrm>
            <a:off x="2505240" y="499284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0"/>
          <p:cNvSpPr/>
          <p:nvPr/>
        </p:nvSpPr>
        <p:spPr>
          <a:xfrm>
            <a:off x="2525760" y="499284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1"/>
          <p:cNvSpPr/>
          <p:nvPr/>
        </p:nvSpPr>
        <p:spPr>
          <a:xfrm>
            <a:off x="4187880" y="499284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2"/>
          <p:cNvSpPr/>
          <p:nvPr/>
        </p:nvSpPr>
        <p:spPr>
          <a:xfrm>
            <a:off x="4210200" y="499284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3"/>
          <p:cNvSpPr/>
          <p:nvPr/>
        </p:nvSpPr>
        <p:spPr>
          <a:xfrm>
            <a:off x="1224000" y="537696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4"/>
          <p:cNvSpPr/>
          <p:nvPr/>
        </p:nvSpPr>
        <p:spPr>
          <a:xfrm>
            <a:off x="2585520" y="5376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5"/>
          <p:cNvSpPr/>
          <p:nvPr/>
        </p:nvSpPr>
        <p:spPr>
          <a:xfrm>
            <a:off x="4267440" y="537696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6"/>
          <p:cNvSpPr/>
          <p:nvPr/>
        </p:nvSpPr>
        <p:spPr>
          <a:xfrm>
            <a:off x="1143000" y="5359320"/>
            <a:ext cx="13622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7"/>
          <p:cNvSpPr/>
          <p:nvPr/>
        </p:nvSpPr>
        <p:spPr>
          <a:xfrm>
            <a:off x="2505240" y="5359320"/>
            <a:ext cx="1080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8"/>
          <p:cNvSpPr/>
          <p:nvPr/>
        </p:nvSpPr>
        <p:spPr>
          <a:xfrm>
            <a:off x="2516040" y="5359320"/>
            <a:ext cx="16718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9"/>
          <p:cNvSpPr/>
          <p:nvPr/>
        </p:nvSpPr>
        <p:spPr>
          <a:xfrm>
            <a:off x="4187880" y="535932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0"/>
          <p:cNvSpPr/>
          <p:nvPr/>
        </p:nvSpPr>
        <p:spPr>
          <a:xfrm>
            <a:off x="4199040" y="5359320"/>
            <a:ext cx="164772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1"/>
          <p:cNvSpPr/>
          <p:nvPr/>
        </p:nvSpPr>
        <p:spPr>
          <a:xfrm>
            <a:off x="1223640" y="57214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2"/>
          <p:cNvSpPr/>
          <p:nvPr/>
        </p:nvSpPr>
        <p:spPr>
          <a:xfrm>
            <a:off x="2585520" y="57214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53"/>
          <p:cNvSpPr/>
          <p:nvPr/>
        </p:nvSpPr>
        <p:spPr>
          <a:xfrm>
            <a:off x="4268520" y="572148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4"/>
          <p:cNvSpPr/>
          <p:nvPr/>
        </p:nvSpPr>
        <p:spPr>
          <a:xfrm>
            <a:off x="1143000" y="605808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5"/>
          <p:cNvSpPr/>
          <p:nvPr/>
        </p:nvSpPr>
        <p:spPr>
          <a:xfrm>
            <a:off x="2505240" y="605808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56"/>
          <p:cNvSpPr/>
          <p:nvPr/>
        </p:nvSpPr>
        <p:spPr>
          <a:xfrm>
            <a:off x="2525760" y="605808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7"/>
          <p:cNvSpPr/>
          <p:nvPr/>
        </p:nvSpPr>
        <p:spPr>
          <a:xfrm>
            <a:off x="4187880" y="605808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8"/>
          <p:cNvSpPr/>
          <p:nvPr/>
        </p:nvSpPr>
        <p:spPr>
          <a:xfrm>
            <a:off x="4210200" y="605808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59"/>
          <p:cNvGrpSpPr/>
          <p:nvPr/>
        </p:nvGrpSpPr>
        <p:grpSpPr>
          <a:xfrm>
            <a:off x="542520" y="4191120"/>
            <a:ext cx="7674480" cy="782280"/>
            <a:chOff x="542520" y="4191120"/>
            <a:chExt cx="7674480" cy="782280"/>
          </a:xfrm>
        </p:grpSpPr>
        <p:sp>
          <p:nvSpPr>
            <p:cNvPr id="198" name="Rectangle 60"/>
            <p:cNvSpPr/>
            <p:nvPr/>
          </p:nvSpPr>
          <p:spPr>
            <a:xfrm>
              <a:off x="542520" y="4191120"/>
              <a:ext cx="767448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mployee         Dependents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ame, SSN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=SSN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Employee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2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Dependents)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AutoShape 61"/>
            <p:cNvSpPr/>
            <p:nvPr/>
          </p:nvSpPr>
          <p:spPr>
            <a:xfrm rot="16200000">
              <a:off x="1771920" y="4170960"/>
              <a:ext cx="193680" cy="3855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C975-BDE3-4AA5-9F13-C0DDBA3BB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=                               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52480" y="2133720"/>
          <a:ext cx="2514600" cy="182880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410080" y="2133720"/>
          <a:ext cx="2514600" cy="146340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2590920" y="4191120"/>
          <a:ext cx="4495680" cy="2377800"/>
        </p:xfrm>
        <a:graphic>
          <a:graphicData uri="http://schemas.openxmlformats.org/drawingml/2006/table">
            <a:tbl>
              <a:tblPr/>
              <a:tblGrid>
                <a:gridCol w="1498320"/>
                <a:gridCol w="1498680"/>
                <a:gridCol w="14986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AutoShape 61"/>
          <p:cNvSpPr/>
          <p:nvPr/>
        </p:nvSpPr>
        <p:spPr>
          <a:xfrm rot="16200000">
            <a:off x="1543680" y="443448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36F7-1808-4597-8265-D8BE9A70B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he schemas R(A, B, C, D), S(A, C, E), what is the schema of R     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, C),  S(D, E), what is R    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),  S(A, B),  what is  R    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61"/>
          <p:cNvSpPr/>
          <p:nvPr/>
        </p:nvSpPr>
        <p:spPr>
          <a:xfrm rot="16200000">
            <a:off x="5120280" y="257076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61"/>
          <p:cNvSpPr/>
          <p:nvPr/>
        </p:nvSpPr>
        <p:spPr>
          <a:xfrm rot="16200000">
            <a:off x="7406280" y="376308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61"/>
          <p:cNvSpPr/>
          <p:nvPr/>
        </p:nvSpPr>
        <p:spPr>
          <a:xfrm rot="16200000">
            <a:off x="7177680" y="493308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01E3-9E8A-4655-BAAB-D3D5C08E5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MS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es a SQL engine work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quer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al algebra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algebra pl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timized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each operator of the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2166-E029-4A02-83F3-52F4459E4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ta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oin that involves a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any cond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61"/>
          <p:cNvSpPr/>
          <p:nvPr/>
        </p:nvSpPr>
        <p:spPr>
          <a:xfrm rot="16200000">
            <a:off x="1767600" y="260568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FC6E-81CF-417B-9968-2C1DDC60D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ta join 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useful join in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61"/>
          <p:cNvSpPr/>
          <p:nvPr/>
        </p:nvSpPr>
        <p:spPr>
          <a:xfrm rot="16200000">
            <a:off x="1651680" y="257076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1"/>
          <p:cNvSpPr/>
          <p:nvPr/>
        </p:nvSpPr>
        <p:spPr>
          <a:xfrm rot="16200000">
            <a:off x="3367800" y="367272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C27A-BDCA-4207-96F5-B3C0A4EC1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     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he attributes in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61"/>
          <p:cNvSpPr/>
          <p:nvPr/>
        </p:nvSpPr>
        <p:spPr>
          <a:xfrm rot="16200000">
            <a:off x="4815720" y="211356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222A-92AC-45A2-8374-D62060DC9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s in Distributed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joins are used in distributed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219320" y="3581280"/>
          <a:ext cx="1904760" cy="73188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5181480" y="3200400"/>
          <a:ext cx="2857680" cy="7318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Oval 29"/>
          <p:cNvSpPr/>
          <p:nvPr/>
        </p:nvSpPr>
        <p:spPr>
          <a:xfrm>
            <a:off x="838080" y="2743200"/>
            <a:ext cx="266724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30"/>
          <p:cNvSpPr/>
          <p:nvPr/>
        </p:nvSpPr>
        <p:spPr>
          <a:xfrm>
            <a:off x="4800600" y="2590920"/>
            <a:ext cx="3886200" cy="1904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31"/>
          <p:cNvCxnSpPr>
            <a:stCxn id="231" idx="6"/>
            <a:endCxn id="232" idx="2"/>
          </p:cNvCxnSpPr>
          <p:nvPr/>
        </p:nvCxnSpPr>
        <p:spPr>
          <a:xfrm flipV="1">
            <a:off x="3505320" y="3542760"/>
            <a:ext cx="1296000" cy="22932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4" name="Text Box 32"/>
          <p:cNvSpPr/>
          <p:nvPr/>
        </p:nvSpPr>
        <p:spPr>
          <a:xfrm>
            <a:off x="1280160" y="293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3"/>
          <p:cNvSpPr/>
          <p:nvPr/>
        </p:nvSpPr>
        <p:spPr>
          <a:xfrm>
            <a:off x="5928480" y="2556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4"/>
          <p:cNvSpPr/>
          <p:nvPr/>
        </p:nvSpPr>
        <p:spPr>
          <a:xfrm>
            <a:off x="3795120" y="37749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5"/>
          <p:cNvSpPr/>
          <p:nvPr/>
        </p:nvSpPr>
        <p:spPr>
          <a:xfrm>
            <a:off x="1685520" y="4884840"/>
            <a:ext cx="644112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ts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6"/>
          <p:cNvSpPr/>
          <p:nvPr/>
        </p:nvSpPr>
        <p:spPr>
          <a:xfrm>
            <a:off x="5055120" y="5638680"/>
            <a:ext cx="39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7"/>
          <p:cNvSpPr/>
          <p:nvPr/>
        </p:nvSpPr>
        <p:spPr>
          <a:xfrm>
            <a:off x="844920" y="5861160"/>
            <a:ext cx="28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8"/>
          <p:cNvSpPr/>
          <p:nvPr/>
        </p:nvSpPr>
        <p:spPr>
          <a:xfrm>
            <a:off x="5123160" y="6216480"/>
            <a:ext cx="365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39"/>
          <p:cNvSpPr/>
          <p:nvPr/>
        </p:nvSpPr>
        <p:spPr>
          <a:xfrm flipH="1">
            <a:off x="3657600" y="586728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0"/>
          <p:cNvSpPr/>
          <p:nvPr/>
        </p:nvSpPr>
        <p:spPr>
          <a:xfrm>
            <a:off x="3657600" y="624852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61"/>
          <p:cNvSpPr/>
          <p:nvPr/>
        </p:nvSpPr>
        <p:spPr>
          <a:xfrm rot="16200000">
            <a:off x="3748680" y="485676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61"/>
          <p:cNvSpPr/>
          <p:nvPr/>
        </p:nvSpPr>
        <p:spPr>
          <a:xfrm rot="16200000">
            <a:off x="6873120" y="638100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3B07-E1A9-4678-8BBA-89CF42B1F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RA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        Purchase                    Person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4897080" y="5029200"/>
            <a:ext cx="1647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f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6815880" y="5029200"/>
            <a:ext cx="185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giz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710496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512352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8"/>
          <p:cNvGrpSpPr/>
          <p:nvPr/>
        </p:nvGrpSpPr>
        <p:grpSpPr>
          <a:xfrm>
            <a:off x="3809880" y="3581280"/>
            <a:ext cx="1705680" cy="461160"/>
            <a:chOff x="3809880" y="3581280"/>
            <a:chExt cx="1705680" cy="461160"/>
          </a:xfrm>
        </p:grpSpPr>
        <p:sp>
          <p:nvSpPr>
            <p:cNvPr id="253" name="AutoShape 9"/>
            <p:cNvSpPr/>
            <p:nvPr/>
          </p:nvSpPr>
          <p:spPr>
            <a:xfrm rot="16200000">
              <a:off x="3906000" y="348516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10"/>
            <p:cNvSpPr/>
            <p:nvPr/>
          </p:nvSpPr>
          <p:spPr>
            <a:xfrm>
              <a:off x="4193280" y="3705120"/>
              <a:ext cx="13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ll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11"/>
          <p:cNvGrpSpPr/>
          <p:nvPr/>
        </p:nvGrpSpPr>
        <p:grpSpPr>
          <a:xfrm>
            <a:off x="6019920" y="2743200"/>
            <a:ext cx="1198080" cy="461160"/>
            <a:chOff x="6019920" y="2743200"/>
            <a:chExt cx="1198080" cy="461160"/>
          </a:xfrm>
        </p:grpSpPr>
        <p:sp>
          <p:nvSpPr>
            <p:cNvPr id="256" name="AutoShape 12"/>
            <p:cNvSpPr/>
            <p:nvPr/>
          </p:nvSpPr>
          <p:spPr>
            <a:xfrm rot="16200000">
              <a:off x="6115680" y="2647080"/>
              <a:ext cx="193680" cy="3855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3"/>
            <p:cNvSpPr/>
            <p:nvPr/>
          </p:nvSpPr>
          <p:spPr>
            <a:xfrm>
              <a:off x="6401880" y="2867040"/>
              <a:ext cx="81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id=p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4"/>
          <p:cNvGrpSpPr/>
          <p:nvPr/>
        </p:nvGrpSpPr>
        <p:grpSpPr>
          <a:xfrm>
            <a:off x="3352680" y="2057400"/>
            <a:ext cx="1729080" cy="461160"/>
            <a:chOff x="3352680" y="2057400"/>
            <a:chExt cx="1729080" cy="461160"/>
          </a:xfrm>
        </p:grpSpPr>
        <p:sp>
          <p:nvSpPr>
            <p:cNvPr id="259" name="AutoShape 15"/>
            <p:cNvSpPr/>
            <p:nvPr/>
          </p:nvSpPr>
          <p:spPr>
            <a:xfrm rot="16200000">
              <a:off x="3448800" y="196128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16"/>
            <p:cNvSpPr/>
            <p:nvPr/>
          </p:nvSpPr>
          <p:spPr>
            <a:xfrm>
              <a:off x="3735000" y="2181240"/>
              <a:ext cx="134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y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Rectangle 17"/>
          <p:cNvSpPr/>
          <p:nvPr/>
        </p:nvSpPr>
        <p:spPr>
          <a:xfrm>
            <a:off x="3309480" y="1066680"/>
            <a:ext cx="111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8"/>
          <p:cNvSpPr/>
          <p:nvPr/>
        </p:nvSpPr>
        <p:spPr>
          <a:xfrm flipV="1">
            <a:off x="55627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9"/>
          <p:cNvSpPr/>
          <p:nvPr/>
        </p:nvSpPr>
        <p:spPr>
          <a:xfrm flipV="1">
            <a:off x="76201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20"/>
          <p:cNvSpPr/>
          <p:nvPr/>
        </p:nvSpPr>
        <p:spPr>
          <a:xfrm flipV="1">
            <a:off x="55627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1"/>
          <p:cNvSpPr/>
          <p:nvPr/>
        </p:nvSpPr>
        <p:spPr>
          <a:xfrm flipV="1">
            <a:off x="762012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2"/>
          <p:cNvSpPr/>
          <p:nvPr/>
        </p:nvSpPr>
        <p:spPr>
          <a:xfrm flipV="1">
            <a:off x="3505320" y="4038480"/>
            <a:ext cx="53316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3"/>
          <p:cNvSpPr/>
          <p:nvPr/>
        </p:nvSpPr>
        <p:spPr>
          <a:xfrm flipH="1" flipV="1">
            <a:off x="4038120" y="40381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4"/>
          <p:cNvSpPr/>
          <p:nvPr/>
        </p:nvSpPr>
        <p:spPr>
          <a:xfrm flipV="1">
            <a:off x="4038480" y="30481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5"/>
          <p:cNvSpPr/>
          <p:nvPr/>
        </p:nvSpPr>
        <p:spPr>
          <a:xfrm flipH="1" flipV="1">
            <a:off x="6324480" y="30481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6"/>
          <p:cNvSpPr/>
          <p:nvPr/>
        </p:nvSpPr>
        <p:spPr>
          <a:xfrm flipH="1" flipV="1">
            <a:off x="3733920" y="251424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27"/>
          <p:cNvSpPr/>
          <p:nvPr/>
        </p:nvSpPr>
        <p:spPr>
          <a:xfrm flipV="1">
            <a:off x="1600200" y="2514240"/>
            <a:ext cx="167652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8"/>
          <p:cNvSpPr/>
          <p:nvPr/>
        </p:nvSpPr>
        <p:spPr>
          <a:xfrm flipV="1">
            <a:off x="35053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B05D-6E15-46DB-AF8F-E5B96706C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on B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set with repeated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perations need to be defined carefully on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b,b,c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b,b,b,e,f,f}={a,a,b,b,b,b,b,c,e,f,f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b,b,b,c,c} – {b,c,c,c,d} = {a,b,b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: preserve the number of occur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: no duplicat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, join: no duplicat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! Relational Engines work on bags, not set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2285280" y="624852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ading assignment: 5.3 – 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1EB4-0575-4C5D-A15B-6FF9D7977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: RA has Limitations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compute “transitive closu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direct and indirect relatives of F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express in RA !!!  Need to write 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2057400" y="2590920"/>
          <a:ext cx="4876920" cy="1828800"/>
        </p:xfrm>
        <a:graphic>
          <a:graphicData uri="http://schemas.openxmlformats.org/drawingml/2006/table">
            <a:tbl>
              <a:tblPr/>
              <a:tblGrid>
                <a:gridCol w="1625760"/>
                <a:gridCol w="1625400"/>
                <a:gridCol w="16257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on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5C51-F78A-472A-8DF8-206FAB221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SQL to 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-582480" y="2989440"/>
            <a:ext cx="7256520" cy="252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DISTIN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.city=‘Seattle’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Q.age &gt;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4"/>
          <p:cNvSpPr/>
          <p:nvPr/>
        </p:nvSpPr>
        <p:spPr>
          <a:xfrm>
            <a:off x="7130880" y="2146320"/>
            <a:ext cx="1800" cy="173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5"/>
          <p:cNvSpPr/>
          <p:nvPr/>
        </p:nvSpPr>
        <p:spPr>
          <a:xfrm>
            <a:off x="7218360" y="2146320"/>
            <a:ext cx="1440" cy="173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6"/>
          <p:cNvSpPr/>
          <p:nvPr/>
        </p:nvSpPr>
        <p:spPr>
          <a:xfrm>
            <a:off x="7089840" y="2130480"/>
            <a:ext cx="174600" cy="1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7"/>
          <p:cNvGrpSpPr/>
          <p:nvPr/>
        </p:nvGrpSpPr>
        <p:grpSpPr>
          <a:xfrm>
            <a:off x="7248600" y="4143240"/>
            <a:ext cx="349200" cy="123840"/>
            <a:chOff x="7248600" y="4143240"/>
            <a:chExt cx="349200" cy="123840"/>
          </a:xfrm>
        </p:grpSpPr>
        <p:sp>
          <p:nvSpPr>
            <p:cNvPr id="288" name="Freeform 8"/>
            <p:cNvSpPr/>
            <p:nvPr/>
          </p:nvSpPr>
          <p:spPr>
            <a:xfrm>
              <a:off x="7248600" y="4143240"/>
              <a:ext cx="144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9"/>
            <p:cNvSpPr/>
            <p:nvPr/>
          </p:nvSpPr>
          <p:spPr>
            <a:xfrm>
              <a:off x="7596360" y="4143240"/>
              <a:ext cx="144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0"/>
            <p:cNvSpPr/>
            <p:nvPr/>
          </p:nvSpPr>
          <p:spPr>
            <a:xfrm>
              <a:off x="7248600" y="4143240"/>
              <a:ext cx="34920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11"/>
            <p:cNvSpPr/>
            <p:nvPr/>
          </p:nvSpPr>
          <p:spPr>
            <a:xfrm>
              <a:off x="7248600" y="4143240"/>
              <a:ext cx="34920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Freeform 12"/>
          <p:cNvSpPr/>
          <p:nvPr/>
        </p:nvSpPr>
        <p:spPr>
          <a:xfrm>
            <a:off x="6653160" y="4654440"/>
            <a:ext cx="669960" cy="357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13"/>
          <p:cNvSpPr/>
          <p:nvPr/>
        </p:nvSpPr>
        <p:spPr>
          <a:xfrm>
            <a:off x="7569360" y="4654440"/>
            <a:ext cx="684000" cy="357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14"/>
          <p:cNvSpPr/>
          <p:nvPr/>
        </p:nvSpPr>
        <p:spPr>
          <a:xfrm>
            <a:off x="7424640" y="3430440"/>
            <a:ext cx="1800" cy="560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15"/>
          <p:cNvSpPr/>
          <p:nvPr/>
        </p:nvSpPr>
        <p:spPr>
          <a:xfrm>
            <a:off x="7424640" y="2503440"/>
            <a:ext cx="1800" cy="5126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6095160" y="5094360"/>
            <a:ext cx="13845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7881480" y="5078520"/>
            <a:ext cx="1088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6880320" y="434808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6171840" y="3124080"/>
            <a:ext cx="158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22"/>
          <p:cNvSpPr/>
          <p:nvPr/>
        </p:nvSpPr>
        <p:spPr>
          <a:xfrm>
            <a:off x="6399000" y="3352680"/>
            <a:ext cx="175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 age &gt;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3"/>
          <p:cNvSpPr/>
          <p:nvPr/>
        </p:nvSpPr>
        <p:spPr>
          <a:xfrm>
            <a:off x="7184880" y="2214720"/>
            <a:ext cx="8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4"/>
          <p:cNvSpPr/>
          <p:nvPr/>
        </p:nvSpPr>
        <p:spPr>
          <a:xfrm>
            <a:off x="8612280" y="3063960"/>
            <a:ext cx="1839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6021000" y="271764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373680" y="137160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chase(buyer, product, c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(name, 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6CB3-78A2-4AEB-AF42-B7EC27851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s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-506520" y="2514600"/>
            <a:ext cx="7256520" cy="252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DISTIN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.city=‘Seattle’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Q.age &gt;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4"/>
          <p:cNvSpPr/>
          <p:nvPr/>
        </p:nvSpPr>
        <p:spPr>
          <a:xfrm>
            <a:off x="7108920" y="2751120"/>
            <a:ext cx="1440" cy="173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5"/>
          <p:cNvSpPr/>
          <p:nvPr/>
        </p:nvSpPr>
        <p:spPr>
          <a:xfrm>
            <a:off x="7196040" y="2751120"/>
            <a:ext cx="1800" cy="173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6"/>
          <p:cNvSpPr/>
          <p:nvPr/>
        </p:nvSpPr>
        <p:spPr>
          <a:xfrm>
            <a:off x="7067520" y="2735280"/>
            <a:ext cx="174600" cy="1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7"/>
          <p:cNvGrpSpPr/>
          <p:nvPr/>
        </p:nvGrpSpPr>
        <p:grpSpPr>
          <a:xfrm>
            <a:off x="6966000" y="4143240"/>
            <a:ext cx="349200" cy="123840"/>
            <a:chOff x="6966000" y="4143240"/>
            <a:chExt cx="349200" cy="123840"/>
          </a:xfrm>
        </p:grpSpPr>
        <p:sp>
          <p:nvSpPr>
            <p:cNvPr id="312" name="Freeform 8"/>
            <p:cNvSpPr/>
            <p:nvPr/>
          </p:nvSpPr>
          <p:spPr>
            <a:xfrm>
              <a:off x="6966000" y="4143240"/>
              <a:ext cx="144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9"/>
            <p:cNvSpPr/>
            <p:nvPr/>
          </p:nvSpPr>
          <p:spPr>
            <a:xfrm>
              <a:off x="7313760" y="4143240"/>
              <a:ext cx="144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10"/>
            <p:cNvSpPr/>
            <p:nvPr/>
          </p:nvSpPr>
          <p:spPr>
            <a:xfrm>
              <a:off x="6966000" y="4143240"/>
              <a:ext cx="34920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11"/>
            <p:cNvSpPr/>
            <p:nvPr/>
          </p:nvSpPr>
          <p:spPr>
            <a:xfrm>
              <a:off x="6966000" y="4143240"/>
              <a:ext cx="34920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Freeform 12"/>
          <p:cNvSpPr/>
          <p:nvPr/>
        </p:nvSpPr>
        <p:spPr>
          <a:xfrm>
            <a:off x="6370560" y="4654440"/>
            <a:ext cx="669960" cy="357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3"/>
          <p:cNvSpPr/>
          <p:nvPr/>
        </p:nvSpPr>
        <p:spPr>
          <a:xfrm>
            <a:off x="7286760" y="4654440"/>
            <a:ext cx="684000" cy="357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14"/>
          <p:cNvSpPr/>
          <p:nvPr/>
        </p:nvSpPr>
        <p:spPr>
          <a:xfrm>
            <a:off x="7142040" y="3430440"/>
            <a:ext cx="1800" cy="560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8"/>
          <p:cNvSpPr/>
          <p:nvPr/>
        </p:nvSpPr>
        <p:spPr>
          <a:xfrm>
            <a:off x="5812560" y="6064200"/>
            <a:ext cx="13845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9"/>
          <p:cNvSpPr/>
          <p:nvPr/>
        </p:nvSpPr>
        <p:spPr>
          <a:xfrm>
            <a:off x="7598880" y="6048360"/>
            <a:ext cx="1088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20"/>
          <p:cNvSpPr/>
          <p:nvPr/>
        </p:nvSpPr>
        <p:spPr>
          <a:xfrm>
            <a:off x="6597720" y="434808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21"/>
          <p:cNvSpPr/>
          <p:nvPr/>
        </p:nvSpPr>
        <p:spPr>
          <a:xfrm>
            <a:off x="5943240" y="5486400"/>
            <a:ext cx="158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23"/>
          <p:cNvSpPr/>
          <p:nvPr/>
        </p:nvSpPr>
        <p:spPr>
          <a:xfrm>
            <a:off x="7162920" y="2819520"/>
            <a:ext cx="8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4"/>
          <p:cNvSpPr/>
          <p:nvPr/>
        </p:nvSpPr>
        <p:spPr>
          <a:xfrm>
            <a:off x="8383680" y="5425920"/>
            <a:ext cx="183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5"/>
          <p:cNvSpPr/>
          <p:nvPr/>
        </p:nvSpPr>
        <p:spPr>
          <a:xfrm>
            <a:off x="5792400" y="507996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221400" y="121932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chase(buyer, product, c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(name, 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30"/>
          <p:cNvSpPr/>
          <p:nvPr/>
        </p:nvSpPr>
        <p:spPr>
          <a:xfrm>
            <a:off x="7847640" y="5486400"/>
            <a:ext cx="122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&gt;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31"/>
          <p:cNvSpPr/>
          <p:nvPr/>
        </p:nvSpPr>
        <p:spPr>
          <a:xfrm>
            <a:off x="8307360" y="625320"/>
            <a:ext cx="184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2"/>
          <p:cNvSpPr/>
          <p:nvPr/>
        </p:nvSpPr>
        <p:spPr>
          <a:xfrm>
            <a:off x="7925760" y="50292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33"/>
          <p:cNvSpPr/>
          <p:nvPr/>
        </p:nvSpPr>
        <p:spPr>
          <a:xfrm>
            <a:off x="5943600" y="5638680"/>
            <a:ext cx="1440" cy="513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34"/>
          <p:cNvSpPr/>
          <p:nvPr/>
        </p:nvSpPr>
        <p:spPr>
          <a:xfrm>
            <a:off x="8077320" y="5562720"/>
            <a:ext cx="1440" cy="560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2B9E-CF00-4BF7-9B7B-949987F08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n-monontone Queries (in clas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-1820520" y="2549520"/>
            <a:ext cx="12377160" cy="399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DISTIN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city=‘Seattle’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ot exists (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2, Person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2.product = P.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d P2.buyer = Q.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d Q.age &gt; 2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97720" y="121932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chase(buyer, product, c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(name, 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24"/>
          <p:cNvSpPr/>
          <p:nvPr/>
        </p:nvSpPr>
        <p:spPr>
          <a:xfrm>
            <a:off x="8307360" y="625320"/>
            <a:ext cx="184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512A-0951-4E01-A37B-A6599F167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ism for creating new relations from existing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place in the big pi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146600" y="4269960"/>
            <a:ext cx="1453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t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188600" y="4635720"/>
            <a:ext cx="116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601680" y="4635720"/>
            <a:ext cx="2116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AutoShape 7"/>
          <p:cNvCxnSpPr>
            <a:stCxn id="57" idx="3"/>
            <a:endCxn id="58" idx="1"/>
          </p:cNvCxnSpPr>
          <p:nvPr/>
        </p:nvCxnSpPr>
        <p:spPr>
          <a:xfrm>
            <a:off x="2604960" y="4865400"/>
            <a:ext cx="1578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AutoShape 8"/>
          <p:cNvCxnSpPr>
            <a:stCxn id="58" idx="3"/>
            <a:endCxn id="59" idx="1"/>
          </p:cNvCxnSpPr>
          <p:nvPr/>
        </p:nvCxnSpPr>
        <p:spPr>
          <a:xfrm>
            <a:off x="5357880" y="4865400"/>
            <a:ext cx="124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Text Box 9"/>
          <p:cNvSpPr/>
          <p:nvPr/>
        </p:nvSpPr>
        <p:spPr>
          <a:xfrm>
            <a:off x="865080" y="5715000"/>
            <a:ext cx="24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cal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3579840" y="571500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bag 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FE47-2027-4F66-AF2E-3EA8DA74D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tended Logical Algebra Operato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perate on Bags, not Set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61"/>
          <p:cNvSpPr/>
          <p:nvPr/>
        </p:nvSpPr>
        <p:spPr>
          <a:xfrm rot="16200000">
            <a:off x="2072520" y="382500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805B-24C8-458E-8367-5B0B1E49D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980280" y="2251080"/>
            <a:ext cx="35625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407560" y="5486400"/>
            <a:ext cx="32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(product, city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4952880" y="4519440"/>
            <a:ext cx="32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sum(price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→p, count(*) →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5871240" y="34527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5785560" y="2438280"/>
            <a:ext cx="100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 flipV="1">
            <a:off x="60958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V="1">
            <a:off x="60958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 flipV="1">
            <a:off x="609588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7292880" y="403848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7292880" y="30481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7292880" y="19051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(city,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1018440" y="623628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, T2, T3  = temporary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1FF6-0F5B-433B-8CB8-F5C93B582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v.s. Physic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seen the logical algebra so f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basic operators, plus group-by, plus 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ysical algebra refines each operator into a concrete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FF63-9B8F-4FEB-8E92-9A815F93A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-506520" y="2514600"/>
            <a:ext cx="7256520" cy="252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DISTIN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.city=‘Seattle’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Q.age &gt;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4"/>
          <p:cNvSpPr/>
          <p:nvPr/>
        </p:nvSpPr>
        <p:spPr>
          <a:xfrm>
            <a:off x="7108920" y="2751120"/>
            <a:ext cx="1440" cy="173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5"/>
          <p:cNvSpPr/>
          <p:nvPr/>
        </p:nvSpPr>
        <p:spPr>
          <a:xfrm>
            <a:off x="7196040" y="2751120"/>
            <a:ext cx="1800" cy="173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6"/>
          <p:cNvSpPr/>
          <p:nvPr/>
        </p:nvSpPr>
        <p:spPr>
          <a:xfrm>
            <a:off x="7067520" y="2735280"/>
            <a:ext cx="174600" cy="1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7"/>
          <p:cNvGrpSpPr/>
          <p:nvPr/>
        </p:nvGrpSpPr>
        <p:grpSpPr>
          <a:xfrm>
            <a:off x="6966000" y="4143240"/>
            <a:ext cx="349200" cy="123840"/>
            <a:chOff x="6966000" y="4143240"/>
            <a:chExt cx="349200" cy="123840"/>
          </a:xfrm>
        </p:grpSpPr>
        <p:sp>
          <p:nvSpPr>
            <p:cNvPr id="365" name="Freeform 8"/>
            <p:cNvSpPr/>
            <p:nvPr/>
          </p:nvSpPr>
          <p:spPr>
            <a:xfrm>
              <a:off x="6966000" y="4143240"/>
              <a:ext cx="144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9"/>
            <p:cNvSpPr/>
            <p:nvPr/>
          </p:nvSpPr>
          <p:spPr>
            <a:xfrm>
              <a:off x="7313760" y="4143240"/>
              <a:ext cx="144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10"/>
            <p:cNvSpPr/>
            <p:nvPr/>
          </p:nvSpPr>
          <p:spPr>
            <a:xfrm>
              <a:off x="6966000" y="4143240"/>
              <a:ext cx="34920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11"/>
            <p:cNvSpPr/>
            <p:nvPr/>
          </p:nvSpPr>
          <p:spPr>
            <a:xfrm>
              <a:off x="6966000" y="4143240"/>
              <a:ext cx="34920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Freeform 12"/>
          <p:cNvSpPr/>
          <p:nvPr/>
        </p:nvSpPr>
        <p:spPr>
          <a:xfrm>
            <a:off x="6370560" y="4654440"/>
            <a:ext cx="669960" cy="357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Freeform 13"/>
          <p:cNvSpPr/>
          <p:nvPr/>
        </p:nvSpPr>
        <p:spPr>
          <a:xfrm>
            <a:off x="7286760" y="4654440"/>
            <a:ext cx="684000" cy="357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4"/>
          <p:cNvSpPr/>
          <p:nvPr/>
        </p:nvSpPr>
        <p:spPr>
          <a:xfrm>
            <a:off x="7142040" y="3430440"/>
            <a:ext cx="1800" cy="560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5"/>
          <p:cNvSpPr/>
          <p:nvPr/>
        </p:nvSpPr>
        <p:spPr>
          <a:xfrm>
            <a:off x="7260480" y="6019920"/>
            <a:ext cx="13845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6"/>
          <p:cNvSpPr/>
          <p:nvPr/>
        </p:nvSpPr>
        <p:spPr>
          <a:xfrm>
            <a:off x="5693760" y="6048360"/>
            <a:ext cx="1088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7"/>
          <p:cNvSpPr/>
          <p:nvPr/>
        </p:nvSpPr>
        <p:spPr>
          <a:xfrm>
            <a:off x="6597720" y="434808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8"/>
          <p:cNvSpPr/>
          <p:nvPr/>
        </p:nvSpPr>
        <p:spPr>
          <a:xfrm>
            <a:off x="7390800" y="5442120"/>
            <a:ext cx="158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9"/>
          <p:cNvSpPr/>
          <p:nvPr/>
        </p:nvSpPr>
        <p:spPr>
          <a:xfrm>
            <a:off x="7162920" y="2819520"/>
            <a:ext cx="8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0"/>
          <p:cNvSpPr/>
          <p:nvPr/>
        </p:nvSpPr>
        <p:spPr>
          <a:xfrm>
            <a:off x="6478560" y="5425920"/>
            <a:ext cx="184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21"/>
          <p:cNvSpPr/>
          <p:nvPr/>
        </p:nvSpPr>
        <p:spPr>
          <a:xfrm>
            <a:off x="7239960" y="50356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21400" y="121932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chase(buyer, product, c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(name, 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23"/>
          <p:cNvSpPr/>
          <p:nvPr/>
        </p:nvSpPr>
        <p:spPr>
          <a:xfrm>
            <a:off x="5942520" y="5486400"/>
            <a:ext cx="122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&gt;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4"/>
          <p:cNvSpPr/>
          <p:nvPr/>
        </p:nvSpPr>
        <p:spPr>
          <a:xfrm>
            <a:off x="8307360" y="625320"/>
            <a:ext cx="184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5"/>
          <p:cNvSpPr/>
          <p:nvPr/>
        </p:nvSpPr>
        <p:spPr>
          <a:xfrm>
            <a:off x="6021000" y="50292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reeform 26"/>
          <p:cNvSpPr/>
          <p:nvPr/>
        </p:nvSpPr>
        <p:spPr>
          <a:xfrm>
            <a:off x="7391520" y="5594400"/>
            <a:ext cx="1440" cy="5126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reeform 27"/>
          <p:cNvSpPr/>
          <p:nvPr/>
        </p:nvSpPr>
        <p:spPr>
          <a:xfrm>
            <a:off x="6172200" y="5562720"/>
            <a:ext cx="1440" cy="560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28"/>
          <p:cNvSpPr/>
          <p:nvPr/>
        </p:nvSpPr>
        <p:spPr>
          <a:xfrm>
            <a:off x="7104240" y="3886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index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29"/>
          <p:cNvSpPr/>
          <p:nvPr/>
        </p:nvSpPr>
        <p:spPr>
          <a:xfrm>
            <a:off x="3213360" y="5257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quential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32"/>
          <p:cNvSpPr/>
          <p:nvPr/>
        </p:nvSpPr>
        <p:spPr>
          <a:xfrm>
            <a:off x="6936120" y="99072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reeform 33"/>
          <p:cNvSpPr/>
          <p:nvPr/>
        </p:nvSpPr>
        <p:spPr>
          <a:xfrm>
            <a:off x="7162920" y="1752480"/>
            <a:ext cx="1440" cy="560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34"/>
          <p:cNvSpPr/>
          <p:nvPr/>
        </p:nvSpPr>
        <p:spPr>
          <a:xfrm>
            <a:off x="7189920" y="10666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ash-based</a:t>
            </a:r>
            <a:br>
              <a:rPr sz="2400"/>
            </a:b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dup. el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D1E7-84FD-4A9F-ABEA-BD2469741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Plans Can Be Sub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-153720" y="2209680"/>
            <a:ext cx="5549760" cy="155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city=‘Seattle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Group 4"/>
          <p:cNvGrpSpPr/>
          <p:nvPr/>
        </p:nvGrpSpPr>
        <p:grpSpPr>
          <a:xfrm>
            <a:off x="5746680" y="3838680"/>
            <a:ext cx="349200" cy="123840"/>
            <a:chOff x="5746680" y="3838680"/>
            <a:chExt cx="349200" cy="123840"/>
          </a:xfrm>
        </p:grpSpPr>
        <p:sp>
          <p:nvSpPr>
            <p:cNvPr id="394" name="Freeform 5"/>
            <p:cNvSpPr/>
            <p:nvPr/>
          </p:nvSpPr>
          <p:spPr>
            <a:xfrm>
              <a:off x="5746680" y="3838680"/>
              <a:ext cx="144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6"/>
            <p:cNvSpPr/>
            <p:nvPr/>
          </p:nvSpPr>
          <p:spPr>
            <a:xfrm>
              <a:off x="6094440" y="3838680"/>
              <a:ext cx="144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5746680" y="3838680"/>
              <a:ext cx="34920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8"/>
            <p:cNvSpPr/>
            <p:nvPr/>
          </p:nvSpPr>
          <p:spPr>
            <a:xfrm>
              <a:off x="5746680" y="3838680"/>
              <a:ext cx="34920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Freeform 9"/>
          <p:cNvSpPr/>
          <p:nvPr/>
        </p:nvSpPr>
        <p:spPr>
          <a:xfrm>
            <a:off x="5151600" y="4349880"/>
            <a:ext cx="669600" cy="357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reeform 10"/>
          <p:cNvSpPr/>
          <p:nvPr/>
        </p:nvSpPr>
        <p:spPr>
          <a:xfrm>
            <a:off x="6067440" y="4349880"/>
            <a:ext cx="866880" cy="1517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6846120" y="5715000"/>
            <a:ext cx="13845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2"/>
          <p:cNvSpPr/>
          <p:nvPr/>
        </p:nvSpPr>
        <p:spPr>
          <a:xfrm>
            <a:off x="4475160" y="5743440"/>
            <a:ext cx="14727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ity-inde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"/>
          <p:cNvSpPr/>
          <p:nvPr/>
        </p:nvSpPr>
        <p:spPr>
          <a:xfrm>
            <a:off x="6019920" y="4043520"/>
            <a:ext cx="8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4"/>
          <p:cNvSpPr/>
          <p:nvPr/>
        </p:nvSpPr>
        <p:spPr>
          <a:xfrm>
            <a:off x="4723920" y="5137200"/>
            <a:ext cx="158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5"/>
          <p:cNvSpPr/>
          <p:nvPr/>
        </p:nvSpPr>
        <p:spPr>
          <a:xfrm>
            <a:off x="5259240" y="5121360"/>
            <a:ext cx="1843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8"/>
          <p:cNvSpPr/>
          <p:nvPr/>
        </p:nvSpPr>
        <p:spPr>
          <a:xfrm>
            <a:off x="4801680" y="47242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Freeform 20"/>
          <p:cNvSpPr/>
          <p:nvPr/>
        </p:nvSpPr>
        <p:spPr>
          <a:xfrm>
            <a:off x="4952880" y="5257800"/>
            <a:ext cx="1800" cy="560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5686200" y="358128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rimary-index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1994040" y="49528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quential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23"/>
          <p:cNvSpPr/>
          <p:nvPr/>
        </p:nvSpPr>
        <p:spPr>
          <a:xfrm>
            <a:off x="-279720" y="5985000"/>
            <a:ext cx="56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id the join come fro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FA4F-C76D-4CF0-A589-15D6A92DA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4C68-AC04-4F9A-B722-45F1AE462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Union and 2.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Employe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–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Employees --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5C61-6E9A-4023-9619-CA1060637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Intersec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derived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= R1 – (R1 –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xpressed as a join (will see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izedEmploye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61F9-43EC-4676-9B32-79F090347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all tuples which satisfy a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ame = “Smith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dition c can be =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g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lt;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9DEE-43E0-4C97-8AD8-D719DBE6A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78200" y="3505320"/>
            <a:ext cx="377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14600" y="533520"/>
          <a:ext cx="6019920" cy="218412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590920" y="4343400"/>
          <a:ext cx="6019560" cy="1638360"/>
        </p:xfrm>
        <a:graphic>
          <a:graphicData uri="http://schemas.openxmlformats.org/drawingml/2006/table">
            <a:tbl>
              <a:tblPr/>
              <a:tblGrid>
                <a:gridCol w="2006640"/>
                <a:gridCol w="2006280"/>
                <a:gridCol w="20066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B2F7-2155-479C-BFAF-57F9ECD2C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s columns, then removes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project social-security number and na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SN,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chema:   Answer(SSN, 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01:36:52Z</dcterms:created>
  <dc:creator>Dan Suciu</dc:creator>
  <dc:description/>
  <dc:language>en-US</dc:language>
  <cp:lastModifiedBy>Hal Perkins</cp:lastModifiedBy>
  <dcterms:modified xsi:type="dcterms:W3CDTF">2007-11-15T23:03:19Z</dcterms:modified>
  <cp:revision>56</cp:revision>
  <dc:subject/>
  <dc:title>Relational Algebra</dc:title>
</cp:coreProperties>
</file>