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E802-5BD2-4A29-8954-568079864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FB9EA-18EB-4F44-A9AD-9125DE751B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8072-4286-40BE-8FA6-A63E0CD5A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2"/>
          <p:cNvSpPr/>
          <p:nvPr/>
        </p:nvSpPr>
        <p:spPr>
          <a:xfrm>
            <a:off x="4145040" y="-1440"/>
            <a:ext cx="31701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4"/>
          <p:cNvSpPr/>
          <p:nvPr/>
        </p:nvSpPr>
        <p:spPr>
          <a:xfrm>
            <a:off x="-1440" y="9120240"/>
            <a:ext cx="3168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-1440" y="-14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E415-B218-4FA0-896A-7E6BBF24C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2"/>
          <p:cNvSpPr/>
          <p:nvPr/>
        </p:nvSpPr>
        <p:spPr>
          <a:xfrm>
            <a:off x="4145040" y="-1440"/>
            <a:ext cx="31701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4"/>
          <p:cNvSpPr/>
          <p:nvPr/>
        </p:nvSpPr>
        <p:spPr>
          <a:xfrm>
            <a:off x="-1440" y="9120240"/>
            <a:ext cx="3168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5"/>
          <p:cNvSpPr/>
          <p:nvPr/>
        </p:nvSpPr>
        <p:spPr>
          <a:xfrm>
            <a:off x="-1440" y="-14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1E3A-7C9B-40F0-9DDE-D97A8B2B4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7E65-DC23-45BB-9127-D3EC013C3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2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4760" cy="358776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0325-A2C0-4B7D-AEA0-9AFD71182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2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4760" cy="358776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7D34-288B-4834-ADF8-7F5F51245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2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4760" cy="358776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049-E826-4ABA-AFA1-C15991DD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79B-02FF-4B67-9DD7-E0CFBD05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63B-5644-4AB1-9184-5EFC6540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4AF-C165-4E7D-A4FE-DA70B352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8AC-CF97-45DA-A568-61F8F3C1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A02-DF33-4826-AE22-EE60640B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46D-DE61-4138-9451-01DF15B4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42C-4D42-4E53-B588-28C136E5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DC4-02DE-4793-9405-9DAABCDA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E7B-96D7-4B68-B993-3348A87F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563-E837-41FC-B3D5-194FBD21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1C6-DF8C-498C-8F38-5C14C7BA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B0CB-9AFB-407C-839A-029B4F8C7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8302-3389-4718-8011-13A4D48B8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s 1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 and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4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952D-5FD4-4DEB-B8CE-FA68775B7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arg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by moder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mages,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: attempt to cluster block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B = character larg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nly restricted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190B-3421-4D1C-BABB-F9E331DE3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rted (he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(e.g. by p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A8D8-7386-41B8-B4EB-A39074463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unsorted: add it to the end (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the right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: we are lucky, store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a neighboring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1-2 blocks to the left/right, shift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ything else fails, creat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flow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FC5E-39FF-458C-800C-05F8C1161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flow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while the file starts being dominated by overflow blocks: time to reorgan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914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200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5486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7"/>
          <p:cNvSpPr/>
          <p:nvPr/>
        </p:nvSpPr>
        <p:spPr>
          <a:xfrm>
            <a:off x="342900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3276720" y="3809880"/>
            <a:ext cx="16761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33526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D869-C2F3-4FEF-8695-97F40779E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in block, shift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able to eliminate an overflow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ever really eliminate the record, because others ma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a tombstone instead (a NULL rec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529280" y="6095160"/>
            <a:ext cx="5870880" cy="509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record in an RDBM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4DE3-3217-4342-80CD-C2D210536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w record is shorter than previous, 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longer, need to shift records, create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ADF9-9E2F-4DE3-BB1F-D8A0373A6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pointer to a record 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block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ffset in the block’s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use pointers in Indexes and in Log e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2212200" y="6019200"/>
            <a:ext cx="4511160" cy="509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view what a pointer in C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D518-D9E1-4524-BF1A-4B8D72F3A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ed = records close in the index are close in the data; same as saying that the table is ordered by the index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ustered = records close in the index may be far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/second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ation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= is over attributes part of the pri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ary = cannot reord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ation 2: means the same as clustered/unclus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 or Has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F836-5C51-40B8-A7A6-646637A0D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pe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962520" y="3581280"/>
          <a:ext cx="2819160" cy="6098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962520" y="4343400"/>
          <a:ext cx="2819160" cy="60948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962520" y="5181480"/>
          <a:ext cx="2819160" cy="6098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6019920"/>
          <a:ext cx="2819160" cy="60948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Line 82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3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4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5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86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87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8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9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BC44-C304-413B-B9C0-686BBD311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13.1, 1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 (1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ED49-20E6-4199-80C2-1AA409A33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e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343400" y="3429000"/>
          <a:ext cx="2819520" cy="609480"/>
        </p:xfrm>
        <a:graphic>
          <a:graphicData uri="http://schemas.openxmlformats.org/drawingml/2006/table">
            <a:tbl>
              <a:tblPr/>
              <a:tblGrid>
                <a:gridCol w="380880"/>
                <a:gridCol w="2438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343400" y="4191120"/>
          <a:ext cx="2819520" cy="609480"/>
        </p:xfrm>
        <a:graphic>
          <a:graphicData uri="http://schemas.openxmlformats.org/drawingml/2006/table">
            <a:tbl>
              <a:tblPr/>
              <a:tblGrid>
                <a:gridCol w="380880"/>
                <a:gridCol w="2438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343400" y="5029200"/>
          <a:ext cx="2819520" cy="609480"/>
        </p:xfrm>
        <a:graphic>
          <a:graphicData uri="http://schemas.openxmlformats.org/drawingml/2006/table">
            <a:tbl>
              <a:tblPr/>
              <a:tblGrid>
                <a:gridCol w="380880"/>
                <a:gridCol w="2438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343400" y="5867280"/>
          <a:ext cx="2819520" cy="609840"/>
        </p:xfrm>
        <a:graphic>
          <a:graphicData uri="http://schemas.openxmlformats.org/drawingml/2006/table">
            <a:tbl>
              <a:tblPr/>
              <a:tblGrid>
                <a:gridCol w="380880"/>
                <a:gridCol w="2438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Line 82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83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84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5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86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7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88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9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7"/>
          <p:cNvSpPr/>
          <p:nvPr/>
        </p:nvSpPr>
        <p:spPr>
          <a:xfrm>
            <a:off x="185760" y="3670200"/>
            <a:ext cx="39852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8"/>
          <p:cNvSpPr/>
          <p:nvPr/>
        </p:nvSpPr>
        <p:spPr>
          <a:xfrm>
            <a:off x="714240" y="3670200"/>
            <a:ext cx="39708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9"/>
          <p:cNvSpPr/>
          <p:nvPr/>
        </p:nvSpPr>
        <p:spPr>
          <a:xfrm>
            <a:off x="1241280" y="3670200"/>
            <a:ext cx="40032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10"/>
          <p:cNvSpPr/>
          <p:nvPr/>
        </p:nvSpPr>
        <p:spPr>
          <a:xfrm>
            <a:off x="1771560" y="3670200"/>
            <a:ext cx="39708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11"/>
          <p:cNvSpPr/>
          <p:nvPr/>
        </p:nvSpPr>
        <p:spPr>
          <a:xfrm>
            <a:off x="2300400" y="3670200"/>
            <a:ext cx="39672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12"/>
          <p:cNvSpPr/>
          <p:nvPr/>
        </p:nvSpPr>
        <p:spPr>
          <a:xfrm>
            <a:off x="2827440" y="3670200"/>
            <a:ext cx="39852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3"/>
          <p:cNvSpPr/>
          <p:nvPr/>
        </p:nvSpPr>
        <p:spPr>
          <a:xfrm>
            <a:off x="3355920" y="3670200"/>
            <a:ext cx="39852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14"/>
          <p:cNvSpPr/>
          <p:nvPr/>
        </p:nvSpPr>
        <p:spPr>
          <a:xfrm>
            <a:off x="946080" y="2589120"/>
            <a:ext cx="1724040" cy="1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15"/>
          <p:cNvSpPr/>
          <p:nvPr/>
        </p:nvSpPr>
        <p:spPr>
          <a:xfrm>
            <a:off x="946080" y="1614600"/>
            <a:ext cx="909720" cy="976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16"/>
          <p:cNvSpPr/>
          <p:nvPr/>
        </p:nvSpPr>
        <p:spPr>
          <a:xfrm>
            <a:off x="1854360" y="1614600"/>
            <a:ext cx="825480" cy="976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17"/>
          <p:cNvSpPr/>
          <p:nvPr/>
        </p:nvSpPr>
        <p:spPr>
          <a:xfrm>
            <a:off x="1521000" y="1528920"/>
            <a:ext cx="334800" cy="8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18"/>
          <p:cNvSpPr/>
          <p:nvPr/>
        </p:nvSpPr>
        <p:spPr>
          <a:xfrm>
            <a:off x="1757520" y="1566720"/>
            <a:ext cx="98280" cy="49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19"/>
          <p:cNvSpPr/>
          <p:nvPr/>
        </p:nvSpPr>
        <p:spPr>
          <a:xfrm>
            <a:off x="528480" y="2847960"/>
            <a:ext cx="468360" cy="3240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20"/>
          <p:cNvSpPr/>
          <p:nvPr/>
        </p:nvSpPr>
        <p:spPr>
          <a:xfrm>
            <a:off x="995400" y="2967120"/>
            <a:ext cx="74520" cy="381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1"/>
          <p:cNvSpPr/>
          <p:nvPr/>
        </p:nvSpPr>
        <p:spPr>
          <a:xfrm>
            <a:off x="995400" y="2986200"/>
            <a:ext cx="280800" cy="14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22"/>
          <p:cNvSpPr/>
          <p:nvPr/>
        </p:nvSpPr>
        <p:spPr>
          <a:xfrm>
            <a:off x="1200240" y="2967120"/>
            <a:ext cx="75960" cy="381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23"/>
          <p:cNvSpPr/>
          <p:nvPr/>
        </p:nvSpPr>
        <p:spPr>
          <a:xfrm>
            <a:off x="1274760" y="2847960"/>
            <a:ext cx="468360" cy="3240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24"/>
          <p:cNvSpPr/>
          <p:nvPr/>
        </p:nvSpPr>
        <p:spPr>
          <a:xfrm>
            <a:off x="1741320" y="2967120"/>
            <a:ext cx="76320" cy="381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25"/>
          <p:cNvSpPr/>
          <p:nvPr/>
        </p:nvSpPr>
        <p:spPr>
          <a:xfrm>
            <a:off x="1741320" y="2986200"/>
            <a:ext cx="233640" cy="14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26"/>
          <p:cNvSpPr/>
          <p:nvPr/>
        </p:nvSpPr>
        <p:spPr>
          <a:xfrm>
            <a:off x="1898640" y="2967120"/>
            <a:ext cx="76320" cy="381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27"/>
          <p:cNvSpPr/>
          <p:nvPr/>
        </p:nvSpPr>
        <p:spPr>
          <a:xfrm>
            <a:off x="853920" y="2570040"/>
            <a:ext cx="189000" cy="2793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28"/>
          <p:cNvSpPr/>
          <p:nvPr/>
        </p:nvSpPr>
        <p:spPr>
          <a:xfrm>
            <a:off x="853920" y="2774880"/>
            <a:ext cx="60480" cy="7452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29"/>
          <p:cNvSpPr/>
          <p:nvPr/>
        </p:nvSpPr>
        <p:spPr>
          <a:xfrm>
            <a:off x="1506600" y="2570040"/>
            <a:ext cx="1440" cy="2793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0"/>
          <p:cNvSpPr/>
          <p:nvPr/>
        </p:nvSpPr>
        <p:spPr>
          <a:xfrm>
            <a:off x="1488960" y="2773440"/>
            <a:ext cx="38160" cy="759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31"/>
          <p:cNvSpPr/>
          <p:nvPr/>
        </p:nvSpPr>
        <p:spPr>
          <a:xfrm>
            <a:off x="2533680" y="2847960"/>
            <a:ext cx="466560" cy="3240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32"/>
          <p:cNvSpPr/>
          <p:nvPr/>
        </p:nvSpPr>
        <p:spPr>
          <a:xfrm>
            <a:off x="2301840" y="2967120"/>
            <a:ext cx="74520" cy="381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3"/>
          <p:cNvSpPr/>
          <p:nvPr/>
        </p:nvSpPr>
        <p:spPr>
          <a:xfrm>
            <a:off x="2301840" y="2986200"/>
            <a:ext cx="233280" cy="14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34"/>
          <p:cNvSpPr/>
          <p:nvPr/>
        </p:nvSpPr>
        <p:spPr>
          <a:xfrm>
            <a:off x="2459160" y="2967120"/>
            <a:ext cx="75960" cy="381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35"/>
          <p:cNvSpPr/>
          <p:nvPr/>
        </p:nvSpPr>
        <p:spPr>
          <a:xfrm>
            <a:off x="2579760" y="2570040"/>
            <a:ext cx="189000" cy="2793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36"/>
          <p:cNvSpPr/>
          <p:nvPr/>
        </p:nvSpPr>
        <p:spPr>
          <a:xfrm>
            <a:off x="2709720" y="2774880"/>
            <a:ext cx="59040" cy="7452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37"/>
          <p:cNvSpPr/>
          <p:nvPr/>
        </p:nvSpPr>
        <p:spPr>
          <a:xfrm>
            <a:off x="201600" y="3170160"/>
            <a:ext cx="37476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38"/>
          <p:cNvSpPr/>
          <p:nvPr/>
        </p:nvSpPr>
        <p:spPr>
          <a:xfrm>
            <a:off x="201600" y="3608280"/>
            <a:ext cx="60480" cy="71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343080" y="3170160"/>
            <a:ext cx="28080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40"/>
          <p:cNvSpPr/>
          <p:nvPr/>
        </p:nvSpPr>
        <p:spPr>
          <a:xfrm>
            <a:off x="343080" y="3605040"/>
            <a:ext cx="52200" cy="748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41"/>
          <p:cNvSpPr/>
          <p:nvPr/>
        </p:nvSpPr>
        <p:spPr>
          <a:xfrm>
            <a:off x="480960" y="3170160"/>
            <a:ext cx="18900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42"/>
          <p:cNvSpPr/>
          <p:nvPr/>
        </p:nvSpPr>
        <p:spPr>
          <a:xfrm>
            <a:off x="480960" y="3603600"/>
            <a:ext cx="46080" cy="7632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43"/>
          <p:cNvSpPr/>
          <p:nvPr/>
        </p:nvSpPr>
        <p:spPr>
          <a:xfrm>
            <a:off x="716040" y="3170160"/>
            <a:ext cx="4752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44"/>
          <p:cNvSpPr/>
          <p:nvPr/>
        </p:nvSpPr>
        <p:spPr>
          <a:xfrm>
            <a:off x="736560" y="3603600"/>
            <a:ext cx="38160" cy="7632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45"/>
          <p:cNvSpPr/>
          <p:nvPr/>
        </p:nvSpPr>
        <p:spPr>
          <a:xfrm>
            <a:off x="1322280" y="3170160"/>
            <a:ext cx="180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46"/>
          <p:cNvSpPr/>
          <p:nvPr/>
        </p:nvSpPr>
        <p:spPr>
          <a:xfrm>
            <a:off x="1303200" y="3605040"/>
            <a:ext cx="38160" cy="748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47"/>
          <p:cNvSpPr/>
          <p:nvPr/>
        </p:nvSpPr>
        <p:spPr>
          <a:xfrm>
            <a:off x="1366920" y="3170160"/>
            <a:ext cx="4896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48"/>
          <p:cNvSpPr/>
          <p:nvPr/>
        </p:nvSpPr>
        <p:spPr>
          <a:xfrm>
            <a:off x="1389240" y="3603600"/>
            <a:ext cx="39600" cy="7632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49"/>
          <p:cNvSpPr/>
          <p:nvPr/>
        </p:nvSpPr>
        <p:spPr>
          <a:xfrm>
            <a:off x="1414440" y="3170160"/>
            <a:ext cx="9360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0"/>
          <p:cNvSpPr/>
          <p:nvPr/>
        </p:nvSpPr>
        <p:spPr>
          <a:xfrm>
            <a:off x="1476360" y="3602160"/>
            <a:ext cx="38160" cy="77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1"/>
          <p:cNvSpPr/>
          <p:nvPr/>
        </p:nvSpPr>
        <p:spPr>
          <a:xfrm>
            <a:off x="1460520" y="3170160"/>
            <a:ext cx="14112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52"/>
          <p:cNvSpPr/>
          <p:nvPr/>
        </p:nvSpPr>
        <p:spPr>
          <a:xfrm>
            <a:off x="1562040" y="3602160"/>
            <a:ext cx="39600" cy="77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3"/>
          <p:cNvSpPr/>
          <p:nvPr/>
        </p:nvSpPr>
        <p:spPr>
          <a:xfrm>
            <a:off x="2579760" y="3170160"/>
            <a:ext cx="46836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54"/>
          <p:cNvSpPr/>
          <p:nvPr/>
        </p:nvSpPr>
        <p:spPr>
          <a:xfrm>
            <a:off x="2981160" y="3611520"/>
            <a:ext cx="66960" cy="6840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55"/>
          <p:cNvSpPr/>
          <p:nvPr/>
        </p:nvSpPr>
        <p:spPr>
          <a:xfrm>
            <a:off x="2673360" y="3170160"/>
            <a:ext cx="51444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56"/>
          <p:cNvSpPr/>
          <p:nvPr/>
        </p:nvSpPr>
        <p:spPr>
          <a:xfrm>
            <a:off x="3119400" y="3613320"/>
            <a:ext cx="68400" cy="6660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57"/>
          <p:cNvSpPr/>
          <p:nvPr/>
        </p:nvSpPr>
        <p:spPr>
          <a:xfrm>
            <a:off x="2814480" y="3170160"/>
            <a:ext cx="55908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58"/>
          <p:cNvSpPr/>
          <p:nvPr/>
        </p:nvSpPr>
        <p:spPr>
          <a:xfrm>
            <a:off x="3305160" y="3614760"/>
            <a:ext cx="68400" cy="651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59"/>
          <p:cNvSpPr/>
          <p:nvPr/>
        </p:nvSpPr>
        <p:spPr>
          <a:xfrm>
            <a:off x="2952720" y="3170160"/>
            <a:ext cx="60804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0"/>
          <p:cNvSpPr/>
          <p:nvPr/>
        </p:nvSpPr>
        <p:spPr>
          <a:xfrm>
            <a:off x="3490920" y="3616200"/>
            <a:ext cx="69840" cy="6372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1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62"/>
          <p:cNvSpPr/>
          <p:nvPr/>
        </p:nvSpPr>
        <p:spPr>
          <a:xfrm>
            <a:off x="4662360" y="1612800"/>
            <a:ext cx="169920" cy="1481400"/>
          </a:xfrm>
          <a:prstGeom prst="pie">
            <a:avLst/>
          </a:pr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63"/>
          <p:cNvSpPr/>
          <p:nvPr/>
        </p:nvSpPr>
        <p:spPr>
          <a:xfrm>
            <a:off x="4662360" y="3689280"/>
            <a:ext cx="169920" cy="557280"/>
          </a:xfrm>
          <a:prstGeom prst="pie">
            <a:avLst/>
          </a:pr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64"/>
          <p:cNvSpPr/>
          <p:nvPr/>
        </p:nvSpPr>
        <p:spPr>
          <a:xfrm>
            <a:off x="426816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5"/>
          <p:cNvSpPr/>
          <p:nvPr/>
        </p:nvSpPr>
        <p:spPr>
          <a:xfrm>
            <a:off x="434448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6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67"/>
          <p:cNvSpPr/>
          <p:nvPr/>
        </p:nvSpPr>
        <p:spPr>
          <a:xfrm>
            <a:off x="5742000" y="3691080"/>
            <a:ext cx="34272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68"/>
          <p:cNvSpPr/>
          <p:nvPr/>
        </p:nvSpPr>
        <p:spPr>
          <a:xfrm>
            <a:off x="6197760" y="3691080"/>
            <a:ext cx="34416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69"/>
          <p:cNvSpPr/>
          <p:nvPr/>
        </p:nvSpPr>
        <p:spPr>
          <a:xfrm>
            <a:off x="6656400" y="3691080"/>
            <a:ext cx="33804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0"/>
          <p:cNvSpPr/>
          <p:nvPr/>
        </p:nvSpPr>
        <p:spPr>
          <a:xfrm>
            <a:off x="7112160" y="3691080"/>
            <a:ext cx="33948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71"/>
          <p:cNvSpPr/>
          <p:nvPr/>
        </p:nvSpPr>
        <p:spPr>
          <a:xfrm>
            <a:off x="7566120" y="3691080"/>
            <a:ext cx="34596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72"/>
          <p:cNvSpPr/>
          <p:nvPr/>
        </p:nvSpPr>
        <p:spPr>
          <a:xfrm>
            <a:off x="8021520" y="3691080"/>
            <a:ext cx="34308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73"/>
          <p:cNvSpPr/>
          <p:nvPr/>
        </p:nvSpPr>
        <p:spPr>
          <a:xfrm>
            <a:off x="8478720" y="3691080"/>
            <a:ext cx="34308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74"/>
          <p:cNvSpPr/>
          <p:nvPr/>
        </p:nvSpPr>
        <p:spPr>
          <a:xfrm>
            <a:off x="6397560" y="2522520"/>
            <a:ext cx="1490760" cy="1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75"/>
          <p:cNvSpPr/>
          <p:nvPr/>
        </p:nvSpPr>
        <p:spPr>
          <a:xfrm>
            <a:off x="6397560" y="1476360"/>
            <a:ext cx="785880" cy="1047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76"/>
          <p:cNvSpPr/>
          <p:nvPr/>
        </p:nvSpPr>
        <p:spPr>
          <a:xfrm>
            <a:off x="7182000" y="1476360"/>
            <a:ext cx="712800" cy="1047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77"/>
          <p:cNvSpPr/>
          <p:nvPr/>
        </p:nvSpPr>
        <p:spPr>
          <a:xfrm>
            <a:off x="6891480" y="1384200"/>
            <a:ext cx="2919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78"/>
          <p:cNvSpPr/>
          <p:nvPr/>
        </p:nvSpPr>
        <p:spPr>
          <a:xfrm>
            <a:off x="7101000" y="1425600"/>
            <a:ext cx="82440" cy="5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79"/>
          <p:cNvSpPr/>
          <p:nvPr/>
        </p:nvSpPr>
        <p:spPr>
          <a:xfrm>
            <a:off x="6039000" y="2803680"/>
            <a:ext cx="404640" cy="3474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0"/>
          <p:cNvSpPr/>
          <p:nvPr/>
        </p:nvSpPr>
        <p:spPr>
          <a:xfrm>
            <a:off x="6442200" y="2930400"/>
            <a:ext cx="63360" cy="428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1"/>
          <p:cNvSpPr/>
          <p:nvPr/>
        </p:nvSpPr>
        <p:spPr>
          <a:xfrm>
            <a:off x="6442200" y="2954160"/>
            <a:ext cx="241200" cy="18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82"/>
          <p:cNvSpPr/>
          <p:nvPr/>
        </p:nvSpPr>
        <p:spPr>
          <a:xfrm>
            <a:off x="6618240" y="2930400"/>
            <a:ext cx="65160" cy="428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83"/>
          <p:cNvSpPr/>
          <p:nvPr/>
        </p:nvSpPr>
        <p:spPr>
          <a:xfrm>
            <a:off x="6681960" y="2803680"/>
            <a:ext cx="403200" cy="3474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84"/>
          <p:cNvSpPr/>
          <p:nvPr/>
        </p:nvSpPr>
        <p:spPr>
          <a:xfrm>
            <a:off x="7083360" y="2930400"/>
            <a:ext cx="66600" cy="428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85"/>
          <p:cNvSpPr/>
          <p:nvPr/>
        </p:nvSpPr>
        <p:spPr>
          <a:xfrm>
            <a:off x="7083360" y="2954160"/>
            <a:ext cx="201600" cy="18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86"/>
          <p:cNvSpPr/>
          <p:nvPr/>
        </p:nvSpPr>
        <p:spPr>
          <a:xfrm>
            <a:off x="7223040" y="2930400"/>
            <a:ext cx="61920" cy="428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87"/>
          <p:cNvSpPr/>
          <p:nvPr/>
        </p:nvSpPr>
        <p:spPr>
          <a:xfrm>
            <a:off x="6321600" y="2506680"/>
            <a:ext cx="158400" cy="2984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88"/>
          <p:cNvSpPr/>
          <p:nvPr/>
        </p:nvSpPr>
        <p:spPr>
          <a:xfrm>
            <a:off x="6321600" y="2727360"/>
            <a:ext cx="48960" cy="777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89"/>
          <p:cNvSpPr/>
          <p:nvPr/>
        </p:nvSpPr>
        <p:spPr>
          <a:xfrm>
            <a:off x="6881760" y="2506680"/>
            <a:ext cx="1800" cy="2984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90"/>
          <p:cNvSpPr/>
          <p:nvPr/>
        </p:nvSpPr>
        <p:spPr>
          <a:xfrm>
            <a:off x="6867360" y="2725560"/>
            <a:ext cx="30240" cy="795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91"/>
          <p:cNvSpPr/>
          <p:nvPr/>
        </p:nvSpPr>
        <p:spPr>
          <a:xfrm>
            <a:off x="7767720" y="2803680"/>
            <a:ext cx="403200" cy="3474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92"/>
          <p:cNvSpPr/>
          <p:nvPr/>
        </p:nvSpPr>
        <p:spPr>
          <a:xfrm>
            <a:off x="7567560" y="2930400"/>
            <a:ext cx="65160" cy="428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93"/>
          <p:cNvSpPr/>
          <p:nvPr/>
        </p:nvSpPr>
        <p:spPr>
          <a:xfrm>
            <a:off x="7567560" y="2954160"/>
            <a:ext cx="201600" cy="18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94"/>
          <p:cNvSpPr/>
          <p:nvPr/>
        </p:nvSpPr>
        <p:spPr>
          <a:xfrm>
            <a:off x="7702560" y="2930400"/>
            <a:ext cx="66600" cy="428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95"/>
          <p:cNvSpPr/>
          <p:nvPr/>
        </p:nvSpPr>
        <p:spPr>
          <a:xfrm>
            <a:off x="7810560" y="2506680"/>
            <a:ext cx="158760" cy="2984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96"/>
          <p:cNvSpPr/>
          <p:nvPr/>
        </p:nvSpPr>
        <p:spPr>
          <a:xfrm>
            <a:off x="7920000" y="2727360"/>
            <a:ext cx="49320" cy="777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97"/>
          <p:cNvSpPr/>
          <p:nvPr/>
        </p:nvSpPr>
        <p:spPr>
          <a:xfrm>
            <a:off x="6078600" y="3149640"/>
            <a:ext cx="20160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98"/>
          <p:cNvSpPr/>
          <p:nvPr/>
        </p:nvSpPr>
        <p:spPr>
          <a:xfrm>
            <a:off x="6235560" y="3568680"/>
            <a:ext cx="44640" cy="795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99"/>
          <p:cNvSpPr/>
          <p:nvPr/>
        </p:nvSpPr>
        <p:spPr>
          <a:xfrm>
            <a:off x="5794200" y="3149640"/>
            <a:ext cx="366840" cy="5493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100"/>
          <p:cNvSpPr/>
          <p:nvPr/>
        </p:nvSpPr>
        <p:spPr>
          <a:xfrm>
            <a:off x="5794200" y="3624120"/>
            <a:ext cx="57240" cy="7488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01"/>
          <p:cNvSpPr/>
          <p:nvPr/>
        </p:nvSpPr>
        <p:spPr>
          <a:xfrm>
            <a:off x="6197760" y="3149640"/>
            <a:ext cx="566640" cy="5493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02"/>
          <p:cNvSpPr/>
          <p:nvPr/>
        </p:nvSpPr>
        <p:spPr>
          <a:xfrm>
            <a:off x="6699240" y="3633840"/>
            <a:ext cx="65160" cy="651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03"/>
          <p:cNvSpPr/>
          <p:nvPr/>
        </p:nvSpPr>
        <p:spPr>
          <a:xfrm>
            <a:off x="5997600" y="3149640"/>
            <a:ext cx="28260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04"/>
          <p:cNvSpPr/>
          <p:nvPr/>
        </p:nvSpPr>
        <p:spPr>
          <a:xfrm>
            <a:off x="5997600" y="3573360"/>
            <a:ext cx="52200" cy="7488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05"/>
          <p:cNvSpPr/>
          <p:nvPr/>
        </p:nvSpPr>
        <p:spPr>
          <a:xfrm>
            <a:off x="6321600" y="3149640"/>
            <a:ext cx="140796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06"/>
          <p:cNvSpPr/>
          <p:nvPr/>
        </p:nvSpPr>
        <p:spPr>
          <a:xfrm>
            <a:off x="7661160" y="3605040"/>
            <a:ext cx="68400" cy="432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107"/>
          <p:cNvSpPr/>
          <p:nvPr/>
        </p:nvSpPr>
        <p:spPr>
          <a:xfrm>
            <a:off x="6078600" y="3149640"/>
            <a:ext cx="68580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108"/>
          <p:cNvSpPr/>
          <p:nvPr/>
        </p:nvSpPr>
        <p:spPr>
          <a:xfrm>
            <a:off x="6078600" y="3589200"/>
            <a:ext cx="65160" cy="5904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109"/>
          <p:cNvSpPr/>
          <p:nvPr/>
        </p:nvSpPr>
        <p:spPr>
          <a:xfrm>
            <a:off x="6799320" y="3149640"/>
            <a:ext cx="177804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110"/>
          <p:cNvSpPr/>
          <p:nvPr/>
        </p:nvSpPr>
        <p:spPr>
          <a:xfrm>
            <a:off x="8507520" y="3608280"/>
            <a:ext cx="69840" cy="414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111"/>
          <p:cNvSpPr/>
          <p:nvPr/>
        </p:nvSpPr>
        <p:spPr>
          <a:xfrm>
            <a:off x="6799320" y="3149640"/>
            <a:ext cx="164880" cy="5493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112"/>
          <p:cNvSpPr/>
          <p:nvPr/>
        </p:nvSpPr>
        <p:spPr>
          <a:xfrm>
            <a:off x="6799320" y="3616200"/>
            <a:ext cx="42840" cy="828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113"/>
          <p:cNvSpPr/>
          <p:nvPr/>
        </p:nvSpPr>
        <p:spPr>
          <a:xfrm>
            <a:off x="6924600" y="3149640"/>
            <a:ext cx="32220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14"/>
          <p:cNvSpPr/>
          <p:nvPr/>
        </p:nvSpPr>
        <p:spPr>
          <a:xfrm>
            <a:off x="7189920" y="3575160"/>
            <a:ext cx="56880" cy="7308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5"/>
          <p:cNvSpPr/>
          <p:nvPr/>
        </p:nvSpPr>
        <p:spPr>
          <a:xfrm>
            <a:off x="7326360" y="3149640"/>
            <a:ext cx="565200" cy="5493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16"/>
          <p:cNvSpPr/>
          <p:nvPr/>
        </p:nvSpPr>
        <p:spPr>
          <a:xfrm>
            <a:off x="7326360" y="3633840"/>
            <a:ext cx="58680" cy="651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117"/>
          <p:cNvSpPr/>
          <p:nvPr/>
        </p:nvSpPr>
        <p:spPr>
          <a:xfrm>
            <a:off x="7929720" y="3149640"/>
            <a:ext cx="322200" cy="5493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118"/>
          <p:cNvSpPr/>
          <p:nvPr/>
        </p:nvSpPr>
        <p:spPr>
          <a:xfrm>
            <a:off x="8201160" y="3622680"/>
            <a:ext cx="50760" cy="7632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119"/>
          <p:cNvSpPr/>
          <p:nvPr/>
        </p:nvSpPr>
        <p:spPr>
          <a:xfrm>
            <a:off x="7810560" y="3149640"/>
            <a:ext cx="24120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120"/>
          <p:cNvSpPr/>
          <p:nvPr/>
        </p:nvSpPr>
        <p:spPr>
          <a:xfrm>
            <a:off x="7810560" y="3571920"/>
            <a:ext cx="47520" cy="7632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121"/>
          <p:cNvSpPr/>
          <p:nvPr/>
        </p:nvSpPr>
        <p:spPr>
          <a:xfrm>
            <a:off x="8089920" y="3149640"/>
            <a:ext cx="1440" cy="5493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122"/>
          <p:cNvSpPr/>
          <p:nvPr/>
        </p:nvSpPr>
        <p:spPr>
          <a:xfrm>
            <a:off x="8072280" y="3619440"/>
            <a:ext cx="36720" cy="795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3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4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25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26"/>
          <p:cNvSpPr/>
          <p:nvPr/>
        </p:nvSpPr>
        <p:spPr>
          <a:xfrm>
            <a:off x="75312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7"/>
          <p:cNvSpPr/>
          <p:nvPr/>
        </p:nvSpPr>
        <p:spPr>
          <a:xfrm>
            <a:off x="609336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9"/>
          <p:cNvSpPr/>
          <p:nvPr/>
        </p:nvSpPr>
        <p:spPr>
          <a:xfrm>
            <a:off x="1220400" y="205740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30"/>
          <p:cNvSpPr/>
          <p:nvPr/>
        </p:nvSpPr>
        <p:spPr>
          <a:xfrm>
            <a:off x="6706800" y="198108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E699-AD95-4423-A1F4-95C71AB13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17B4-D5BA-43FB-A81C-8B53891EB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Line 22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24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25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175176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8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9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1840"/>
                <a:gridCol w="236160"/>
                <a:gridCol w="237600"/>
                <a:gridCol w="38556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Line 48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9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0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1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2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53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55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F3B1-DD80-4CEE-8D57-6FF3F7BC7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888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61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62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66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67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68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69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70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71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2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3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5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6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7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78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79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80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81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82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83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184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85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86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87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88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89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90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91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92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93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94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95"/>
          <p:cNvSpPr/>
          <p:nvPr/>
        </p:nvSpPr>
        <p:spPr>
          <a:xfrm>
            <a:off x="6462720" y="1865160"/>
            <a:ext cx="1133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Find the key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97"/>
          <p:cNvSpPr/>
          <p:nvPr/>
        </p:nvSpPr>
        <p:spPr>
          <a:xfrm>
            <a:off x="1355400" y="2581200"/>
            <a:ext cx="68184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98"/>
          <p:cNvSpPr/>
          <p:nvPr/>
        </p:nvSpPr>
        <p:spPr>
          <a:xfrm>
            <a:off x="1888920" y="39574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2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99"/>
          <p:cNvSpPr/>
          <p:nvPr/>
        </p:nvSpPr>
        <p:spPr>
          <a:xfrm>
            <a:off x="2879640" y="53290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3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21BC-3953-4F33-B095-FBECFCABE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7951-5C08-423C-89AD-98C820AA1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602460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61012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C248-92D4-45E3-9C07-2E7752124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1080"/>
                <a:gridCol w="245880"/>
                <a:gridCol w="249480"/>
                <a:gridCol w="247320"/>
                <a:gridCol w="298440"/>
                <a:gridCol w="249480"/>
                <a:gridCol w="24588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74"/>
          <p:cNvSpPr/>
          <p:nvPr/>
        </p:nvSpPr>
        <p:spPr>
          <a:xfrm>
            <a:off x="5408280" y="365760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75"/>
          <p:cNvSpPr/>
          <p:nvPr/>
        </p:nvSpPr>
        <p:spPr>
          <a:xfrm>
            <a:off x="62485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76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77"/>
          <p:cNvSpPr/>
          <p:nvPr/>
        </p:nvSpPr>
        <p:spPr>
          <a:xfrm flipH="1">
            <a:off x="228600" y="4038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78"/>
          <p:cNvSpPr/>
          <p:nvPr/>
        </p:nvSpPr>
        <p:spPr>
          <a:xfrm>
            <a:off x="975240" y="3672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9"/>
          <p:cNvSpPr/>
          <p:nvPr/>
        </p:nvSpPr>
        <p:spPr>
          <a:xfrm flipH="1">
            <a:off x="4114440" y="4191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8B41-4AC3-4161-8B04-7D9E8388E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888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61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62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66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67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68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69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70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1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72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73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74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75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76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77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178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79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80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81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82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83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84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85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86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87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88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89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90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91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92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93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94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36FE-5D5A-471B-A1E2-744F01E22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s and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sk = a sequence of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le = a subsequence of blocks, usually cont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tables/records/indexes in files/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2250-D0D5-4F00-96C5-9174B9805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888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61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62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66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67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68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69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70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71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72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73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74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175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76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177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78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79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80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81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82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183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84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85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86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87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88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89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90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91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92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93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94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95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96"/>
          <p:cNvSpPr/>
          <p:nvPr/>
        </p:nvSpPr>
        <p:spPr>
          <a:xfrm>
            <a:off x="74556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1500-C07D-402D-A76F-6CAD1BE85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888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61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62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66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67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68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69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70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71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2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73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74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75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176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177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78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179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80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81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82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83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84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85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86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87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88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89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90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91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92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93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94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95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96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3781-1E08-4414-9FF8-ACF951836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2438280" y="4572000"/>
          <a:ext cx="1949400" cy="685800"/>
        </p:xfrm>
        <a:graphic>
          <a:graphicData uri="http://schemas.openxmlformats.org/drawingml/2006/table">
            <a:tbl>
              <a:tblPr/>
              <a:tblGrid>
                <a:gridCol w="218520"/>
                <a:gridCol w="216000"/>
                <a:gridCol w="181440"/>
                <a:gridCol w="181440"/>
                <a:gridCol w="218520"/>
                <a:gridCol w="181440"/>
                <a:gridCol w="181440"/>
                <a:gridCol w="178200"/>
                <a:gridCol w="17820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888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Line 161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62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63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64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65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66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67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68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69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70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171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172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73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74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75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76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77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78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79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80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181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182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83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184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85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86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87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188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189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190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91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192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93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94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195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96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97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198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99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00"/>
          <p:cNvSpPr/>
          <p:nvPr/>
        </p:nvSpPr>
        <p:spPr>
          <a:xfrm>
            <a:off x="66924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201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202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4873-6FAE-4E4A-95E6-1872B798F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2438280" y="4572000"/>
          <a:ext cx="1949400" cy="685800"/>
        </p:xfrm>
        <a:graphic>
          <a:graphicData uri="http://schemas.openxmlformats.org/drawingml/2006/table">
            <a:tbl>
              <a:tblPr/>
              <a:tblGrid>
                <a:gridCol w="218520"/>
                <a:gridCol w="216000"/>
                <a:gridCol w="181440"/>
                <a:gridCol w="181440"/>
                <a:gridCol w="218520"/>
                <a:gridCol w="181440"/>
                <a:gridCol w="181440"/>
                <a:gridCol w="178200"/>
                <a:gridCol w="17820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888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1" name="Line 161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62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63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64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65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66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67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68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169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70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171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72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73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74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75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76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77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78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79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80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181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82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83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84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85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86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87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88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89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90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91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92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93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94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95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96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97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98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99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00"/>
          <p:cNvSpPr/>
          <p:nvPr/>
        </p:nvSpPr>
        <p:spPr>
          <a:xfrm>
            <a:off x="66996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201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202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9EB6-D9C2-40B9-972C-E2D76A369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2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73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74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75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76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77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78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79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80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181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182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183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184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85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186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187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188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89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90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191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192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93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194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95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96"/>
          <p:cNvSpPr/>
          <p:nvPr/>
        </p:nvSpPr>
        <p:spPr>
          <a:xfrm>
            <a:off x="66888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97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198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5" name="Line 221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222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D97C-657E-401F-90F0-122BC07B0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6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73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174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175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176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177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178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179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180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181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82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83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84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185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86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187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188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89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90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91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92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93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194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95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96"/>
          <p:cNvSpPr/>
          <p:nvPr/>
        </p:nvSpPr>
        <p:spPr>
          <a:xfrm>
            <a:off x="67068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197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98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9" name="Line 221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222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C6D7-DF79-4CBE-B31F-4A9E0F773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6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73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174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175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76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77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78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79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80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181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82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83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84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185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186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87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188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189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190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191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192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193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194"/>
          <p:cNvSpPr/>
          <p:nvPr/>
        </p:nvSpPr>
        <p:spPr>
          <a:xfrm>
            <a:off x="66996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95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196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1" name="Line 219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220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AutoShape 221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C227-6DD0-4D94-BDAA-35A9551A0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0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3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173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174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175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176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177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178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179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180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181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182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183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84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85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186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187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188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189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190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191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192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193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94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195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196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4" name="Line 219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220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59EC-3B7C-4487-95E9-95AD4C3B8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1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2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3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4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5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173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174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175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76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177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178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179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180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Line 181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182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Line 183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Line 184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85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86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87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188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9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190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191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192"/>
          <p:cNvSpPr/>
          <p:nvPr/>
        </p:nvSpPr>
        <p:spPr>
          <a:xfrm>
            <a:off x="66996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193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94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4" name="Line 217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218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219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9F83-64E5-4FC9-B872-8E519EC2D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3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6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173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174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175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176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177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178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179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80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81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182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183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184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185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186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187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Line 188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189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190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Line 191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92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193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194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4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5" name="Line 217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218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97C7-0FA8-4BC2-8F25-B0AD6EC47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base e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uple is represented as a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ble is a sequence of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16320" y="2514600"/>
            <a:ext cx="7858800" cy="23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INT PRIMARY 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VARCHAR(20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r CHAR(10) REFERENCES Company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E3F2-A7FB-4CE5-90AE-1AA799CDA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3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6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173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174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175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176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177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Line 178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Line 179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180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181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182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183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184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85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186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87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88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89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90"/>
          <p:cNvSpPr/>
          <p:nvPr/>
        </p:nvSpPr>
        <p:spPr>
          <a:xfrm>
            <a:off x="6696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91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192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2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3" name="Line 215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Line 216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Freeform 217"/>
          <p:cNvSpPr/>
          <p:nvPr/>
        </p:nvSpPr>
        <p:spPr>
          <a:xfrm>
            <a:off x="1828800" y="4267080"/>
            <a:ext cx="3352680" cy="129564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DE96-C70C-42C1-ADD8-DAF7B7917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1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2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3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4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5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Line 161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167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173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174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175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176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177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178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179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180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81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82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83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184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185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186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187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188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89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90"/>
          <p:cNvSpPr/>
          <p:nvPr/>
        </p:nvSpPr>
        <p:spPr>
          <a:xfrm>
            <a:off x="66996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191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192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28D1-AE7C-4D21-8BFE-59DB70072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ndex structure on most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effective at answering ‘point’ quer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productName = ‘gizmo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for range quer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0 &lt; price AND price &lt;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effective for multiran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0 &lt; price &lt; 100  AND 2 &lt; quant &l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6E4A-96A0-417C-B46D-189EF5C04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attributes inside the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the records inside the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2AB7-AA53-431C-8EC2-015275D28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Formats:  Fixed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47242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bout field types same for all records in a file; stored i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ta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requires scan of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te the importance of schema inform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70" name="Rectangle 7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8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9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0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Line 11"/>
          <p:cNvSpPr/>
          <p:nvPr/>
        </p:nvSpPr>
        <p:spPr>
          <a:xfrm flipH="1" flipV="1">
            <a:off x="18284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1350720" y="3863880"/>
            <a:ext cx="254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2057400" y="204300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3276360" y="204300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480024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609552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 flipH="1" flipV="1">
            <a:off x="45716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4"/>
          <p:cNvSpPr/>
          <p:nvPr/>
        </p:nvSpPr>
        <p:spPr>
          <a:xfrm>
            <a:off x="4019400" y="3862440"/>
            <a:ext cx="28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612E-DD4F-4108-8B84-A8E32FCB5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H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91" name="Rectangle 4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Rectangle 8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8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0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3"/>
          <p:cNvSpPr/>
          <p:nvPr/>
        </p:nvSpPr>
        <p:spPr>
          <a:xfrm flipV="1">
            <a:off x="11430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4"/>
          <p:cNvSpPr/>
          <p:nvPr/>
        </p:nvSpPr>
        <p:spPr>
          <a:xfrm flipV="1">
            <a:off x="14479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5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1204200" y="13366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1432800" y="1793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1431720" y="35463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1503360" y="4308480"/>
            <a:ext cx="57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he header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ma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while new+old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 from different relations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686880" y="3200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2057400" y="204300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2"/>
          <p:cNvSpPr/>
          <p:nvPr/>
        </p:nvSpPr>
        <p:spPr>
          <a:xfrm>
            <a:off x="3276360" y="204300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480024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609552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B18D-07AB-4E79-A150-C6DA3F47A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 Length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121" name="Rectangle 4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8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3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4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98892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45792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1292040" y="4800600"/>
            <a:ext cx="587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fixed fields first: 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variable length fields: F2, F3, 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 values take 2 byt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y take 0 bytes (when at the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8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0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83916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2"/>
          <p:cNvSpPr/>
          <p:nvPr/>
        </p:nvSpPr>
        <p:spPr>
          <a:xfrm>
            <a:off x="1676520" y="28954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3"/>
          <p:cNvSpPr/>
          <p:nvPr/>
        </p:nvSpPr>
        <p:spPr>
          <a:xfrm>
            <a:off x="1371600" y="28954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AutoShape 34"/>
          <p:cNvCxnSpPr>
            <a:stCxn id="145" idx="3"/>
            <a:endCxn id="123" idx="3"/>
          </p:cNvCxnSpPr>
          <p:nvPr/>
        </p:nvCxnSpPr>
        <p:spPr>
          <a:xfrm flipH="1" flipV="1" rot="5400000">
            <a:off x="3969000" y="612360"/>
            <a:ext cx="65520" cy="4631040"/>
          </a:xfrm>
          <a:prstGeom prst="bentConnector4">
            <a:avLst>
              <a:gd name="adj1" fmla="val -830939"/>
              <a:gd name="adj2" fmla="val 100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35"/>
          <p:cNvCxnSpPr>
            <a:endCxn id="122" idx="3"/>
          </p:cNvCxnSpPr>
          <p:nvPr/>
        </p:nvCxnSpPr>
        <p:spPr>
          <a:xfrm flipV="1">
            <a:off x="1424160" y="2895120"/>
            <a:ext cx="3142080" cy="65520"/>
          </a:xfrm>
          <a:prstGeom prst="bentConnector5">
            <a:avLst>
              <a:gd name="adj1" fmla="val 550"/>
              <a:gd name="adj2" fmla="val -1517679"/>
              <a:gd name="adj3" fmla="val 995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36"/>
          <p:cNvSpPr/>
          <p:nvPr/>
        </p:nvSpPr>
        <p:spPr>
          <a:xfrm>
            <a:off x="2057400" y="204300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3276360" y="204300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480024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9"/>
          <p:cNvSpPr/>
          <p:nvPr/>
        </p:nvSpPr>
        <p:spPr>
          <a:xfrm>
            <a:off x="609552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AF50-5920-4418-B29F-3E55BB1E1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Records in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s have fixed size (typically 4k – 8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219320" y="3429000"/>
            <a:ext cx="7467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5257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2670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1828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21337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133720" y="3429000"/>
            <a:ext cx="213336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19810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1981080" y="4876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16765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1676520" y="5257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137160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1371600" y="56386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81532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9"/>
          <p:cNvSpPr/>
          <p:nvPr/>
        </p:nvSpPr>
        <p:spPr>
          <a:xfrm flipV="1">
            <a:off x="5257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68580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1"/>
          <p:cNvSpPr/>
          <p:nvPr/>
        </p:nvSpPr>
        <p:spPr>
          <a:xfrm flipV="1">
            <a:off x="8153280" y="4343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8139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707256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5853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3416400" y="286056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449784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7-11-14T03:11:07Z</dcterms:modified>
  <cp:revision>318</cp:revision>
  <dc:subject/>
  <dc:title>Lecture 09:</dc:title>
</cp:coreProperties>
</file>