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184E-E97F-4AE7-AFE1-F117938204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2455090-60BB-4A5A-B4EE-369A8EEA76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FFF0-6245-437A-BE85-903D9EA806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stamp of U is given by WT(X) or by RT(X) respec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5C00-43B5-40CE-90BF-173BC44F2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4E39-8D82-48C2-A430-48089E6DA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70F-3550-4C8F-9D91-386CA39B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9E14-5C8A-4170-BCD0-2036CDD0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3158-5101-457C-9BA0-ADD6E248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44B0-5428-41CC-AB4C-745FF236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8F1E-5B43-4D4A-B773-D43DA8DB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65E-72F5-4058-9859-FD25D6C1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5F3F-6974-41B0-8688-3ED0214C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F99-0FEB-43D2-8BD6-033AF402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6DE0-84AC-4918-A29A-FE414CB0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1EBB-6F11-4FAB-947D-BD21002E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EA0-6EE0-4000-96B4-81F10E66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B44-E173-43FC-8810-36CE43EE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217C-5BBC-4006-B041-7CA6E8895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1CCC-D0D1-4FA7-873F-B3CB0DFD4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s 17-18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5-7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9CA8-470F-470D-A364-F5C18AB99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ial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590920" y="2057400"/>
          <a:ext cx="4038480" cy="45165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FF9E-AB0C-4166-AA1F-BB614730C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is equivalent to a serial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9774-980E-44E1-B9AD-6733592A7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57400" y="1676520"/>
          <a:ext cx="5638680" cy="451620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49"/>
          <p:cNvSpPr/>
          <p:nvPr/>
        </p:nvSpPr>
        <p:spPr>
          <a:xfrm>
            <a:off x="223920" y="6172200"/>
            <a:ext cx="46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is is NOT a serial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83DE-C4F2-4BDE-8A61-65F655795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n-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362320" y="1825560"/>
          <a:ext cx="4724280" cy="4516560"/>
        </p:xfrm>
        <a:graphic>
          <a:graphicData uri="http://schemas.openxmlformats.org/drawingml/2006/table">
            <a:tbl>
              <a:tblPr/>
              <a:tblGrid>
                <a:gridCol w="2361960"/>
                <a:gridCol w="236232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0D24-A28C-4A18-819B-64417D33A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gnoring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ransactions’ actions may commute accidentally because of specific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izability is undecidabl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shouldn’t look at the transactions’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orst case updates, only care about reads r(A) and writes w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CE25-929A-4ADD-89EA-B9585B566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2160" y="2763720"/>
            <a:ext cx="6134400" cy="132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8C61-E97F-468B-A160-47D73CDC7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28600" y="19810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642000" y="2867040"/>
            <a:ext cx="208764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50480" y="2773440"/>
            <a:ext cx="60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actions by same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642000" y="4152960"/>
            <a:ext cx="224604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54440" y="4068720"/>
            <a:ext cx="622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writes by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ame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6642000" y="5295960"/>
            <a:ext cx="208728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54800" y="5288040"/>
            <a:ext cx="6165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/write by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ame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6642000" y="5981760"/>
            <a:ext cx="208764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8332-25F4-4641-AF95-F75EA5B69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flict 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can be transformed into a serial schedule by a series of swappings of adjacent non-conflicting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51920" y="386712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36080" y="5981760"/>
            <a:ext cx="877500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136080" y="4610160"/>
            <a:ext cx="877500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419720" y="54100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B024-9E90-429D-87FF-2C168AFA8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onflict serializable schedule is also a serializable schedule 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verse is not true, even under the “worst case update” as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401200" y="6134040"/>
            <a:ext cx="603828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325240" y="4915080"/>
            <a:ext cx="603828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4267080" y="56386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7"/>
          <p:cNvSpPr/>
          <p:nvPr/>
        </p:nvSpPr>
        <p:spPr>
          <a:xfrm flipV="1">
            <a:off x="4038480" y="571464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7590600" y="3563640"/>
            <a:ext cx="1148400" cy="1172520"/>
          </a:xfrm>
          <a:prstGeom prst="wedgeEllipseCallout">
            <a:avLst>
              <a:gd name="adj1" fmla="val -161750"/>
              <a:gd name="adj2" fmla="val 7203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42840" y="5883120"/>
            <a:ext cx="19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’t 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6237-51FB-4A96-8500-A66896802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ecedence Graph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schedule conflict-serializabl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t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a graph of all transaction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from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n action that conflicts with one o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omes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st: if the graph has no cycles, then it is conflict serializabl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6118-5B43-47E1-9382-7800BE2C2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and Serializable Schedules (18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 Serializability (18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(18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lock modes (18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ee protocol (18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 by timestamps 18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 by validation 18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8AC9-F44E-4387-B57A-3631A718C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36080" y="2708280"/>
            <a:ext cx="877464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8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38098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5562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12"/>
          <p:cNvCxnSpPr>
            <a:stCxn id="130" idx="6"/>
            <a:endCxn id="131" idx="2"/>
          </p:cNvCxnSpPr>
          <p:nvPr/>
        </p:nvCxnSpPr>
        <p:spPr>
          <a:xfrm>
            <a:off x="2590920" y="472392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AutoShape 13"/>
          <p:cNvCxnSpPr>
            <a:stCxn id="131" idx="6"/>
            <a:endCxn id="132" idx="2"/>
          </p:cNvCxnSpPr>
          <p:nvPr/>
        </p:nvCxnSpPr>
        <p:spPr>
          <a:xfrm>
            <a:off x="4266720" y="472392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Rectangle 14"/>
          <p:cNvSpPr/>
          <p:nvPr/>
        </p:nvSpPr>
        <p:spPr>
          <a:xfrm>
            <a:off x="1896840" y="563868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dule is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4710600" y="423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2957760" y="418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3BCA-0583-4595-8F51-80AAC4000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36080" y="2705040"/>
            <a:ext cx="877500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38098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5562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AutoShape 7"/>
          <p:cNvCxnSpPr>
            <a:stCxn id="141" idx="6"/>
            <a:endCxn id="142" idx="2"/>
          </p:cNvCxnSpPr>
          <p:nvPr/>
        </p:nvCxnSpPr>
        <p:spPr>
          <a:xfrm>
            <a:off x="2590920" y="472392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AutoShape 8"/>
          <p:cNvCxnSpPr>
            <a:stCxn id="142" idx="6"/>
            <a:endCxn id="143" idx="2"/>
          </p:cNvCxnSpPr>
          <p:nvPr/>
        </p:nvCxnSpPr>
        <p:spPr>
          <a:xfrm>
            <a:off x="4266720" y="472392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Rectangle 9"/>
          <p:cNvSpPr/>
          <p:nvPr/>
        </p:nvSpPr>
        <p:spPr>
          <a:xfrm>
            <a:off x="1897920" y="563868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dule is NOT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AutoShape 10"/>
          <p:cNvCxnSpPr>
            <a:stCxn id="142" idx="1"/>
            <a:endCxn id="141" idx="7"/>
          </p:cNvCxnSpPr>
          <p:nvPr/>
        </p:nvCxnSpPr>
        <p:spPr>
          <a:xfrm rot="5400000">
            <a:off x="3198960" y="3886920"/>
            <a:ext cx="2160" cy="1353600"/>
          </a:xfrm>
          <a:prstGeom prst="curvedConnector5">
            <a:avLst>
              <a:gd name="adj1" fmla="val -18600000"/>
              <a:gd name="adj2" fmla="val 49986"/>
              <a:gd name="adj3" fmla="val -18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Rectangle 11"/>
          <p:cNvSpPr/>
          <p:nvPr/>
        </p:nvSpPr>
        <p:spPr>
          <a:xfrm>
            <a:off x="4736160" y="4206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3067200" y="4648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3102120" y="3833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601E-0A41-4532-BE16-56E2087AD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is the module that schedules the transaction’s actions, ensuring 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?  Three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2F32-46EA-40D7-B244-4BD935712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lement has a uniqu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must first acquire the lock before reading/writing that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lock is taken by another transaction, then w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action must release the lock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1236-37A4-4844-A70D-038DFA668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24360" y="2895480"/>
            <a:ext cx="829008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 =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res lock for elemen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 =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s lock for elemen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5982-FB79-4ABD-8429-AFBC2EF10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1447920"/>
          <a:ext cx="8458200" cy="486396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ED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TED;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49"/>
          <p:cNvSpPr/>
          <p:nvPr/>
        </p:nvSpPr>
        <p:spPr>
          <a:xfrm>
            <a:off x="522720" y="62485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r has ensured a conflict-serializable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65C6-C6BB-418D-B814-BF259A7A9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62120" y="1523880"/>
          <a:ext cx="7696080" cy="451656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73"/>
          <p:cNvSpPr/>
          <p:nvPr/>
        </p:nvSpPr>
        <p:spPr>
          <a:xfrm>
            <a:off x="446400" y="617220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 did not enforce conflict-serializability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268F-D936-499B-BBD2-93030A146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hase Locking (2P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PL 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very transaction, all lock requests must preceed all unlock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ensures conflict serializability !  (why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FFE3-1D00-4127-B2AD-D2E56D605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2PL transactc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371600"/>
          <a:ext cx="8153640" cy="4863960"/>
        </p:xfrm>
        <a:graphic>
          <a:graphicData uri="http://schemas.openxmlformats.org/drawingml/2006/table">
            <a:tbl>
              <a:tblPr/>
              <a:tblGrid>
                <a:gridCol w="4077000"/>
                <a:gridCol w="407664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ED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TED;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51"/>
          <p:cNvSpPr/>
          <p:nvPr/>
        </p:nvSpPr>
        <p:spPr>
          <a:xfrm>
            <a:off x="298800" y="60958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is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1E6E-7632-466A-8A9D-16CC2108B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d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sactio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.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and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7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avoided, by ordering all elements (see book); or deadlock detection plus 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4013-636C-488F-80B8-2C6A08749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transactions are running concurrent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read/write some common el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prevent unwanted interferenc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is responsible for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D804-9189-4913-B91F-A35127EF8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Shared lock (for RE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exclusive lock (for WR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= updat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lik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may be upgraded to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= increment lock (for A := A + somet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operations comm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CHAPTER 18.4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DB17-7313-43F6-98F2-1C0274247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lock/unlock requests to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all READ(A) or WRITE(A)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appropriate lock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 2P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6ADD-A9B5-478A-B0A1-DABD412C3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2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the locks accordin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 table: a big, critical data structure in a DBM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ock is requested, check the lock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, or add the transaction to the element’s wait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ock is released, re-activate a transaction from its wai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transaction aborts, release all its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or deadlock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EB0B-34BF-40C5-82AB-579724A3C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ternative to 2PL, for tree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B-trees (the indexes of choice in datab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BA9E-5336-438C-ACCE-07B387D3D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lock may be any node of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ly, a lock on a node A may only be acquired if the transaction holds a lock on its paren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can be unlocked in any order (no 2PL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ee protocol is NOT 2PL, yet ensures conflict-serializabilit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B95A-7915-4FD1-8604-92E2CAEE8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transaction receives a unique timestam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’s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que counter, incremented by the schedu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EC4E-F8C1-4868-BCBD-432CC4C58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758160" y="4038480"/>
            <a:ext cx="69534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imestamp order def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earialization order of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989640" y="2590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nvari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5669-9FA5-4644-A778-F73BBD53C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 to each element 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(X) = the highest timestamp of any transaction that read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T(X) = the highest timestamp of any transaction that wrote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X) = the commit bit: says if the transaction with highest timestamp that wrote X com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1135800" y="6095880"/>
            <a:ext cx="67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associated to each page X in the buffer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C630-5D65-4726-96B7-4ABC5527B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two conflicting actions, ensure that their order is the serialized or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of these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that TS(U) &l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2240" y="5638680"/>
            <a:ext cx="7323840" cy="113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 wants to read X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, how do w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U, and TS(U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5679720" y="2344320"/>
            <a:ext cx="1809000" cy="1172520"/>
          </a:xfrm>
          <a:prstGeom prst="wedgeEllipseCallout">
            <a:avLst>
              <a:gd name="adj1" fmla="val -145541"/>
              <a:gd name="adj2" fmla="val 3179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o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6972840" y="3106440"/>
            <a:ext cx="1908720" cy="1172520"/>
          </a:xfrm>
          <a:prstGeom prst="wedgeEllipseCallout">
            <a:avLst>
              <a:gd name="adj1" fmla="val -205458"/>
              <a:gd name="adj2" fmla="val 2099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o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6212160" y="4325400"/>
            <a:ext cx="2339280" cy="1172520"/>
          </a:xfrm>
          <a:prstGeom prst="wedgeEllipseCallout">
            <a:avLst>
              <a:gd name="adj1" fmla="val -139597"/>
              <a:gd name="adj2" fmla="val -2897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860A-8993-443C-A202-187A095C2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oo 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read X, and TS(T) &lt; W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551520" y="3886200"/>
            <a:ext cx="765180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U) …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2662920" y="579132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ollback 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2488-CD7D-4C13-9320-66A5DA0D4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Famous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go wrong if we didn’t have concurrency contro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t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nsistent 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09120" y="5791320"/>
            <a:ext cx="77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Many other things may go wrong, but have no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49DF-DA4D-4A3D-9284-29786C503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oo 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T(X) &lt; TS(T) &lt; R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51880" y="3886200"/>
            <a:ext cx="765144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U) …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586960" y="495288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ollback 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149920" y="601992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we check WT(X) &lt; TS(T) 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E962-4851-4AC9-87B7-3E4498B59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oo late, but we can still handle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T) &lt; RT(X)  but WT(X) &g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551880" y="3886200"/>
            <a:ext cx="781020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V) …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2588040" y="5334120"/>
            <a:ext cx="360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write X at al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ut see later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62AB-E29E-432A-BDEB-B7DB82ADB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dirty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read X, and WT(X) &l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s OK, 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138600" y="4191120"/>
            <a:ext cx="874260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(U) … START(T) …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. . .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… ABORT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68640" y="5715000"/>
            <a:ext cx="83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(X)=1, then T needs to wait for it to beco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5715000" y="4038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2D2A-6FAF-428F-ABCF-DB36D032E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irty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WT(X) &g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s OK not to write at all, bu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21320" y="4191120"/>
            <a:ext cx="879156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(T) … START(U)…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. . .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… ABORT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68640" y="5867280"/>
            <a:ext cx="83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(X)=1, then T needs to wait for it to beco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6"/>
          <p:cNvSpPr/>
          <p:nvPr/>
        </p:nvSpPr>
        <p:spPr>
          <a:xfrm>
            <a:off x="5715000" y="4038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DE09-0058-4E62-AF52-50CBEC97E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based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transaction T requests r(X) or w(X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examines RT(X), WT(X), C(X), and decides one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rant the request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ollback T (and restart with later timestam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lay T until C(X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A4EE-DB76-49EE-8F05-1C5492E04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based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4 long rules in the textbook, on page 97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be able to understand them, or even derive them yourself, based on the previous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you understand them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460880" y="6019920"/>
            <a:ext cx="5229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: 18.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C67E-315A-471E-BE4F-1DA8BA2BF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version Timest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nsaction T requests r(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T(X) &gt; TS(T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 must 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keep multiple versions of X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 read an older version, with appropriate timest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409760" y="4267080"/>
            <a:ext cx="569916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59DB-FD5A-4EC0-889D-25E014C47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occurs create a new version, denoted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t = TS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occurs, find a versi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&lt; TS(T) and t is the largest su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T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t and it never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D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ust also be maintained, to reject certain writes (why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an we delet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we have a later versi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ll active transactions T have TS(T) &gt; t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A282-9A9A-48C7-B8BC-A80CE973E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of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 when there are many confli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or when there are few confli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or when there are many conflicts (rollbac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 when there are few confli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ONLY transaction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t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/WRITE transaction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2438-2CED-4C9E-9582-436929131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 by Val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ransaction T defines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d 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S(T) and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rite 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ransaction proceeds in three ph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all elements in RS(T).  Time = START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ate (may need to rollback).  Time = VAL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ll elements in WS(T). Time = FIN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919440" y="5562720"/>
            <a:ext cx="7168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invariant: the serialization order is VAL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52DE-1F11-4566-B00D-0D3988AF4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703080" y="3086280"/>
            <a:ext cx="3143520" cy="231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AB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4893120" y="3162240"/>
            <a:ext cx="2827800" cy="22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0A6F-9FA5-4B1B-A6AC-85363F700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-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Confl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685800" y="2819520"/>
          <a:ext cx="632448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4200"/>
                <a:gridCol w="163800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Rectangle 17"/>
          <p:cNvSpPr/>
          <p:nvPr/>
        </p:nvSpPr>
        <p:spPr>
          <a:xfrm>
            <a:off x="612360" y="198108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4269960" y="19051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6479640" y="190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AutoShape 20"/>
          <p:cNvCxnSpPr>
            <a:stCxn id="263" idx="2"/>
          </p:cNvCxnSpPr>
          <p:nvPr/>
        </p:nvCxnSpPr>
        <p:spPr>
          <a:xfrm flipH="1">
            <a:off x="1390320" y="2437920"/>
            <a:ext cx="7200" cy="36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21"/>
          <p:cNvCxnSpPr>
            <a:stCxn id="264" idx="2"/>
          </p:cNvCxnSpPr>
          <p:nvPr/>
        </p:nvCxnSpPr>
        <p:spPr>
          <a:xfrm>
            <a:off x="4884480" y="2362320"/>
            <a:ext cx="68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22"/>
          <p:cNvCxnSpPr>
            <a:stCxn id="265" idx="2"/>
          </p:cNvCxnSpPr>
          <p:nvPr/>
        </p:nvCxnSpPr>
        <p:spPr>
          <a:xfrm flipH="1">
            <a:off x="7009560" y="2362320"/>
            <a:ext cx="183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269" name=""/>
          <p:cNvGraphicFramePr/>
          <p:nvPr/>
        </p:nvGraphicFramePr>
        <p:xfrm>
          <a:off x="3524400" y="3733920"/>
          <a:ext cx="455292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924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35"/>
          <p:cNvSpPr/>
          <p:nvPr/>
        </p:nvSpPr>
        <p:spPr>
          <a:xfrm>
            <a:off x="3450240" y="44798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AutoShape 36"/>
          <p:cNvCxnSpPr>
            <a:stCxn id="270" idx="0"/>
          </p:cNvCxnSpPr>
          <p:nvPr/>
        </p:nvCxnSpPr>
        <p:spPr>
          <a:xfrm flipV="1">
            <a:off x="4217760" y="4236840"/>
            <a:ext cx="118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Rectangle 37"/>
          <p:cNvSpPr/>
          <p:nvPr/>
        </p:nvSpPr>
        <p:spPr>
          <a:xfrm>
            <a:off x="533160" y="5181480"/>
            <a:ext cx="7732080" cy="126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RS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U) and FIN(U) &gt; START(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 has validated and  U has not finished before T beg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OLLBACK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AutoShape 38"/>
          <p:cNvCxnSpPr/>
          <p:nvPr/>
        </p:nvCxnSpPr>
        <p:spPr>
          <a:xfrm flipH="1">
            <a:off x="5190840" y="3336480"/>
            <a:ext cx="791280" cy="39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4" name="Rectangle 39"/>
          <p:cNvSpPr/>
          <p:nvPr/>
        </p:nvSpPr>
        <p:spPr>
          <a:xfrm>
            <a:off x="5870880" y="33526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l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25B4-57F5-4146-9E4F-6F3E78576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-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Confl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28600" y="2971800"/>
          <a:ext cx="6324480" cy="517680"/>
        </p:xfrm>
        <a:graphic>
          <a:graphicData uri="http://schemas.openxmlformats.org/drawingml/2006/table">
            <a:tbl>
              <a:tblPr/>
              <a:tblGrid>
                <a:gridCol w="704880"/>
                <a:gridCol w="1924200"/>
                <a:gridCol w="163800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Rectangle 17"/>
          <p:cNvSpPr/>
          <p:nvPr/>
        </p:nvSpPr>
        <p:spPr>
          <a:xfrm>
            <a:off x="155160" y="21337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8"/>
          <p:cNvSpPr/>
          <p:nvPr/>
        </p:nvSpPr>
        <p:spPr>
          <a:xfrm>
            <a:off x="3812760" y="20574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9"/>
          <p:cNvSpPr/>
          <p:nvPr/>
        </p:nvSpPr>
        <p:spPr>
          <a:xfrm>
            <a:off x="6022440" y="2057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AutoShape 20"/>
          <p:cNvCxnSpPr>
            <a:stCxn id="278" idx="2"/>
          </p:cNvCxnSpPr>
          <p:nvPr/>
        </p:nvCxnSpPr>
        <p:spPr>
          <a:xfrm flipH="1">
            <a:off x="933120" y="2590920"/>
            <a:ext cx="7200" cy="36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21"/>
          <p:cNvCxnSpPr>
            <a:stCxn id="279" idx="2"/>
          </p:cNvCxnSpPr>
          <p:nvPr/>
        </p:nvCxnSpPr>
        <p:spPr>
          <a:xfrm>
            <a:off x="4427280" y="2514600"/>
            <a:ext cx="68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22"/>
          <p:cNvCxnSpPr>
            <a:stCxn id="280" idx="2"/>
          </p:cNvCxnSpPr>
          <p:nvPr/>
        </p:nvCxnSpPr>
        <p:spPr>
          <a:xfrm flipH="1">
            <a:off x="6552360" y="2514600"/>
            <a:ext cx="183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284" name=""/>
          <p:cNvGraphicFramePr/>
          <p:nvPr/>
        </p:nvGraphicFramePr>
        <p:xfrm>
          <a:off x="1600200" y="3733920"/>
          <a:ext cx="670572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4200"/>
                <a:gridCol w="1923840"/>
                <a:gridCol w="2152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Rectangle 39"/>
          <p:cNvSpPr/>
          <p:nvPr/>
        </p:nvSpPr>
        <p:spPr>
          <a:xfrm>
            <a:off x="1526040" y="44798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0"/>
          <p:cNvSpPr/>
          <p:nvPr/>
        </p:nvSpPr>
        <p:spPr>
          <a:xfrm>
            <a:off x="5583960" y="48006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AutoShape 41"/>
          <p:cNvCxnSpPr>
            <a:stCxn id="285" idx="0"/>
          </p:cNvCxnSpPr>
          <p:nvPr/>
        </p:nvCxnSpPr>
        <p:spPr>
          <a:xfrm flipV="1">
            <a:off x="2293560" y="4236840"/>
            <a:ext cx="118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AutoShape 42"/>
          <p:cNvCxnSpPr>
            <a:stCxn id="286" idx="0"/>
          </p:cNvCxnSpPr>
          <p:nvPr/>
        </p:nvCxnSpPr>
        <p:spPr>
          <a:xfrm flipH="1" flipV="1">
            <a:off x="6152400" y="4250880"/>
            <a:ext cx="2916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Rectangle 43"/>
          <p:cNvSpPr/>
          <p:nvPr/>
        </p:nvSpPr>
        <p:spPr>
          <a:xfrm>
            <a:off x="530640" y="5283360"/>
            <a:ext cx="8073360" cy="126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WS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U) and FIN(U) &gt; VAL(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 has validated and  U has not finished before T valid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OLLBACK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6937920" y="33526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l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AutoShape 45"/>
          <p:cNvCxnSpPr/>
          <p:nvPr/>
        </p:nvCxnSpPr>
        <p:spPr>
          <a:xfrm>
            <a:off x="5524560" y="3489120"/>
            <a:ext cx="170568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B0BA-E679-4C9A-92CF-576AA014A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and timestamps: SQL Server, D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: 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656520" y="510552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ore or 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6C1F-DCFA-4782-85D5-4032AA93A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t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160280" y="2514600"/>
            <a:ext cx="3029040" cy="348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READ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A := A+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665960" y="2590920"/>
            <a:ext cx="3041280" cy="359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READ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A := A*1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WRITE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9779-1A76-47C0-9FC9-C19A3E9C6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96560" y="2367000"/>
            <a:ext cx="4204080" cy="292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A := 20;  B := 20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B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4969800" y="2362320"/>
            <a:ext cx="3042720" cy="297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B)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5369-7751-45C6-9EBD-A82AA8532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ultiple trans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hed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interleaved actions from all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rial sched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ne whose actions consist of all those of one transaction, followed by all those of another transaction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B4E9-3B98-44CC-AEF2-9E870F2E5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133720" y="2057400"/>
          <a:ext cx="4647960" cy="3627360"/>
        </p:xfrm>
        <a:graphic>
          <a:graphicData uri="http://schemas.openxmlformats.org/drawingml/2006/table">
            <a:tbl>
              <a:tblPr/>
              <a:tblGrid>
                <a:gridCol w="2324160"/>
                <a:gridCol w="2323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7-11-07T04:41:01Z</dcterms:modified>
  <cp:revision>383</cp:revision>
  <dc:subject/>
  <dc:title>Lecture 09:</dc:title>
</cp:coreProperties>
</file>