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9342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336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052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29040" y="-360"/>
            <a:ext cx="30052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23400" y="4379400"/>
            <a:ext cx="508644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759520"/>
            <a:ext cx="30052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29040" y="8759520"/>
            <a:ext cx="30052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6C34C-585C-4370-B654-AC5D108BCD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929040" y="8759880"/>
            <a:ext cx="30052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E2100FC-96B1-4385-A578-BC295304F8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923400" y="4379400"/>
            <a:ext cx="50864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929040" y="8759880"/>
            <a:ext cx="30052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416AF-B7A6-47A4-BB63-FB4943D697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23400" y="4379400"/>
            <a:ext cx="50864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3929040" y="8759880"/>
            <a:ext cx="30052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0166D-1B03-48F2-8EE8-6AE129F46B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923400" y="4379400"/>
            <a:ext cx="50864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3929040" y="8759880"/>
            <a:ext cx="30052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A3B05-FC21-49E3-927F-B01CCB15B8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23400" y="4379400"/>
            <a:ext cx="50864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3929040" y="8759880"/>
            <a:ext cx="30052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564DA-D7E5-4D19-9673-B5FC0401C7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923400" y="4379400"/>
            <a:ext cx="50864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3929040" y="8759880"/>
            <a:ext cx="30052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B2EB3-2126-4D4B-B07F-457AE91542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923400" y="4379400"/>
            <a:ext cx="50864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7"/>
          <p:cNvSpPr/>
          <p:nvPr/>
        </p:nvSpPr>
        <p:spPr>
          <a:xfrm>
            <a:off x="3929040" y="8759880"/>
            <a:ext cx="30052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F928C-C6F4-47F1-BEDF-038793F0ED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23400" y="4379400"/>
            <a:ext cx="50864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3929040" y="8759880"/>
            <a:ext cx="30052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9C3A5-66B4-4162-97F9-2DF9766469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923400" y="4379400"/>
            <a:ext cx="50864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7"/>
          <p:cNvSpPr/>
          <p:nvPr/>
        </p:nvSpPr>
        <p:spPr>
          <a:xfrm>
            <a:off x="3929040" y="8759880"/>
            <a:ext cx="30052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1001C-30BA-4D4E-976F-8C1179BF1B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923400" y="4379400"/>
            <a:ext cx="50864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7"/>
          <p:cNvSpPr/>
          <p:nvPr/>
        </p:nvSpPr>
        <p:spPr>
          <a:xfrm>
            <a:off x="3929040" y="8759880"/>
            <a:ext cx="30052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37F0F-3B8C-4442-BAAB-16DB80D08F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923400" y="4379400"/>
            <a:ext cx="50864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929040" y="8759880"/>
            <a:ext cx="30052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1C444-79EA-484E-9E83-68AF6A4A1C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23400" y="4379400"/>
            <a:ext cx="50864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929040" y="8759880"/>
            <a:ext cx="30052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57E88-1DD1-4DC3-B293-BBA0821A36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923400" y="4379400"/>
            <a:ext cx="50864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929040" y="8759880"/>
            <a:ext cx="30052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675FE-18B0-4AA0-9EBF-F300F12E84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923400" y="4379400"/>
            <a:ext cx="50864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929040" y="8759880"/>
            <a:ext cx="30052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CB0B7-1256-4FAA-866A-F525B505B6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23400" y="4379400"/>
            <a:ext cx="50864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3929040" y="8759880"/>
            <a:ext cx="30052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A04B9-4AA2-4D4E-8C4E-16DCE14BF5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923400" y="4379400"/>
            <a:ext cx="50864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929040" y="8759880"/>
            <a:ext cx="30052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20576-9389-4969-96D9-6E7A84CC6D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23400" y="4379400"/>
            <a:ext cx="50864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929040" y="8759880"/>
            <a:ext cx="30052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EF281-54DD-4815-9857-32B246CAFE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923400" y="4379400"/>
            <a:ext cx="50864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929040" y="8759880"/>
            <a:ext cx="30052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C06CD-9DAD-4DDC-8483-78BA823BA1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23400" y="4379400"/>
            <a:ext cx="50864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929040" y="8759880"/>
            <a:ext cx="30052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BCE54-C241-4AF5-B48B-BEFBCCAA5E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923400" y="4379400"/>
            <a:ext cx="50864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929040" y="8759880"/>
            <a:ext cx="30052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A37B8-18CF-4387-B75F-C29ED3E096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923400" y="4379400"/>
            <a:ext cx="50864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929040" y="8759880"/>
            <a:ext cx="30052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E2387-7573-4174-BE51-DD0319B363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923400" y="4379400"/>
            <a:ext cx="50864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3929040" y="8759880"/>
            <a:ext cx="30052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31B4F-9D5A-4DBF-8DF8-5BDA857777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23400" y="4379400"/>
            <a:ext cx="50864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929040" y="8759880"/>
            <a:ext cx="30052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FBD07-C35D-4027-85E3-0F8CF78476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923400" y="4379400"/>
            <a:ext cx="50864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3929040" y="8759880"/>
            <a:ext cx="30052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DAAFC-9A42-454F-8607-698E78D40D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Rectangle 2"/>
          <p:cNvSpPr/>
          <p:nvPr/>
        </p:nvSpPr>
        <p:spPr>
          <a:xfrm>
            <a:off x="3929040" y="0"/>
            <a:ext cx="30052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Rectangle 3"/>
          <p:cNvSpPr/>
          <p:nvPr/>
        </p:nvSpPr>
        <p:spPr>
          <a:xfrm>
            <a:off x="3929040" y="8759880"/>
            <a:ext cx="30052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Rectangle 4"/>
          <p:cNvSpPr/>
          <p:nvPr/>
        </p:nvSpPr>
        <p:spPr>
          <a:xfrm>
            <a:off x="0" y="8759880"/>
            <a:ext cx="30052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Rectangle 5"/>
          <p:cNvSpPr/>
          <p:nvPr/>
        </p:nvSpPr>
        <p:spPr>
          <a:xfrm>
            <a:off x="0" y="0"/>
            <a:ext cx="30052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73240" y="698400"/>
            <a:ext cx="4591080" cy="34434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923400" y="4379400"/>
            <a:ext cx="50864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7"/>
          <p:cNvSpPr/>
          <p:nvPr/>
        </p:nvSpPr>
        <p:spPr>
          <a:xfrm>
            <a:off x="3929040" y="8759880"/>
            <a:ext cx="30052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C21EC-0E65-4BA2-8753-E4FFB6D9A3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923400" y="4379400"/>
            <a:ext cx="50864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3929040" y="8759880"/>
            <a:ext cx="30052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E4735-8BF2-4DC4-ABFC-C16AC9D9B5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923400" y="4379400"/>
            <a:ext cx="50864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3929040" y="8759880"/>
            <a:ext cx="30052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5B52D-47C8-41DA-95AD-49FB2058D1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923400" y="4379400"/>
            <a:ext cx="50864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3929040" y="8759880"/>
            <a:ext cx="30052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7E410-7432-44BA-BA90-86DFB48463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923400" y="4379400"/>
            <a:ext cx="50864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929040" y="8759880"/>
            <a:ext cx="30052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5D2B8-7283-4644-B5FC-51A88EA4FB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923400" y="4379400"/>
            <a:ext cx="50864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929040" y="8759880"/>
            <a:ext cx="30052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43094-6DDF-4DA0-B42E-E148F0CEEF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923400" y="4379400"/>
            <a:ext cx="50864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929040" y="8759880"/>
            <a:ext cx="30052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D5D99-7CF5-4EC5-A5FE-C19A6139AE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923400" y="4379400"/>
            <a:ext cx="5086440" cy="415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929040" y="8759880"/>
            <a:ext cx="30052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311D9-D531-4804-AC5B-DA48E4BFC7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923400" y="4379400"/>
            <a:ext cx="50864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3929040" y="8759880"/>
            <a:ext cx="30052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316E3-5774-4897-B401-49B77FD991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923400" y="4379400"/>
            <a:ext cx="50864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929040" y="8759880"/>
            <a:ext cx="30052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BCF69-8E59-4B25-B095-3AB08DF8C6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923400" y="4379400"/>
            <a:ext cx="50864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DEE04-9F12-4E57-BFEE-E21EA3CFD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0A228-2838-4767-960A-CB5B4F161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08DF5-8E24-4E33-8F6A-715292543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2D212-C1C5-4DFD-A315-9055F24A5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F6BB7-D247-4564-BFDD-A4AA614F6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60BF7-EB75-4F27-B0F1-A1D20AC57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CABAA-1FAD-44EA-8D41-D70DFC608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5A747-3385-47DC-8D8B-099E37D6A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F91B9-1E36-4C63-AFE9-FA4398F43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DCF26-350B-48CC-AB79-9864108A7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10675-0ED6-4EFD-90FA-A42BD161A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6D0E8-119D-49CB-9FEE-10090013D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A805D-36EC-4686-B319-E7528813D9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658BF-C047-4282-896C-7FE876504A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259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roduction to Database System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SE 444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cture 14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ansactions in SQ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43000" y="4095360"/>
            <a:ext cx="7238880" cy="19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ctober 26, 200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40A78-9F6A-47AE-9E36-B611D772F6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transac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one or more operations, which reflects a single real-world trans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 the real world, this happened completely or not at al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ansfer money between accou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rchase a group of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er for a class (either waitlist or allocat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grouped in transactions, all problems in previous slides disappe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7CC6B-B67B-4C5A-A03C-1FF078B8FF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ansactions in SQ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“ad-hoc” SQL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ault: each statement = one transa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a program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 TRANSA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SQL statements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MIT    or     ROLLBACK (=ABOR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AutoShape 4"/>
          <p:cNvSpPr/>
          <p:nvPr/>
        </p:nvSpPr>
        <p:spPr>
          <a:xfrm>
            <a:off x="6633360" y="3508200"/>
            <a:ext cx="2200320" cy="1191240"/>
          </a:xfrm>
          <a:prstGeom prst="wedgeRectCallout">
            <a:avLst>
              <a:gd name="adj1" fmla="val -123824"/>
              <a:gd name="adj2" fmla="val 24379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y be omitted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rst SQL quer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s tx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84345-1816-44D2-A5B5-8B4FEFB44F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vised Co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3"/>
          <p:cNvSpPr/>
          <p:nvPr/>
        </p:nvSpPr>
        <p:spPr>
          <a:xfrm>
            <a:off x="2211480" y="1981080"/>
            <a:ext cx="387972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ent 1: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TART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UPDAT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roduct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rice = Price – 1.99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name = ‘Gizmo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COMMIT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ent 2: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TART TRANSAC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UPDAT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roduct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rice = Price*0.5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name=‘Gizmo’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COMM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4"/>
          <p:cNvSpPr/>
          <p:nvPr/>
        </p:nvSpPr>
        <p:spPr>
          <a:xfrm>
            <a:off x="2285640" y="5942520"/>
            <a:ext cx="342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w it works like a ch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0B027-9939-42B2-87D0-5F9D52B0A4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ansaction Propertie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I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m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te shows either all the effects of txn, or none of th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sist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xn moves from a state where integrity holds, to another where integrity hol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la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ffect of txns is the same as txns running one after another (ie looks like batch mod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r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a txn has committed, its effects remain in the data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A9563-B608-4E60-8539-211BF090E8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ID: Atomic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possible outcomes for a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ommi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all the changes are m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bor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no changes are m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at is, transaction’s activities are all or noth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6F4ED-292A-4D59-9B77-505573F113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ID: Consistenc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tate of the tables is restricted by integrity constrai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ount number is un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ck amount can’t be nega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m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ebi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redi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traints may b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explici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implic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consistency is achiev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grammer makes sure a txn takes a consistent state to a consistent 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ystem makes sure that the txn is atom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B7B23-A437-4D9A-8A12-49D3A5F575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ID: Iso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transaction executes concurrently with other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olation: the effect is as if each transaction executes in isolation of the oth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DB7F9-B980-4462-9CA0-BCAD047587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ID: Dur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effect of a transaction must continue to exists after the transaction, or the whole program has termin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ans: write data to disk (stable storag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5A6B0-6B5E-4CDC-9482-DE8151AE52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OLLBAC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the app gets to a place where it can’t complete the transaction successfully, it can execute ROLL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causes the system to “abort” the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database returns to the state without any of the previous changes made by activity of the transa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98536-8ACA-4E0A-9812-13AFD0C18F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asons for Rollbac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r changes their mind (“ctl-C”/cance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plicit in program, when app program finds a problem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.g. when qty on hand &lt; qty being sol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ystem-initiated ab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stem cras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usekeep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.g. due to timeou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401F4-D920-43E3-A621-5B9E98D3FE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jor component of database 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itical for most applications; arguably more so than SQ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uring awards to database researcher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rles Bachman 197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dgar Codd 1981 for inventing relational db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im Gray 1998 for inventing transa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B17D5-F184-46E2-85E3-D971DD0697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AD-ONLY Transa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Rectangle 3"/>
          <p:cNvSpPr/>
          <p:nvPr/>
        </p:nvSpPr>
        <p:spPr>
          <a:xfrm>
            <a:off x="992520" y="1600200"/>
            <a:ext cx="5027040" cy="5031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ient 1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START TRANS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INSERT INTO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SmallProduct(name, price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pname, pric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Produ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price &lt;= 0.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DELET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Produc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price &lt;=0.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COMMIT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ient 2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SET TRANSACTION READ ON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START TRANS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count(*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Product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count(*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SmallProduc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COMM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AutoShape 5"/>
          <p:cNvSpPr/>
          <p:nvPr/>
        </p:nvSpPr>
        <p:spPr>
          <a:xfrm>
            <a:off x="6248520" y="4061880"/>
            <a:ext cx="1904760" cy="1172520"/>
          </a:xfrm>
          <a:prstGeom prst="wedgeEllipseCallout">
            <a:avLst>
              <a:gd name="adj1" fmla="val -89152"/>
              <a:gd name="adj2" fmla="val -8962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es it fa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2805F-19B1-4630-B332-009DDCAF63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solation Levels in SQ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rty reads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T TRANSACTION ISOLATION LEVEL READ UNCOMMIT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ted reads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T TRANSACTION ISOLATION LEVEL READ COMMIT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eatable reads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T TRANSACTION ISOLATION LEVEL REPEATABLE RE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rializable transactions (default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T TRANSACTION ISOLATION LEVEL SERIALIZ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1983C-B84B-4D76-97FF-452644BA50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solation Level: Dirty Rea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3"/>
          <p:cNvSpPr/>
          <p:nvPr/>
        </p:nvSpPr>
        <p:spPr>
          <a:xfrm>
            <a:off x="2673000" y="1600200"/>
            <a:ext cx="4956840" cy="4757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llocateSeat( %reque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SET ISOLATION LEVEL READ UNCOMMI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START TRANS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t x =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Seat.occup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Se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WHERE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at.number = %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(x == 1)  /* occupied */   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ROLL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UPDATE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SE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occupied = 1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WHERE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at.number = %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COMMI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Rectangle 4"/>
          <p:cNvSpPr/>
          <p:nvPr/>
        </p:nvSpPr>
        <p:spPr>
          <a:xfrm>
            <a:off x="228960" y="1752480"/>
            <a:ext cx="14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ne sea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o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Rectangle 5"/>
          <p:cNvSpPr/>
          <p:nvPr/>
        </p:nvSpPr>
        <p:spPr>
          <a:xfrm>
            <a:off x="381240" y="3505320"/>
            <a:ext cx="1722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can 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rong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6"/>
          <p:cNvSpPr/>
          <p:nvPr/>
        </p:nvSpPr>
        <p:spPr>
          <a:xfrm>
            <a:off x="228600" y="4724280"/>
            <a:ext cx="20642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can 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rong if onl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func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ocateSea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ifies Seat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F805F-DD43-4005-8D6E-D3E46D9C90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2743200" y="914400"/>
            <a:ext cx="4967640" cy="530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TransferMoney( %amount, %acc1, %acc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START TRANS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t x =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Account.balanc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Accou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WHERE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ccount.number = %acc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(x &lt; %amount)  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ROLL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UPDATE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ccou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SE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balance = balance+%amoun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WHERE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ccount.number = %acc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UPDATE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ccou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SE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balance = balance-%amoun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WHERE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ccount.number = %acc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COMMI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7"/>
          <p:cNvSpPr/>
          <p:nvPr/>
        </p:nvSpPr>
        <p:spPr>
          <a:xfrm>
            <a:off x="347760" y="2192400"/>
            <a:ext cx="201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e dirty read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K here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Rectangle 8"/>
          <p:cNvSpPr/>
          <p:nvPr/>
        </p:nvSpPr>
        <p:spPr>
          <a:xfrm>
            <a:off x="391320" y="3902040"/>
            <a:ext cx="185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f w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itch th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updates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3EE82-C881-49A5-BEA4-FB948D8B2C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solation Level: Read Committed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Rectangle 3"/>
          <p:cNvSpPr/>
          <p:nvPr/>
        </p:nvSpPr>
        <p:spPr>
          <a:xfrm>
            <a:off x="3586680" y="2057400"/>
            <a:ext cx="4627800" cy="3934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SET ISOLATION LEVEL READ COMMI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t x =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Seat.occup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Se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WHERE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at.number = %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* . . . . . More stuff here . . . .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t y =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Seat.occup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Se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WHERE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at.number = %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* we may have x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y   !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Rectangle 4"/>
          <p:cNvSpPr/>
          <p:nvPr/>
        </p:nvSpPr>
        <p:spPr>
          <a:xfrm>
            <a:off x="80640" y="1981080"/>
            <a:ext cx="336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onger tha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D UNCOMMIT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Rectangle 5"/>
          <p:cNvSpPr/>
          <p:nvPr/>
        </p:nvSpPr>
        <p:spPr>
          <a:xfrm>
            <a:off x="372600" y="3325680"/>
            <a:ext cx="2199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is possibl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read twice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get differen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1761F-446D-4EB8-9D62-4B0E64AB15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solation Level: Repeatable Read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Rectangle 3"/>
          <p:cNvSpPr/>
          <p:nvPr/>
        </p:nvSpPr>
        <p:spPr>
          <a:xfrm>
            <a:off x="3585600" y="2057400"/>
            <a:ext cx="4845600" cy="3934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SET ISOLATION LEVEL REPEATABLE RE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t x =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Account.amoun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Accou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WHERE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ccount.number = ‘555555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* . . . . . More stuff here . . . .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t y =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Account.amoun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Accou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WHERE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ccount.number = ‘777777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* we may have a wrong x+y   !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Rectangle 4"/>
          <p:cNvSpPr/>
          <p:nvPr/>
        </p:nvSpPr>
        <p:spPr>
          <a:xfrm>
            <a:off x="79560" y="1981080"/>
            <a:ext cx="2928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onger tha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D COMMIT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Rectangle 5"/>
          <p:cNvSpPr/>
          <p:nvPr/>
        </p:nvSpPr>
        <p:spPr>
          <a:xfrm>
            <a:off x="227160" y="3429000"/>
            <a:ext cx="2878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y see incompatibl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other txn transfer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from acc. 55555 t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7777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B0550-52B0-4381-8330-3BE565059F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solation Level: Serializabl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Rectangle 3"/>
          <p:cNvSpPr/>
          <p:nvPr/>
        </p:nvSpPr>
        <p:spPr>
          <a:xfrm>
            <a:off x="3966840" y="2590920"/>
            <a:ext cx="4318560" cy="2014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SET ISOLATION LEVEL SERIALIZ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  .  . 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4"/>
          <p:cNvSpPr/>
          <p:nvPr/>
        </p:nvSpPr>
        <p:spPr>
          <a:xfrm>
            <a:off x="608760" y="2666880"/>
            <a:ext cx="200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onges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Rectangle 5"/>
          <p:cNvSpPr/>
          <p:nvPr/>
        </p:nvSpPr>
        <p:spPr>
          <a:xfrm>
            <a:off x="991440" y="4267080"/>
            <a:ext cx="109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au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ectangle 6"/>
          <p:cNvSpPr/>
          <p:nvPr/>
        </p:nvSpPr>
        <p:spPr>
          <a:xfrm>
            <a:off x="2138040" y="5715000"/>
            <a:ext cx="542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LL STUDY IN DETAILS IN A W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F72DC-89DB-464F-B628-B8433E9938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Mechanics of Dis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chanical characteristic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tation speed (5400RP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umber of platters (1-3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umber of tracks (&lt;=1000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umber of bytes/track(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4"/>
          <p:cNvSpPr/>
          <p:nvPr/>
        </p:nvSpPr>
        <p:spPr>
          <a:xfrm>
            <a:off x="533520" y="1523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Group 5"/>
          <p:cNvGrpSpPr/>
          <p:nvPr/>
        </p:nvGrpSpPr>
        <p:grpSpPr>
          <a:xfrm>
            <a:off x="5208480" y="2787480"/>
            <a:ext cx="3149640" cy="1801800"/>
            <a:chOff x="5208480" y="2787480"/>
            <a:chExt cx="3149640" cy="1801800"/>
          </a:xfrm>
        </p:grpSpPr>
        <p:sp>
          <p:nvSpPr>
            <p:cNvPr id="157" name="Freeform 6"/>
            <p:cNvSpPr/>
            <p:nvPr/>
          </p:nvSpPr>
          <p:spPr>
            <a:xfrm>
              <a:off x="5208480" y="3374640"/>
              <a:ext cx="3149640" cy="1214640"/>
            </a:xfrm>
            <a:prstGeom prst="pie">
              <a:avLst/>
            </a:prstGeom>
            <a:solidFill>
              <a:srgbClr val="000000"/>
            </a:solidFill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Freeform 7"/>
            <p:cNvSpPr/>
            <p:nvPr/>
          </p:nvSpPr>
          <p:spPr>
            <a:xfrm>
              <a:off x="5208480" y="2787480"/>
              <a:ext cx="3149640" cy="1214280"/>
            </a:xfrm>
            <a:prstGeom prst="pie">
              <a:avLst/>
            </a:prstGeom>
            <a:solidFill>
              <a:srgbClr val="000000"/>
            </a:solidFill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" name="Group 8"/>
          <p:cNvGrpSpPr/>
          <p:nvPr/>
        </p:nvGrpSpPr>
        <p:grpSpPr>
          <a:xfrm>
            <a:off x="5181480" y="2057400"/>
            <a:ext cx="3176640" cy="4594320"/>
            <a:chOff x="5181480" y="2057400"/>
            <a:chExt cx="3176640" cy="4594320"/>
          </a:xfrm>
        </p:grpSpPr>
        <p:grpSp>
          <p:nvGrpSpPr>
            <p:cNvPr id="160" name="Group 9"/>
            <p:cNvGrpSpPr/>
            <p:nvPr/>
          </p:nvGrpSpPr>
          <p:grpSpPr>
            <a:xfrm>
              <a:off x="5181480" y="2735280"/>
              <a:ext cx="3176640" cy="3916440"/>
              <a:chOff x="5181480" y="2735280"/>
              <a:chExt cx="3176640" cy="3916440"/>
            </a:xfrm>
          </p:grpSpPr>
          <p:grpSp>
            <p:nvGrpSpPr>
              <p:cNvPr id="161" name="Group 10"/>
              <p:cNvGrpSpPr/>
              <p:nvPr/>
            </p:nvGrpSpPr>
            <p:grpSpPr>
              <a:xfrm>
                <a:off x="5208480" y="3322800"/>
                <a:ext cx="3149640" cy="1214280"/>
                <a:chOff x="5208480" y="3322800"/>
                <a:chExt cx="3149640" cy="1214280"/>
              </a:xfrm>
            </p:grpSpPr>
            <p:sp>
              <p:nvSpPr>
                <p:cNvPr id="162" name="Freeform 11"/>
                <p:cNvSpPr/>
                <p:nvPr/>
              </p:nvSpPr>
              <p:spPr>
                <a:xfrm>
                  <a:off x="5208480" y="3322800"/>
                  <a:ext cx="3149640" cy="1214280"/>
                </a:xfrm>
                <a:prstGeom prst="pie">
                  <a:avLst/>
                </a:pr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" name="Freeform 12"/>
                <p:cNvSpPr/>
                <p:nvPr/>
              </p:nvSpPr>
              <p:spPr>
                <a:xfrm>
                  <a:off x="5299200" y="3414600"/>
                  <a:ext cx="2941560" cy="1032120"/>
                </a:xfrm>
                <a:prstGeom prst="pie">
                  <a:avLst/>
                </a:pr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Freeform 13"/>
                <p:cNvSpPr/>
                <p:nvPr/>
              </p:nvSpPr>
              <p:spPr>
                <a:xfrm>
                  <a:off x="5443560" y="3517920"/>
                  <a:ext cx="2654280" cy="784080"/>
                </a:xfrm>
                <a:prstGeom prst="pie">
                  <a:avLst/>
                </a:pr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5" name="Group 14"/>
              <p:cNvGrpSpPr/>
              <p:nvPr/>
            </p:nvGrpSpPr>
            <p:grpSpPr>
              <a:xfrm>
                <a:off x="5208480" y="2735280"/>
                <a:ext cx="3149640" cy="1216080"/>
                <a:chOff x="5208480" y="2735280"/>
                <a:chExt cx="3149640" cy="1216080"/>
              </a:xfrm>
            </p:grpSpPr>
            <p:sp>
              <p:nvSpPr>
                <p:cNvPr id="166" name="Freeform 15"/>
                <p:cNvSpPr/>
                <p:nvPr/>
              </p:nvSpPr>
              <p:spPr>
                <a:xfrm>
                  <a:off x="5208480" y="2735280"/>
                  <a:ext cx="3149640" cy="1216080"/>
                </a:xfrm>
                <a:prstGeom prst="pie">
                  <a:avLst/>
                </a:pr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Freeform 16"/>
                <p:cNvSpPr/>
                <p:nvPr/>
              </p:nvSpPr>
              <p:spPr>
                <a:xfrm>
                  <a:off x="5299200" y="2827440"/>
                  <a:ext cx="2941560" cy="1031760"/>
                </a:xfrm>
                <a:prstGeom prst="pie">
                  <a:avLst/>
                </a:pr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Freeform 17"/>
                <p:cNvSpPr/>
                <p:nvPr/>
              </p:nvSpPr>
              <p:spPr>
                <a:xfrm>
                  <a:off x="5443560" y="2932200"/>
                  <a:ext cx="2654280" cy="784080"/>
                </a:xfrm>
                <a:prstGeom prst="pie">
                  <a:avLst/>
                </a:pr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9" name="Freeform 18"/>
              <p:cNvSpPr/>
              <p:nvPr/>
            </p:nvSpPr>
            <p:spPr>
              <a:xfrm>
                <a:off x="5181480" y="5435640"/>
                <a:ext cx="3164040" cy="1216080"/>
              </a:xfrm>
              <a:prstGeom prst="pie">
                <a:avLst/>
              </a:pr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0" name="Group 19"/>
            <p:cNvGrpSpPr/>
            <p:nvPr/>
          </p:nvGrpSpPr>
          <p:grpSpPr>
            <a:xfrm>
              <a:off x="5181480" y="5370480"/>
              <a:ext cx="3164040" cy="1216080"/>
              <a:chOff x="5181480" y="5370480"/>
              <a:chExt cx="3164040" cy="1216080"/>
            </a:xfrm>
          </p:grpSpPr>
          <p:sp>
            <p:nvSpPr>
              <p:cNvPr id="171" name="Freeform 20"/>
              <p:cNvSpPr/>
              <p:nvPr/>
            </p:nvSpPr>
            <p:spPr>
              <a:xfrm>
                <a:off x="5181480" y="5370480"/>
                <a:ext cx="3164040" cy="1216080"/>
              </a:xfrm>
              <a:prstGeom prst="pie">
                <a:avLst/>
              </a:pr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Freeform 21"/>
              <p:cNvSpPr/>
              <p:nvPr/>
            </p:nvSpPr>
            <p:spPr>
              <a:xfrm>
                <a:off x="5286240" y="5475240"/>
                <a:ext cx="2941920" cy="1019160"/>
              </a:xfrm>
              <a:prstGeom prst="pie">
                <a:avLst/>
              </a:pr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Freeform 22"/>
              <p:cNvSpPr/>
              <p:nvPr/>
            </p:nvSpPr>
            <p:spPr>
              <a:xfrm>
                <a:off x="5429160" y="5567400"/>
                <a:ext cx="2654280" cy="784080"/>
              </a:xfrm>
              <a:prstGeom prst="pie">
                <a:avLst/>
              </a:pr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4" name="Group 23"/>
            <p:cNvGrpSpPr/>
            <p:nvPr/>
          </p:nvGrpSpPr>
          <p:grpSpPr>
            <a:xfrm>
              <a:off x="6462720" y="2057400"/>
              <a:ext cx="681120" cy="3994200"/>
              <a:chOff x="6462720" y="2057400"/>
              <a:chExt cx="681120" cy="3994200"/>
            </a:xfrm>
          </p:grpSpPr>
          <p:sp>
            <p:nvSpPr>
              <p:cNvPr id="175" name="Freeform 24"/>
              <p:cNvSpPr/>
              <p:nvPr/>
            </p:nvSpPr>
            <p:spPr>
              <a:xfrm>
                <a:off x="6553080" y="2239920"/>
                <a:ext cx="393840" cy="1176480"/>
              </a:xfrm>
              <a:prstGeom prst="pie">
                <a:avLst/>
              </a:pr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Freeform 25"/>
              <p:cNvSpPr/>
              <p:nvPr/>
            </p:nvSpPr>
            <p:spPr>
              <a:xfrm>
                <a:off x="6553080" y="2057400"/>
                <a:ext cx="393840" cy="249120"/>
              </a:xfrm>
              <a:prstGeom prst="pie">
                <a:avLst/>
              </a:pr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Freeform 26"/>
              <p:cNvSpPr/>
              <p:nvPr/>
            </p:nvSpPr>
            <p:spPr>
              <a:xfrm>
                <a:off x="6553080" y="4587840"/>
                <a:ext cx="393840" cy="1463760"/>
              </a:xfrm>
              <a:prstGeom prst="pie">
                <a:avLst/>
              </a:pr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Freeform 27"/>
              <p:cNvSpPr/>
              <p:nvPr/>
            </p:nvSpPr>
            <p:spPr>
              <a:xfrm>
                <a:off x="6462720" y="2344680"/>
                <a:ext cx="681120" cy="392040"/>
              </a:xfrm>
              <a:prstGeom prst="pie">
                <a:avLst/>
              </a:pr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79" name="Freeform 28"/>
          <p:cNvSpPr/>
          <p:nvPr/>
        </p:nvSpPr>
        <p:spPr>
          <a:xfrm>
            <a:off x="7050240" y="2344680"/>
            <a:ext cx="171360" cy="1713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Line 29"/>
          <p:cNvSpPr/>
          <p:nvPr/>
        </p:nvSpPr>
        <p:spPr>
          <a:xfrm>
            <a:off x="4594320" y="3322800"/>
            <a:ext cx="7840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Line 30"/>
          <p:cNvSpPr/>
          <p:nvPr/>
        </p:nvSpPr>
        <p:spPr>
          <a:xfrm>
            <a:off x="4594320" y="3935520"/>
            <a:ext cx="7840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Line 31"/>
          <p:cNvSpPr/>
          <p:nvPr/>
        </p:nvSpPr>
        <p:spPr>
          <a:xfrm>
            <a:off x="4594320" y="6022800"/>
            <a:ext cx="7840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Line 32"/>
          <p:cNvSpPr/>
          <p:nvPr/>
        </p:nvSpPr>
        <p:spPr>
          <a:xfrm>
            <a:off x="4594320" y="4497480"/>
            <a:ext cx="0" cy="15652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Line 33"/>
          <p:cNvSpPr/>
          <p:nvPr/>
        </p:nvSpPr>
        <p:spPr>
          <a:xfrm flipV="1">
            <a:off x="4594320" y="3322440"/>
            <a:ext cx="0" cy="11746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Freeform 34"/>
          <p:cNvSpPr/>
          <p:nvPr/>
        </p:nvSpPr>
        <p:spPr>
          <a:xfrm>
            <a:off x="5378400" y="5985000"/>
            <a:ext cx="157320" cy="79200"/>
          </a:xfrm>
          <a:prstGeom prst="pie">
            <a:avLst/>
          </a:prstGeom>
          <a:blipFill rotWithShape="0">
            <a:blip r:embed="rId1"/>
            <a:srcRect/>
            <a:tile tx="0" ty="0" sx="100000" sy="100000" algn="ctr"/>
          </a:blip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Freeform 35"/>
          <p:cNvSpPr/>
          <p:nvPr/>
        </p:nvSpPr>
        <p:spPr>
          <a:xfrm>
            <a:off x="5378400" y="3282840"/>
            <a:ext cx="157320" cy="68400"/>
          </a:xfrm>
          <a:prstGeom prst="pie">
            <a:avLst/>
          </a:prstGeom>
          <a:blipFill rotWithShape="0">
            <a:blip r:embed="rId2"/>
            <a:srcRect/>
            <a:tile tx="0" ty="0" sx="100000" sy="100000" algn="ctr"/>
          </a:blip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960" bIns="21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Freeform 36"/>
          <p:cNvSpPr/>
          <p:nvPr/>
        </p:nvSpPr>
        <p:spPr>
          <a:xfrm>
            <a:off x="5378400" y="3909960"/>
            <a:ext cx="157320" cy="66600"/>
          </a:xfrm>
          <a:prstGeom prst="pie">
            <a:avLst/>
          </a:prstGeom>
          <a:blipFill rotWithShape="0">
            <a:blip r:embed="rId3"/>
            <a:srcRect/>
            <a:tile tx="0" ty="0" sx="100000" sy="100000" algn="ctr"/>
          </a:blip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Rectangle 37"/>
          <p:cNvSpPr/>
          <p:nvPr/>
        </p:nvSpPr>
        <p:spPr>
          <a:xfrm>
            <a:off x="8238960" y="4776840"/>
            <a:ext cx="83412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Platter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Line 38"/>
          <p:cNvSpPr/>
          <p:nvPr/>
        </p:nvSpPr>
        <p:spPr>
          <a:xfrm>
            <a:off x="8121600" y="4300560"/>
            <a:ext cx="392040" cy="48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Line 39"/>
          <p:cNvSpPr/>
          <p:nvPr/>
        </p:nvSpPr>
        <p:spPr>
          <a:xfrm flipV="1">
            <a:off x="8121600" y="5084640"/>
            <a:ext cx="392040" cy="58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Rectangle 40"/>
          <p:cNvSpPr/>
          <p:nvPr/>
        </p:nvSpPr>
        <p:spPr>
          <a:xfrm>
            <a:off x="7578000" y="2049480"/>
            <a:ext cx="8236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pindl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Freeform 41"/>
          <p:cNvSpPr/>
          <p:nvPr/>
        </p:nvSpPr>
        <p:spPr>
          <a:xfrm>
            <a:off x="6946920" y="2184480"/>
            <a:ext cx="695160" cy="11736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Rectangle 42"/>
          <p:cNvSpPr/>
          <p:nvPr/>
        </p:nvSpPr>
        <p:spPr>
          <a:xfrm>
            <a:off x="4566600" y="2365200"/>
            <a:ext cx="10368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Disk hea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4" name="Group 43"/>
          <p:cNvGrpSpPr/>
          <p:nvPr/>
        </p:nvGrpSpPr>
        <p:grpSpPr>
          <a:xfrm>
            <a:off x="4889160" y="4708440"/>
            <a:ext cx="1480320" cy="519480"/>
            <a:chOff x="4889160" y="4708440"/>
            <a:chExt cx="1480320" cy="519480"/>
          </a:xfrm>
        </p:grpSpPr>
        <p:sp>
          <p:nvSpPr>
            <p:cNvPr id="195" name="Freeform 44"/>
            <p:cNvSpPr/>
            <p:nvPr/>
          </p:nvSpPr>
          <p:spPr>
            <a:xfrm>
              <a:off x="4943520" y="4708440"/>
              <a:ext cx="1373040" cy="196920"/>
            </a:xfrm>
            <a:prstGeom prst="pie">
              <a:avLst/>
            </a:pr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Rectangle 45"/>
            <p:cNvSpPr/>
            <p:nvPr/>
          </p:nvSpPr>
          <p:spPr>
            <a:xfrm>
              <a:off x="4889160" y="4907160"/>
              <a:ext cx="148032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Arm movemen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Group 46"/>
          <p:cNvGrpSpPr/>
          <p:nvPr/>
        </p:nvGrpSpPr>
        <p:grpSpPr>
          <a:xfrm>
            <a:off x="3731040" y="5670720"/>
            <a:ext cx="1396800" cy="798480"/>
            <a:chOff x="3731040" y="5670720"/>
            <a:chExt cx="1396800" cy="798480"/>
          </a:xfrm>
        </p:grpSpPr>
        <p:sp>
          <p:nvSpPr>
            <p:cNvPr id="198" name="Rectangle 47"/>
            <p:cNvSpPr/>
            <p:nvPr/>
          </p:nvSpPr>
          <p:spPr>
            <a:xfrm>
              <a:off x="3731040" y="6148440"/>
              <a:ext cx="139680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Arm assembly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Freeform 48"/>
            <p:cNvSpPr/>
            <p:nvPr/>
          </p:nvSpPr>
          <p:spPr>
            <a:xfrm>
              <a:off x="4191120" y="5670720"/>
              <a:ext cx="406440" cy="48420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0" name="Freeform 49"/>
          <p:cNvSpPr/>
          <p:nvPr/>
        </p:nvSpPr>
        <p:spPr>
          <a:xfrm>
            <a:off x="5183280" y="2592360"/>
            <a:ext cx="288720" cy="73188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1" name="Group 50"/>
          <p:cNvGrpSpPr/>
          <p:nvPr/>
        </p:nvGrpSpPr>
        <p:grpSpPr>
          <a:xfrm>
            <a:off x="7675560" y="2255760"/>
            <a:ext cx="1291320" cy="792360"/>
            <a:chOff x="7675560" y="2255760"/>
            <a:chExt cx="1291320" cy="792360"/>
          </a:xfrm>
        </p:grpSpPr>
        <p:sp>
          <p:nvSpPr>
            <p:cNvPr id="202" name="Freeform 51"/>
            <p:cNvSpPr/>
            <p:nvPr/>
          </p:nvSpPr>
          <p:spPr>
            <a:xfrm>
              <a:off x="7765920" y="2563920"/>
              <a:ext cx="590760" cy="48420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3" name="Group 52"/>
            <p:cNvGrpSpPr/>
            <p:nvPr/>
          </p:nvGrpSpPr>
          <p:grpSpPr>
            <a:xfrm>
              <a:off x="7675560" y="2255760"/>
              <a:ext cx="1291320" cy="701640"/>
              <a:chOff x="7675560" y="2255760"/>
              <a:chExt cx="1291320" cy="701640"/>
            </a:xfrm>
          </p:grpSpPr>
          <p:sp>
            <p:nvSpPr>
              <p:cNvPr id="204" name="Rectangle 53"/>
              <p:cNvSpPr/>
              <p:nvPr/>
            </p:nvSpPr>
            <p:spPr>
              <a:xfrm>
                <a:off x="8207280" y="2255760"/>
                <a:ext cx="759600" cy="32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Arial"/>
                  </a:rPr>
                  <a:t>Tracks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Freeform 54"/>
              <p:cNvSpPr/>
              <p:nvPr/>
            </p:nvSpPr>
            <p:spPr>
              <a:xfrm>
                <a:off x="7675560" y="2563920"/>
                <a:ext cx="484200" cy="393480"/>
              </a:xfrm>
              <a:prstGeom prst="pie">
                <a:avLst/>
              </a:pr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06" name="Freeform 55"/>
          <p:cNvSpPr/>
          <p:nvPr/>
        </p:nvSpPr>
        <p:spPr>
          <a:xfrm>
            <a:off x="8199360" y="3127320"/>
            <a:ext cx="174600" cy="444600"/>
          </a:xfrm>
          <a:prstGeom prst="pie">
            <a:avLst/>
          </a:prstGeom>
          <a:noFill/>
          <a:ln cap="rnd"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Rectangle 56"/>
          <p:cNvSpPr/>
          <p:nvPr/>
        </p:nvSpPr>
        <p:spPr>
          <a:xfrm>
            <a:off x="8407440" y="3200400"/>
            <a:ext cx="73836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cto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Freeform 57"/>
          <p:cNvSpPr/>
          <p:nvPr/>
        </p:nvSpPr>
        <p:spPr>
          <a:xfrm>
            <a:off x="6946920" y="3127320"/>
            <a:ext cx="1471680" cy="484200"/>
          </a:xfrm>
          <a:prstGeom prst="pie">
            <a:avLst/>
          </a:prstGeom>
          <a:solidFill>
            <a:srgbClr val="ff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Freeform 58"/>
          <p:cNvSpPr/>
          <p:nvPr/>
        </p:nvSpPr>
        <p:spPr>
          <a:xfrm>
            <a:off x="8372520" y="3075120"/>
            <a:ext cx="520560" cy="27612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Rectangle 59"/>
          <p:cNvSpPr/>
          <p:nvPr/>
        </p:nvSpPr>
        <p:spPr>
          <a:xfrm>
            <a:off x="5407560" y="1676520"/>
            <a:ext cx="88776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ylind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Line 60"/>
          <p:cNvSpPr/>
          <p:nvPr/>
        </p:nvSpPr>
        <p:spPr>
          <a:xfrm>
            <a:off x="5943600" y="2057400"/>
            <a:ext cx="76320" cy="3505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Rectangle 61"/>
          <p:cNvSpPr/>
          <p:nvPr/>
        </p:nvSpPr>
        <p:spPr>
          <a:xfrm>
            <a:off x="304560" y="4648320"/>
            <a:ext cx="3393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t of read or wri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isk blo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in memor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ically: 4k or 8k or 16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7AA77-E6C8-4C32-B3AC-C6151E29AA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k Access Characteristi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6009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60093"/>
                </a:solidFill>
                <a:latin typeface="Times New Roman"/>
              </a:rPr>
              <a:t>Disk latenc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time between when command is issued and when data is in mem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k latency = seek time + rotational lat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ek time = time for the head to reach cylin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0ms – 40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otational latency = time for the sector to rot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otation time = 10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verage latency = 10ms/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fer time = typically 40MB/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ks read/write one block at a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91C30-8C2B-49FF-B2CA-77B0DF1EB4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AI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ral disks that work in parall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dundancy: use parity to recover from disk fail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ed: read from several disks at o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ious configurations (calle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evel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ID 1 = mirr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ID 4 = n disks + 1 parity di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ID 5 = n+1 disks, assign parity blocks round rob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ID 6 = “Hamming code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2DFF7-597F-447D-AB80-877D63083F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Do We Need Transa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urrency contr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o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4"/>
          <p:cNvSpPr/>
          <p:nvPr/>
        </p:nvSpPr>
        <p:spPr>
          <a:xfrm>
            <a:off x="304920" y="4495680"/>
            <a:ext cx="8381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 the following examples, think of a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ransaction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 meaning a procedu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transactio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ommit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hen it ends successfull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transactio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olls bac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hen it abor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27263-2EF8-45A5-9BA0-5F0E89449F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ffer Management in a DB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762120" y="5181480"/>
            <a:ext cx="76960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must be in RAM for DBMS to operate on it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able of &lt;frame#, pageid&gt; pairs i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aintai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4" name="Group 6"/>
          <p:cNvGrpSpPr/>
          <p:nvPr/>
        </p:nvGrpSpPr>
        <p:grpSpPr>
          <a:xfrm>
            <a:off x="2529000" y="2095560"/>
            <a:ext cx="4230720" cy="1720800"/>
            <a:chOff x="2529000" y="2095560"/>
            <a:chExt cx="4230720" cy="1720800"/>
          </a:xfrm>
        </p:grpSpPr>
        <p:sp>
          <p:nvSpPr>
            <p:cNvPr id="225" name="Rectangle 7"/>
            <p:cNvSpPr/>
            <p:nvPr/>
          </p:nvSpPr>
          <p:spPr>
            <a:xfrm>
              <a:off x="2541600" y="2108160"/>
              <a:ext cx="4205160" cy="16956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Rectangle 8"/>
            <p:cNvSpPr/>
            <p:nvPr/>
          </p:nvSpPr>
          <p:spPr>
            <a:xfrm>
              <a:off x="2535120" y="2102040"/>
              <a:ext cx="679680" cy="1707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Rectangle 9"/>
            <p:cNvSpPr/>
            <p:nvPr/>
          </p:nvSpPr>
          <p:spPr>
            <a:xfrm>
              <a:off x="3227400" y="2102040"/>
              <a:ext cx="682560" cy="1707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Rectangle 10"/>
            <p:cNvSpPr/>
            <p:nvPr/>
          </p:nvSpPr>
          <p:spPr>
            <a:xfrm>
              <a:off x="3922560" y="2102040"/>
              <a:ext cx="681120" cy="1707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Rectangle 11"/>
            <p:cNvSpPr/>
            <p:nvPr/>
          </p:nvSpPr>
          <p:spPr>
            <a:xfrm>
              <a:off x="4616640" y="2102040"/>
              <a:ext cx="679320" cy="1707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Rectangle 12"/>
            <p:cNvSpPr/>
            <p:nvPr/>
          </p:nvSpPr>
          <p:spPr>
            <a:xfrm>
              <a:off x="5308560" y="2102040"/>
              <a:ext cx="681120" cy="1707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13"/>
            <p:cNvSpPr/>
            <p:nvPr/>
          </p:nvSpPr>
          <p:spPr>
            <a:xfrm>
              <a:off x="2529000" y="2646360"/>
              <a:ext cx="4230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14"/>
            <p:cNvSpPr/>
            <p:nvPr/>
          </p:nvSpPr>
          <p:spPr>
            <a:xfrm>
              <a:off x="2529000" y="3265560"/>
              <a:ext cx="4230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Rectangle 15"/>
            <p:cNvSpPr/>
            <p:nvPr/>
          </p:nvSpPr>
          <p:spPr>
            <a:xfrm>
              <a:off x="2529000" y="2095560"/>
              <a:ext cx="691920" cy="550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Rectangle 16"/>
            <p:cNvSpPr/>
            <p:nvPr/>
          </p:nvSpPr>
          <p:spPr>
            <a:xfrm>
              <a:off x="3916440" y="2095560"/>
              <a:ext cx="693720" cy="550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Rectangle 17"/>
            <p:cNvSpPr/>
            <p:nvPr/>
          </p:nvSpPr>
          <p:spPr>
            <a:xfrm>
              <a:off x="4610160" y="3265560"/>
              <a:ext cx="692280" cy="550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6" name="Group 18"/>
          <p:cNvGrpSpPr/>
          <p:nvPr/>
        </p:nvGrpSpPr>
        <p:grpSpPr>
          <a:xfrm>
            <a:off x="3916440" y="4394160"/>
            <a:ext cx="1317600" cy="689040"/>
            <a:chOff x="3916440" y="4394160"/>
            <a:chExt cx="1317600" cy="689040"/>
          </a:xfrm>
        </p:grpSpPr>
        <p:grpSp>
          <p:nvGrpSpPr>
            <p:cNvPr id="237" name="Group 19"/>
            <p:cNvGrpSpPr/>
            <p:nvPr/>
          </p:nvGrpSpPr>
          <p:grpSpPr>
            <a:xfrm>
              <a:off x="3916440" y="4394160"/>
              <a:ext cx="1317600" cy="689040"/>
              <a:chOff x="3916440" y="4394160"/>
              <a:chExt cx="1317600" cy="689040"/>
            </a:xfrm>
          </p:grpSpPr>
          <p:sp>
            <p:nvSpPr>
              <p:cNvPr id="238" name="Oval 20"/>
              <p:cNvSpPr/>
              <p:nvPr/>
            </p:nvSpPr>
            <p:spPr>
              <a:xfrm>
                <a:off x="3929040" y="4394160"/>
                <a:ext cx="1292400" cy="15408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Oval 21"/>
              <p:cNvSpPr/>
              <p:nvPr/>
            </p:nvSpPr>
            <p:spPr>
              <a:xfrm>
                <a:off x="3929040" y="4929120"/>
                <a:ext cx="1292400" cy="15408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Line 22"/>
              <p:cNvSpPr/>
              <p:nvPr/>
            </p:nvSpPr>
            <p:spPr>
              <a:xfrm>
                <a:off x="3916440" y="4471920"/>
                <a:ext cx="0" cy="5349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Line 23"/>
              <p:cNvSpPr/>
              <p:nvPr/>
            </p:nvSpPr>
            <p:spPr>
              <a:xfrm>
                <a:off x="5234040" y="4471920"/>
                <a:ext cx="0" cy="5349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2" name="Rectangle 24"/>
            <p:cNvSpPr/>
            <p:nvPr/>
          </p:nvSpPr>
          <p:spPr>
            <a:xfrm>
              <a:off x="4232160" y="4500720"/>
              <a:ext cx="6368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Book Antiqua"/>
                </a:rPr>
                <a:t>D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3" name="Line 25"/>
          <p:cNvSpPr/>
          <p:nvPr/>
        </p:nvSpPr>
        <p:spPr>
          <a:xfrm>
            <a:off x="1488960" y="4167360"/>
            <a:ext cx="2981520" cy="0"/>
          </a:xfrm>
          <a:prstGeom prst="line">
            <a:avLst/>
          </a:prstGeom>
          <a:ln w="12600">
            <a:solidFill>
              <a:srgbClr val="b760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Rectangle 26"/>
          <p:cNvSpPr/>
          <p:nvPr/>
        </p:nvSpPr>
        <p:spPr>
          <a:xfrm>
            <a:off x="1222920" y="3790800"/>
            <a:ext cx="1693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760f9"/>
                </a:solidFill>
                <a:latin typeface="Book Antiqua"/>
              </a:rPr>
              <a:t>MAIN MEM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Rectangle 27"/>
          <p:cNvSpPr/>
          <p:nvPr/>
        </p:nvSpPr>
        <p:spPr>
          <a:xfrm>
            <a:off x="1087560" y="4289400"/>
            <a:ext cx="733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760f9"/>
                </a:solidFill>
                <a:latin typeface="Book Antiqua"/>
              </a:rPr>
              <a:t>D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Freeform 28"/>
          <p:cNvSpPr/>
          <p:nvPr/>
        </p:nvSpPr>
        <p:spPr>
          <a:xfrm>
            <a:off x="1454040" y="2270160"/>
            <a:ext cx="1041480" cy="30168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Rectangle 29"/>
          <p:cNvSpPr/>
          <p:nvPr/>
        </p:nvSpPr>
        <p:spPr>
          <a:xfrm>
            <a:off x="1056600" y="2548080"/>
            <a:ext cx="141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disk 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Freeform 30"/>
          <p:cNvSpPr/>
          <p:nvPr/>
        </p:nvSpPr>
        <p:spPr>
          <a:xfrm>
            <a:off x="1697040" y="2967120"/>
            <a:ext cx="1039680" cy="29988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Rectangle 31"/>
          <p:cNvSpPr/>
          <p:nvPr/>
        </p:nvSpPr>
        <p:spPr>
          <a:xfrm>
            <a:off x="1088640" y="3241800"/>
            <a:ext cx="1556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free fr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Line 32"/>
          <p:cNvSpPr/>
          <p:nvPr/>
        </p:nvSpPr>
        <p:spPr>
          <a:xfrm>
            <a:off x="4610160" y="1477800"/>
            <a:ext cx="0" cy="549360"/>
          </a:xfrm>
          <a:prstGeom prst="line">
            <a:avLst/>
          </a:prstGeom>
          <a:ln w="25560">
            <a:solidFill>
              <a:srgbClr val="b2b2b2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Rectangle 33"/>
          <p:cNvSpPr/>
          <p:nvPr/>
        </p:nvSpPr>
        <p:spPr>
          <a:xfrm>
            <a:off x="1727280" y="1038240"/>
            <a:ext cx="60372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Book Antiqua"/>
              </a:rPr>
              <a:t>Page Requests from Higher Lev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Rectangle 34"/>
          <p:cNvSpPr/>
          <p:nvPr/>
        </p:nvSpPr>
        <p:spPr>
          <a:xfrm>
            <a:off x="2458080" y="1798560"/>
            <a:ext cx="1693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BUFFER PO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Freeform 35"/>
          <p:cNvSpPr/>
          <p:nvPr/>
        </p:nvSpPr>
        <p:spPr>
          <a:xfrm>
            <a:off x="4762440" y="4105440"/>
            <a:ext cx="1022400" cy="153720"/>
          </a:xfrm>
          <a:prstGeom prst="pie">
            <a:avLst/>
          </a:prstGeom>
          <a:noFill/>
          <a:ln cap="rnd" w="12600">
            <a:solidFill>
              <a:srgbClr val="b2b2b2"/>
            </a:solidFill>
            <a:round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Rectangle 36"/>
          <p:cNvSpPr/>
          <p:nvPr/>
        </p:nvSpPr>
        <p:spPr>
          <a:xfrm>
            <a:off x="5050440" y="4343400"/>
            <a:ext cx="34768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Book Antiqua"/>
              </a:rPr>
              <a:t>choice of frame dict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Book Antiqua"/>
              </a:rPr>
              <a:t>by </a:t>
            </a:r>
            <a:r>
              <a:rPr b="1" lang="en-US" sz="1800" spc="-1" strike="noStrike">
                <a:solidFill>
                  <a:srgbClr val="ff0000"/>
                </a:solidFill>
                <a:latin typeface="Book Antiqua"/>
              </a:rPr>
              <a:t>replacement polic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Line 37"/>
          <p:cNvSpPr/>
          <p:nvPr/>
        </p:nvSpPr>
        <p:spPr>
          <a:xfrm>
            <a:off x="4610160" y="3840120"/>
            <a:ext cx="0" cy="549360"/>
          </a:xfrm>
          <a:prstGeom prst="line">
            <a:avLst/>
          </a:prstGeom>
          <a:ln w="25560">
            <a:solidFill>
              <a:srgbClr val="b2b2b2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AutoShape 38"/>
          <p:cNvSpPr/>
          <p:nvPr/>
        </p:nvSpPr>
        <p:spPr>
          <a:xfrm>
            <a:off x="7281000" y="1201320"/>
            <a:ext cx="1627200" cy="1172520"/>
          </a:xfrm>
          <a:prstGeom prst="wedgeEllipseCallout">
            <a:avLst>
              <a:gd name="adj1" fmla="val -131662"/>
              <a:gd name="adj2" fmla="val -466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AutoShape 39"/>
          <p:cNvSpPr/>
          <p:nvPr/>
        </p:nvSpPr>
        <p:spPr>
          <a:xfrm>
            <a:off x="7118640" y="3182400"/>
            <a:ext cx="1960560" cy="1172520"/>
          </a:xfrm>
          <a:prstGeom prst="wedgeEllipseCallout">
            <a:avLst>
              <a:gd name="adj1" fmla="val -110194"/>
              <a:gd name="adj2" fmla="val 29768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U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01D51-A108-4814-B7B7-46B730D2E2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ffer Manag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Text Box 3"/>
          <p:cNvSpPr/>
          <p:nvPr/>
        </p:nvSpPr>
        <p:spPr>
          <a:xfrm>
            <a:off x="214560" y="1828800"/>
            <a:ext cx="83905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eds to decide on page replacement poli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ock algorith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th work well in OS, but not always in D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ables the higher levels of the DBMS to assume that t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eded data is in main memo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4C55B-99F5-4F7A-A17D-D4A93202D1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ast Recently Used (LRU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der pages by the time of last acces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ways replace the least recently acces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Rectangle 4"/>
          <p:cNvSpPr/>
          <p:nvPr/>
        </p:nvSpPr>
        <p:spPr>
          <a:xfrm>
            <a:off x="653400" y="3429000"/>
            <a:ext cx="704376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5, P2, P8, P4, P1, P9, P6, P3, P7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AutoShape 5"/>
          <p:cNvSpPr/>
          <p:nvPr/>
        </p:nvSpPr>
        <p:spPr>
          <a:xfrm>
            <a:off x="3886200" y="4267080"/>
            <a:ext cx="990720" cy="7621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AutoShape 6"/>
          <p:cNvSpPr/>
          <p:nvPr/>
        </p:nvSpPr>
        <p:spPr>
          <a:xfrm>
            <a:off x="5451480" y="4479120"/>
            <a:ext cx="2049480" cy="652680"/>
          </a:xfrm>
          <a:prstGeom prst="wedgeEllipseCallout">
            <a:avLst>
              <a:gd name="adj1" fmla="val -38620"/>
              <a:gd name="adj2" fmla="val -93824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ess P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Rectangle 7"/>
          <p:cNvSpPr/>
          <p:nvPr/>
        </p:nvSpPr>
        <p:spPr>
          <a:xfrm>
            <a:off x="685080" y="5257800"/>
            <a:ext cx="704376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6, P5, P2, P8, P4, P1, P9, P3, P7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Text Box 8"/>
          <p:cNvSpPr/>
          <p:nvPr/>
        </p:nvSpPr>
        <p:spPr>
          <a:xfrm>
            <a:off x="453600" y="6172200"/>
            <a:ext cx="78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RU is expensive (why ?); the clock algorithm is good appro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8D34A-1C50-4C23-BCA0-A61A134660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ffer Manag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Text Box 3"/>
          <p:cNvSpPr/>
          <p:nvPr/>
        </p:nvSpPr>
        <p:spPr>
          <a:xfrm>
            <a:off x="687240" y="1600200"/>
            <a:ext cx="79912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Times New Roman"/>
              </a:rPr>
              <a:t>Why not use the Operating System for the task?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 reason: need fine grained control for transa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 reas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DBMS may be able to anticipate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access patter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Hence, may also be able to perform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refetch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BMS needs the ability to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forc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ges to disk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for recovery purpo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4568D-86E1-4854-9457-C0DAFBB563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ransaction Management and the Buffer Manag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transaction manager operates on the buffer po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Recover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‘log-file write-ahead’, then careful policy about which pages to force to dis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oncurrency contro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locks at the page level, multiversion concurrency contr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Rectangle 4"/>
          <p:cNvSpPr/>
          <p:nvPr/>
        </p:nvSpPr>
        <p:spPr>
          <a:xfrm>
            <a:off x="1672560" y="6023160"/>
            <a:ext cx="6043680" cy="459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ll discuss details during the next few le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C138D-BA75-461B-AAE4-90FD9EE260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urrency control: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ree Famous anomali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010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ty re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 reads data written by T’ while T’ has not commit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can go wrong: T’ write more data (which T has already read), or T’ ab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st upd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tasks T and T’ both modify the sam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 and T’ both comm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al state shows effects of only T, but not of T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consistent re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 task T sees some but not all changes made by T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E2FDF-98D3-4E14-BA67-62C77CCE59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rty Rea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Rectangle 5"/>
          <p:cNvSpPr/>
          <p:nvPr/>
        </p:nvSpPr>
        <p:spPr>
          <a:xfrm>
            <a:off x="375480" y="1905120"/>
            <a:ext cx="4949640" cy="256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ient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* transfer $100  from account 1 to account 2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Account1.balance &gt; 100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then Account1.balance = Account1.balance - 100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ccount2.balance = Account2.balance + 100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COMM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lse ROLL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Rectangle 6"/>
          <p:cNvSpPr/>
          <p:nvPr/>
        </p:nvSpPr>
        <p:spPr>
          <a:xfrm>
            <a:off x="5945400" y="1981080"/>
            <a:ext cx="2704320" cy="3111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ient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* Compute total amount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X = Account1.balanc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Y = Account2.balanc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Z = X + 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nt(Z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M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Rectangle 7"/>
          <p:cNvSpPr/>
          <p:nvPr/>
        </p:nvSpPr>
        <p:spPr>
          <a:xfrm>
            <a:off x="3353760" y="5867280"/>
            <a:ext cx="254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goes wrong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9C008-110C-43E8-A306-5814A50280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rty Rea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Rectangle 3"/>
          <p:cNvSpPr/>
          <p:nvPr/>
        </p:nvSpPr>
        <p:spPr>
          <a:xfrm>
            <a:off x="378360" y="1905120"/>
            <a:ext cx="4885200" cy="33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ient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* transfer $100  from account 1 to account 2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* tentatively move money into account 2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ccount2.balance = Account2.balance + 1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Account1.balance &gt; 100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then Account1.balance = Account1.balance - 100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COMM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lse /* oops: remove $100 from Account 2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ccount2.balance = Account2.balance - 100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ROLL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4"/>
          <p:cNvSpPr/>
          <p:nvPr/>
        </p:nvSpPr>
        <p:spPr>
          <a:xfrm>
            <a:off x="5482800" y="1981080"/>
            <a:ext cx="3355200" cy="256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ient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* withdraw $100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Account2.balance &gt; 1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n Account2.balance =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   Account2.balance - 10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SPENSE MONE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M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lse ROLL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Rectangle 5"/>
          <p:cNvSpPr/>
          <p:nvPr/>
        </p:nvSpPr>
        <p:spPr>
          <a:xfrm>
            <a:off x="3277440" y="5638680"/>
            <a:ext cx="254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goes wrong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AutoShape 6"/>
          <p:cNvSpPr/>
          <p:nvPr/>
        </p:nvSpPr>
        <p:spPr>
          <a:xfrm>
            <a:off x="109800" y="5394960"/>
            <a:ext cx="1904400" cy="1170360"/>
          </a:xfrm>
          <a:prstGeom prst="wedgeEllipseCallout">
            <a:avLst>
              <a:gd name="adj1" fmla="val 11953"/>
              <a:gd name="adj2" fmla="val -94675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 neede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done by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LLBACK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37373-6E98-44E1-A286-6A2BA3D97B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st Upda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Rectangle 3"/>
          <p:cNvSpPr/>
          <p:nvPr/>
        </p:nvSpPr>
        <p:spPr>
          <a:xfrm>
            <a:off x="66960" y="2895480"/>
            <a:ext cx="4426560" cy="155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 1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UPDA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duc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ice = Price – 1.99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name = ‘Gizmo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Rectangle 4"/>
          <p:cNvSpPr/>
          <p:nvPr/>
        </p:nvSpPr>
        <p:spPr>
          <a:xfrm>
            <a:off x="1207440" y="5642280"/>
            <a:ext cx="603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different users attempt to apply a discount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ll it work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Rectangle 5"/>
          <p:cNvSpPr/>
          <p:nvPr/>
        </p:nvSpPr>
        <p:spPr>
          <a:xfrm>
            <a:off x="4715280" y="2895480"/>
            <a:ext cx="4274280" cy="155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 2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UPDA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duc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ice = Price*0.5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name=‘Gizmo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237AA-E5FA-4E01-BECE-D2F963B5DE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consistent Rea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Rectangle 4"/>
          <p:cNvSpPr/>
          <p:nvPr/>
        </p:nvSpPr>
        <p:spPr>
          <a:xfrm>
            <a:off x="3578760" y="6018840"/>
            <a:ext cx="416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: this is a form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irty 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Rectangle 5"/>
          <p:cNvSpPr/>
          <p:nvPr/>
        </p:nvSpPr>
        <p:spPr>
          <a:xfrm>
            <a:off x="919080" y="2286000"/>
            <a:ext cx="3614400" cy="33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 1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UPDAT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s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quantity = quantity + 5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duct = ‘gizmo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UPDAT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s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quantity = quantity - 5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duct = ‘gadget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Rectangle 6"/>
          <p:cNvSpPr/>
          <p:nvPr/>
        </p:nvSpPr>
        <p:spPr>
          <a:xfrm>
            <a:off x="5491440" y="2819520"/>
            <a:ext cx="3163320" cy="155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 2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m(quantity)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58DF0-CBBB-4C1E-8F21-F9612B483D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tection against crash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4"/>
          <p:cNvSpPr/>
          <p:nvPr/>
        </p:nvSpPr>
        <p:spPr>
          <a:xfrm>
            <a:off x="3581640" y="6171120"/>
            <a:ext cx="212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’s wrong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919080" y="2286000"/>
            <a:ext cx="3614400" cy="33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 1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UPDAT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s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quantity = quantity + 5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duct = ‘gizmo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UPDAT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s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quantity = quantity - 5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duct = ‘gadget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AutoShape 5"/>
          <p:cNvSpPr/>
          <p:nvPr/>
        </p:nvSpPr>
        <p:spPr>
          <a:xfrm>
            <a:off x="7610040" y="4029120"/>
            <a:ext cx="1071000" cy="459720"/>
          </a:xfrm>
          <a:prstGeom prst="wedgeRectCallout">
            <a:avLst>
              <a:gd name="adj1" fmla="val -431615"/>
              <a:gd name="adj2" fmla="val 35680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Crash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6T03:41:53Z</dcterms:created>
  <dc:creator>Dan</dc:creator>
  <dc:description/>
  <dc:language>en-US</dc:language>
  <cp:lastModifiedBy>Hal Perkins</cp:lastModifiedBy>
  <dcterms:modified xsi:type="dcterms:W3CDTF">2007-10-30T00:42:41Z</dcterms:modified>
  <cp:revision>434</cp:revision>
  <dc:subject/>
  <dc:title>Lecture 09:</dc:title>
</cp:coreProperties>
</file>