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2904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2904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D2C6-C66D-443C-8BC8-23387003D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757BAA59-87E8-4757-8B5E-5F1ABAFE5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734D-6E74-42F7-86A5-20F38B376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we allow SELECT count(*) FROM Patients WHERE Patient.disease = %d,  but only when the count is &gt; 10.  Suppose that there are &gt; 10 patients with flue, and the user knows that.  Adopting an instance-independent definition, this query is invalid; but with an instance-dependent definition the query is va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D2FF-8832-4D8D-B771-EA7CBA9C0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ADEB-A33F-4576-982F-148E0F4A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B705-D5CA-4B29-8729-65446B0C4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0B2A-6FB5-4DDD-B086-4D4AAE244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D2C3-38F2-47B5-B658-01E1440D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2567-94AE-4D82-BA12-AE91151E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6B8E-527E-444C-B2F8-1F85D9D8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FBBB-AC03-4867-B940-AFF916EE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E82A-4F15-4CD2-B757-DD77E866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7737-F06B-4793-BCC7-BF8C3C70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0D7B-1FE2-4A9B-8B94-5E8CCFED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E311-CE4B-4ED2-A4CF-CE4725D5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458B-CEAE-4A6B-92E3-3D79966E5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7B80-9B9D-41DC-A622-3B06AE069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Database Syste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E 444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43000" y="4095360"/>
            <a:ext cx="7238880" cy="19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tober 24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770B-9B12-4CE7-AB30-D9E16A75A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ews and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04920" y="2362320"/>
          <a:ext cx="4572000" cy="22860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l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us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3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7" name="Group 41"/>
          <p:cNvGrpSpPr/>
          <p:nvPr/>
        </p:nvGrpSpPr>
        <p:grpSpPr>
          <a:xfrm>
            <a:off x="1487520" y="4175640"/>
            <a:ext cx="7861680" cy="2525400"/>
            <a:chOff x="1487520" y="4175640"/>
            <a:chExt cx="7861680" cy="2525400"/>
          </a:xfrm>
        </p:grpSpPr>
        <p:sp>
          <p:nvSpPr>
            <p:cNvPr id="98" name="Rectangle 4"/>
            <p:cNvSpPr/>
            <p:nvPr/>
          </p:nvSpPr>
          <p:spPr>
            <a:xfrm>
              <a:off x="1487520" y="4778280"/>
              <a:ext cx="7861680" cy="192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REATE VIEW BadCreditCustom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LECT 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Custom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Balance &lt;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RANT SELECT ON BadCreditCustomers TO Joh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AutoShape 37"/>
            <p:cNvSpPr/>
            <p:nvPr/>
          </p:nvSpPr>
          <p:spPr>
            <a:xfrm>
              <a:off x="7110720" y="4175640"/>
              <a:ext cx="1726560" cy="522360"/>
            </a:xfrm>
            <a:prstGeom prst="wedgeEllipseCallout">
              <a:avLst>
                <a:gd name="adj1" fmla="val -20694"/>
                <a:gd name="adj2" fmla="val 162944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avid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say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AutoShape 38"/>
          <p:cNvSpPr/>
          <p:nvPr/>
        </p:nvSpPr>
        <p:spPr>
          <a:xfrm>
            <a:off x="112320" y="516960"/>
            <a:ext cx="2040480" cy="566640"/>
          </a:xfrm>
          <a:prstGeom prst="wedgeEllipseCallout">
            <a:avLst>
              <a:gd name="adj1" fmla="val -5814"/>
              <a:gd name="adj2" fmla="val 18860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v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w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9"/>
          <p:cNvSpPr/>
          <p:nvPr/>
        </p:nvSpPr>
        <p:spPr>
          <a:xfrm>
            <a:off x="306720" y="1828800"/>
            <a:ext cx="193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stom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40"/>
          <p:cNvSpPr/>
          <p:nvPr/>
        </p:nvSpPr>
        <p:spPr>
          <a:xfrm>
            <a:off x="5512680" y="1505520"/>
            <a:ext cx="1930320" cy="1866240"/>
          </a:xfrm>
          <a:prstGeom prst="wedgeEllipseCallout">
            <a:avLst>
              <a:gd name="adj1" fmla="val -79254"/>
              <a:gd name="adj2" fmla="val 3152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oh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ed t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only &lt;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C56B-998E-437A-B49B-1F50874BE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ews and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ustomer should see only her/his re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4336560" y="2514600"/>
            <a:ext cx="536220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VIEW Customer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*  FROM Customer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WHERE name = ‘Mary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T SELEC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CustomerMary TO 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50120" y="5486400"/>
            <a:ext cx="4030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n’t sc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ow-leve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control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28600" y="2598840"/>
          <a:ext cx="4572000" cy="22860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l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us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3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AutoShape 32"/>
          <p:cNvSpPr/>
          <p:nvPr/>
        </p:nvSpPr>
        <p:spPr>
          <a:xfrm>
            <a:off x="7282800" y="364680"/>
            <a:ext cx="1726560" cy="523080"/>
          </a:xfrm>
          <a:prstGeom prst="wedgeEllipseCallout">
            <a:avLst>
              <a:gd name="adj1" fmla="val -18731"/>
              <a:gd name="adj2" fmla="val 33376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v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5"/>
          <p:cNvSpPr/>
          <p:nvPr/>
        </p:nvSpPr>
        <p:spPr>
          <a:xfrm>
            <a:off x="4322160" y="4343400"/>
            <a:ext cx="536220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VIEW CustomerS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*  FROM Customer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WHERE name = ‘Sue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T SELEC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CustomerSue TO S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6"/>
          <p:cNvSpPr/>
          <p:nvPr/>
        </p:nvSpPr>
        <p:spPr>
          <a:xfrm>
            <a:off x="6629400" y="599760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 .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CBFC-B563-44C9-9800-900AFA1D1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-1909440" y="2666880"/>
            <a:ext cx="127994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KE   [GRANT OPTION FOR]   privileg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ON object FROM users  {  RESTRICT  |   CASCADE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47960" y="419112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or say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105480" y="4876920"/>
            <a:ext cx="8593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KE SELECT ON Customers  FRO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v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SC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-477000" y="5867280"/>
            <a:ext cx="93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ses SELECT privileges on BadCredit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5EB3-17AB-4301-96A9-31890F32A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-44280" y="1905120"/>
            <a:ext cx="658152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:  GRANT [….]  TO Art 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:  GRANT [….]  TO Bob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: GRANT [….]  TO Art 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:  GRANT [….]  TO Cal 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:  GRANT [….]  TO Bob 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:   REVOKE [….] FROM Art CASC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5092920" y="1351440"/>
            <a:ext cx="4154400" cy="1692360"/>
          </a:xfrm>
          <a:prstGeom prst="wedgeEllipseCallout">
            <a:avLst>
              <a:gd name="adj1" fmla="val -47949"/>
              <a:gd name="adj2" fmla="val 4923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privileg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objec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O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1902960" y="492444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2B92-9F6D-4C39-AFBB-C3B0AB0E0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3"/>
          <p:cNvSpPr/>
          <p:nvPr/>
        </p:nvSpPr>
        <p:spPr>
          <a:xfrm>
            <a:off x="1828800" y="19810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4"/>
          <p:cNvSpPr/>
          <p:nvPr/>
        </p:nvSpPr>
        <p:spPr>
          <a:xfrm>
            <a:off x="1828800" y="350532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5"/>
          <p:cNvSpPr/>
          <p:nvPr/>
        </p:nvSpPr>
        <p:spPr>
          <a:xfrm>
            <a:off x="4915080" y="350532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6"/>
          <p:cNvSpPr/>
          <p:nvPr/>
        </p:nvSpPr>
        <p:spPr>
          <a:xfrm>
            <a:off x="1828800" y="50292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4915080" y="50292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AutoShape 8"/>
          <p:cNvCxnSpPr>
            <a:stCxn id="125" idx="4"/>
            <a:endCxn id="126" idx="0"/>
          </p:cNvCxnSpPr>
          <p:nvPr/>
        </p:nvCxnSpPr>
        <p:spPr>
          <a:xfrm>
            <a:off x="2285640" y="2895480"/>
            <a:ext cx="108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AutoShape 9"/>
          <p:cNvCxnSpPr>
            <a:stCxn id="126" idx="6"/>
            <a:endCxn id="127" idx="2"/>
          </p:cNvCxnSpPr>
          <p:nvPr/>
        </p:nvCxnSpPr>
        <p:spPr>
          <a:xfrm>
            <a:off x="2742840" y="3962160"/>
            <a:ext cx="217260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cxnSp>
        <p:nvCxnSpPr>
          <p:cNvPr id="132" name="AutoShape 10"/>
          <p:cNvCxnSpPr>
            <a:stCxn id="126" idx="4"/>
            <a:endCxn id="128" idx="0"/>
          </p:cNvCxnSpPr>
          <p:nvPr/>
        </p:nvCxnSpPr>
        <p:spPr>
          <a:xfrm>
            <a:off x="2285640" y="44193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AutoShape 11"/>
          <p:cNvCxnSpPr>
            <a:stCxn id="128" idx="6"/>
            <a:endCxn id="129" idx="2"/>
          </p:cNvCxnSpPr>
          <p:nvPr/>
        </p:nvCxnSpPr>
        <p:spPr>
          <a:xfrm>
            <a:off x="2742840" y="5486040"/>
            <a:ext cx="2172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AutoShape 12"/>
          <p:cNvCxnSpPr>
            <a:stCxn id="127" idx="5"/>
            <a:endCxn id="129" idx="7"/>
          </p:cNvCxnSpPr>
          <p:nvPr/>
        </p:nvCxnSpPr>
        <p:spPr>
          <a:xfrm>
            <a:off x="5695560" y="4286160"/>
            <a:ext cx="108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AutoShape 13"/>
          <p:cNvCxnSpPr>
            <a:stCxn id="129" idx="1"/>
            <a:endCxn id="127" idx="3"/>
          </p:cNvCxnSpPr>
          <p:nvPr/>
        </p:nvCxnSpPr>
        <p:spPr>
          <a:xfrm flipV="1">
            <a:off x="5047920" y="4285800"/>
            <a:ext cx="108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" name="Rectangle 14"/>
          <p:cNvSpPr/>
          <p:nvPr/>
        </p:nvSpPr>
        <p:spPr>
          <a:xfrm>
            <a:off x="1786680" y="2879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3666600" y="3438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5736600" y="4378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7"/>
          <p:cNvSpPr/>
          <p:nvPr/>
        </p:nvSpPr>
        <p:spPr>
          <a:xfrm>
            <a:off x="4733280" y="4479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8"/>
          <p:cNvSpPr/>
          <p:nvPr/>
        </p:nvSpPr>
        <p:spPr>
          <a:xfrm>
            <a:off x="1815480" y="4419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9"/>
          <p:cNvSpPr/>
          <p:nvPr/>
        </p:nvSpPr>
        <p:spPr>
          <a:xfrm>
            <a:off x="3644280" y="5486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20"/>
          <p:cNvSpPr/>
          <p:nvPr/>
        </p:nvSpPr>
        <p:spPr>
          <a:xfrm>
            <a:off x="4876920" y="2133720"/>
            <a:ext cx="1218960" cy="761760"/>
          </a:xfrm>
          <a:prstGeom prst="wedgeEllipseCallout">
            <a:avLst>
              <a:gd name="adj1" fmla="val -115236"/>
              <a:gd name="adj2" fmla="val 1370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21"/>
          <p:cNvSpPr/>
          <p:nvPr/>
        </p:nvSpPr>
        <p:spPr>
          <a:xfrm>
            <a:off x="93960" y="6172200"/>
            <a:ext cx="841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rding to SQL everyone keeps the privi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441F-AD17-4A99-B8C4-C96991434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SQL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row level access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 creator owns the data: that’s unfai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3520" y="48006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spectacular fail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30% assign privileges to users/r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n to protect entire tables, not colum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-1833120" y="3943440"/>
            <a:ext cx="12768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control = great success story of the DB community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619F-1FAE-4540-BC0D-34F72873C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policies in middleware: slow, error pr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P has 10**4 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TE over 10**5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brokerage house has 80,000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US government entity thinks that it has 35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day the database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the center of the policy administration uni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126720" y="6248520"/>
            <a:ext cx="3609720" cy="36828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Rosenthal&amp;Winslett’200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6B73-5A78-4E27-A287-E74319B38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Famous Atta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inj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eeney’s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8B1D-1E5F-48A8-8679-12374020A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Group 2"/>
          <p:cNvGrpSpPr/>
          <p:nvPr/>
        </p:nvGrpSpPr>
        <p:grpSpPr>
          <a:xfrm>
            <a:off x="1219320" y="4673160"/>
            <a:ext cx="6781680" cy="1191240"/>
            <a:chOff x="1219320" y="4673160"/>
            <a:chExt cx="6781680" cy="1191240"/>
          </a:xfrm>
        </p:grpSpPr>
        <p:sp>
          <p:nvSpPr>
            <p:cNvPr id="158" name="Rectangle 3"/>
            <p:cNvSpPr/>
            <p:nvPr/>
          </p:nvSpPr>
          <p:spPr>
            <a:xfrm>
              <a:off x="1219320" y="4673160"/>
              <a:ext cx="6781680" cy="1191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arch claims by: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4"/>
            <p:cNvSpPr/>
            <p:nvPr/>
          </p:nvSpPr>
          <p:spPr>
            <a:xfrm>
              <a:off x="4267080" y="5045040"/>
              <a:ext cx="2952720" cy="4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n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-1458000" y="1600200"/>
            <a:ext cx="113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health insurance company lets you see the claims onl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-399240" y="4049640"/>
            <a:ext cx="58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search through the claim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2818440" y="5054760"/>
            <a:ext cx="5850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Lee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34920" y="26668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log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Group 10"/>
          <p:cNvGrpSpPr/>
          <p:nvPr/>
        </p:nvGrpSpPr>
        <p:grpSpPr>
          <a:xfrm>
            <a:off x="1941480" y="2603520"/>
            <a:ext cx="6764400" cy="1191240"/>
            <a:chOff x="1941480" y="2603520"/>
            <a:chExt cx="6764400" cy="1191240"/>
          </a:xfrm>
        </p:grpSpPr>
        <p:sp>
          <p:nvSpPr>
            <p:cNvPr id="166" name="Rectangle 11"/>
            <p:cNvSpPr/>
            <p:nvPr/>
          </p:nvSpPr>
          <p:spPr>
            <a:xfrm>
              <a:off x="1941480" y="2603520"/>
              <a:ext cx="6764400" cy="1191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se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ssword: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12"/>
            <p:cNvSpPr/>
            <p:nvPr/>
          </p:nvSpPr>
          <p:spPr>
            <a:xfrm>
              <a:off x="4534200" y="2666880"/>
              <a:ext cx="27410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ed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13"/>
            <p:cNvSpPr/>
            <p:nvPr/>
          </p:nvSpPr>
          <p:spPr>
            <a:xfrm>
              <a:off x="5066280" y="3276720"/>
              <a:ext cx="16437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*******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Rectangle 14"/>
          <p:cNvSpPr/>
          <p:nvPr/>
        </p:nvSpPr>
        <p:spPr>
          <a:xfrm>
            <a:off x="-572040" y="6095880"/>
            <a:ext cx="102391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…FROM…WHERE doctor=‘Dr. Lee’ and patientID=‘fred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5"/>
          <p:cNvSpPr/>
          <p:nvPr/>
        </p:nvSpPr>
        <p:spPr>
          <a:xfrm>
            <a:off x="-813240" y="76320"/>
            <a:ext cx="6352920" cy="36828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Chris Anley,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dvanced SQL Injection In SQ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16"/>
          <p:cNvGrpSpPr/>
          <p:nvPr/>
        </p:nvGrpSpPr>
        <p:grpSpPr>
          <a:xfrm>
            <a:off x="5105520" y="2666880"/>
            <a:ext cx="3595680" cy="3929040"/>
            <a:chOff x="5105520" y="2666880"/>
            <a:chExt cx="3595680" cy="3929040"/>
          </a:xfrm>
        </p:grpSpPr>
        <p:sp>
          <p:nvSpPr>
            <p:cNvPr id="172" name="Oval 17"/>
            <p:cNvSpPr/>
            <p:nvPr/>
          </p:nvSpPr>
          <p:spPr>
            <a:xfrm>
              <a:off x="5105520" y="2666880"/>
              <a:ext cx="91440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Oval 18"/>
            <p:cNvSpPr/>
            <p:nvPr/>
          </p:nvSpPr>
          <p:spPr>
            <a:xfrm>
              <a:off x="8167680" y="6138720"/>
              <a:ext cx="53352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4" name="AutoShape 19"/>
            <p:cNvCxnSpPr>
              <a:stCxn id="172" idx="4"/>
              <a:endCxn id="173" idx="1"/>
            </p:cNvCxnSpPr>
            <p:nvPr/>
          </p:nvCxnSpPr>
          <p:spPr>
            <a:xfrm>
              <a:off x="5562720" y="3137040"/>
              <a:ext cx="2683440" cy="305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75" name="Group 20"/>
          <p:cNvGrpSpPr/>
          <p:nvPr/>
        </p:nvGrpSpPr>
        <p:grpSpPr>
          <a:xfrm>
            <a:off x="4282920" y="4976640"/>
            <a:ext cx="1779840" cy="1652760"/>
            <a:chOff x="4282920" y="4976640"/>
            <a:chExt cx="1779840" cy="1652760"/>
          </a:xfrm>
        </p:grpSpPr>
        <p:sp>
          <p:nvSpPr>
            <p:cNvPr id="176" name="Oval 21"/>
            <p:cNvSpPr/>
            <p:nvPr/>
          </p:nvSpPr>
          <p:spPr>
            <a:xfrm>
              <a:off x="4282920" y="4976640"/>
              <a:ext cx="1067040" cy="609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Oval 22"/>
            <p:cNvSpPr/>
            <p:nvPr/>
          </p:nvSpPr>
          <p:spPr>
            <a:xfrm>
              <a:off x="5148360" y="6095880"/>
              <a:ext cx="914400" cy="53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8" name="AutoShape 23"/>
            <p:cNvCxnSpPr>
              <a:stCxn id="176" idx="5"/>
              <a:endCxn id="177" idx="0"/>
            </p:cNvCxnSpPr>
            <p:nvPr/>
          </p:nvCxnSpPr>
          <p:spPr>
            <a:xfrm>
              <a:off x="5194440" y="5510160"/>
              <a:ext cx="411840" cy="573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75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D7B7-67A7-4708-A982-BEC8824C0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n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-78120" y="160020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try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762120" y="2311200"/>
            <a:ext cx="7619760" cy="119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claims b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1963080" y="2692800"/>
            <a:ext cx="7495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Lee’   OR patientID = ‘suciu’;    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Group 6"/>
          <p:cNvGrpSpPr/>
          <p:nvPr/>
        </p:nvGrpSpPr>
        <p:grpSpPr>
          <a:xfrm>
            <a:off x="309600" y="4343400"/>
            <a:ext cx="8072280" cy="1902240"/>
            <a:chOff x="309600" y="4343400"/>
            <a:chExt cx="8072280" cy="1902240"/>
          </a:xfrm>
        </p:grpSpPr>
        <p:sp>
          <p:nvSpPr>
            <p:cNvPr id="185" name="Rectangle 7"/>
            <p:cNvSpPr/>
            <p:nvPr/>
          </p:nvSpPr>
          <p:spPr>
            <a:xfrm>
              <a:off x="309600" y="4343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tte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8"/>
            <p:cNvSpPr/>
            <p:nvPr/>
          </p:nvSpPr>
          <p:spPr>
            <a:xfrm>
              <a:off x="762120" y="5054400"/>
              <a:ext cx="7619760" cy="1191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arch claims by: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9"/>
            <p:cNvSpPr/>
            <p:nvPr/>
          </p:nvSpPr>
          <p:spPr>
            <a:xfrm>
              <a:off x="2129760" y="5413680"/>
              <a:ext cx="58500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r. Lee’      OR   1 = 1;    -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Rectangle 10"/>
          <p:cNvSpPr/>
          <p:nvPr/>
        </p:nvSpPr>
        <p:spPr>
          <a:xfrm>
            <a:off x="-1550880" y="3782880"/>
            <a:ext cx="120679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WHERE doctor=‘Dr. Lee’  OR patientID=‘suciu’;      --’ and patientID=‘fred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3D2C-441E-4F3F-A570-DD9E86E54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Security – 8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famous atta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new tr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4343400" y="3276720"/>
            <a:ext cx="378000" cy="1500120"/>
          </a:xfrm>
          <a:custGeom>
            <a:avLst/>
            <a:gdLst>
              <a:gd name="textAreaLeft" fmla="*/ 0 w 378000"/>
              <a:gd name="textAreaRight" fmla="*/ 136440 w 378000"/>
              <a:gd name="textAreaTop" fmla="*/ 38880 h 1500120"/>
              <a:gd name="textAreaBottom" fmla="*/ 146124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4857480" y="3368520"/>
            <a:ext cx="3675240" cy="131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onal materi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not have time to cov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B216-9427-4B07-A581-FCB4C1CFE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n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-407160" y="160020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you’re done, do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762120" y="2593800"/>
            <a:ext cx="7772400" cy="119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claims b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2340720" y="2975040"/>
            <a:ext cx="6764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Lee’;    DROP TABLE Patients; 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ECF6-BD61-41A4-A321-559D4B2DE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n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BMS works perfectly.  So why is SQL injection possible so ofte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answ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or programming:  use stored procedure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eper answ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 policy implementation from apps to 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9DF5-FC82-4174-9074-B9012155D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anya Sweeney’s Fi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ssachusetts, the Group Insurance Commission (GIC) is responsible for purchasing health insurance for state employ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C has to publish the da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-1133640" y="5105520"/>
            <a:ext cx="11153160" cy="53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C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ip, dob, s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iagnosis, procedure,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481F-544A-408A-A4F3-0FBAF72DB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anya Sweeney’s Fi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eeney paid $20 and bought the voter registration list for Cambridge Massachuset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-1133640" y="4724280"/>
            <a:ext cx="11153160" cy="107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C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ip, dob, s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iagnosis, procedure,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TER(name, party, ...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ip, dob, s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3517-467C-4F71-BA21-27B23AC0C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anya Sweeney’s Fi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2742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iam Weld (former governor) lives in Cambridge, hence is in VO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 people in VOTER share h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3 of them were man (sam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d was the only one in tha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eeney learned Weld’s medical record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-140760" y="205740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ip, dob, s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5F64-254A-40D6-AAC2-FA7914B3E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anya Sweeney’s Fi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systems worked as specified, yet an important data has lea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we protect against tha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-1036080" y="5257800"/>
            <a:ext cx="1078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ome of today’s research in data security address breaches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at happen even if all systems work correc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7043-82F8-43DE-A224-E351231C4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n Atta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inje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rrectness 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ity policy implemented poorly in the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ney’s fin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yond correctn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kage occurred when all systems work as spec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0981-61C7-4601-8C04-8267B1049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Novel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-anonymity, information leak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w-level access contr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9158-ACCB-423B-82F3-F24DA8AD3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914400" y="2895480"/>
          <a:ext cx="6705720" cy="259092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r-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ys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u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atr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r-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914400" y="2895480"/>
          <a:ext cx="6705720" cy="259092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r-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-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r-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-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on Leakag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-Anonym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67"/>
          <p:cNvSpPr/>
          <p:nvPr/>
        </p:nvSpPr>
        <p:spPr>
          <a:xfrm>
            <a:off x="-1245240" y="1708200"/>
            <a:ext cx="1005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ach tuple is equal to at least k-1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nymizing: through suppression and gener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68"/>
          <p:cNvSpPr/>
          <p:nvPr/>
        </p:nvSpPr>
        <p:spPr>
          <a:xfrm>
            <a:off x="-978480" y="5756400"/>
            <a:ext cx="93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:  NP-complete for suppression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ions exists; but work poorly in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69"/>
          <p:cNvSpPr/>
          <p:nvPr/>
        </p:nvSpPr>
        <p:spPr>
          <a:xfrm>
            <a:off x="-432000" y="76320"/>
            <a:ext cx="5423400" cy="33732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Samarati&amp;Sweeney’98, Meyerson&amp;Williams’04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7620120" y="2895480"/>
          <a:ext cx="1447560" cy="2595600"/>
        </p:xfrm>
        <a:graphic>
          <a:graphicData uri="http://schemas.openxmlformats.org/drawingml/2006/table">
            <a:tbl>
              <a:tblPr/>
              <a:tblGrid>
                <a:gridCol w="14475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se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1E2F-24B7-498A-9F4C-BE7F0C449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on Leakag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-view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549360" y="2949480"/>
          <a:ext cx="7543800" cy="10368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0574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ret Qu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ew(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losure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nam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(name,pho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549360" y="3986280"/>
          <a:ext cx="7543800" cy="944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0574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name,pho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1(name,dept)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2(dept,pho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549360" y="4930920"/>
          <a:ext cx="7543800" cy="517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0574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nam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(dep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549360" y="5456160"/>
          <a:ext cx="7543800" cy="944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0574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name)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ere dept=‘HR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(name)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ere dept=‘RD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Rectangle 47"/>
          <p:cNvSpPr/>
          <p:nvPr/>
        </p:nvSpPr>
        <p:spPr>
          <a:xfrm>
            <a:off x="677520" y="1981080"/>
            <a:ext cx="8227440" cy="53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LE Employee(name, dept, ph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48"/>
          <p:cNvSpPr/>
          <p:nvPr/>
        </p:nvSpPr>
        <p:spPr>
          <a:xfrm>
            <a:off x="-241200" y="19810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49"/>
          <p:cNvSpPr/>
          <p:nvPr/>
        </p:nvSpPr>
        <p:spPr>
          <a:xfrm>
            <a:off x="6429600" y="3483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o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50"/>
          <p:cNvSpPr/>
          <p:nvPr/>
        </p:nvSpPr>
        <p:spPr>
          <a:xfrm>
            <a:off x="6630120" y="4168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i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51"/>
          <p:cNvSpPr/>
          <p:nvPr/>
        </p:nvSpPr>
        <p:spPr>
          <a:xfrm>
            <a:off x="6572880" y="49309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i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52"/>
          <p:cNvSpPr/>
          <p:nvPr/>
        </p:nvSpPr>
        <p:spPr>
          <a:xfrm>
            <a:off x="6565680" y="5692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53"/>
          <p:cNvSpPr/>
          <p:nvPr/>
        </p:nvSpPr>
        <p:spPr>
          <a:xfrm>
            <a:off x="-424800" y="76320"/>
            <a:ext cx="6078600" cy="36828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iklau&amp;S’04, Miklau&amp;Dalvi&amp;S’05,Yang&amp;Li’0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E7BD-AB5A-41FC-85B4-1AE711D70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onary Access Control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420480" y="2087640"/>
            <a:ext cx="530136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T privileg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ON objec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TO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WITH GRANT OPTIONS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46440" y="4114800"/>
            <a:ext cx="822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ileges =  SELECT  |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INSERT(column-name)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UPDATE(column-name)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DELETE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REFERENCES(column-nam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= table  | 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3AB6-2C21-4977-97F0-E83B8CF9E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e-grained Access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access at the tuple le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y specification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C9FB-C483-428A-B695-9C3F8BF62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icy Specification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62000" y="2666880"/>
            <a:ext cx="8776080" cy="1922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AUTHORIZATION VIEW PatientsForDoctors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Patient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Patient, Doct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WHERE Patient.doctorID = Doctor.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   Doctor.login 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%current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3044520" y="5239800"/>
            <a:ext cx="2854800" cy="1172520"/>
          </a:xfrm>
          <a:prstGeom prst="wedgeEllipseCallout">
            <a:avLst>
              <a:gd name="adj1" fmla="val 35587"/>
              <a:gd name="adj2" fmla="val -9459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-1080720" y="1676520"/>
            <a:ext cx="100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tandard, but usually based on parameterized vie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CF45-A944-440F-8899-79A59722A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427760" y="1706400"/>
            <a:ext cx="603288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Patient.name, Patient.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Patient.disease = ‘flu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765360" y="4168800"/>
            <a:ext cx="7495920" cy="1922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Patient.name, Patient.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Patient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Do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Patient.disease = ‘flu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Patient.doctorID = Doctor.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 Patient.login = %current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AutoShape 5"/>
          <p:cNvSpPr/>
          <p:nvPr/>
        </p:nvSpPr>
        <p:spPr>
          <a:xfrm>
            <a:off x="4267080" y="3200400"/>
            <a:ext cx="457200" cy="762120"/>
          </a:xfrm>
          <a:prstGeom prst="downArrow">
            <a:avLst>
              <a:gd name="adj1" fmla="val 50000"/>
              <a:gd name="adj2" fmla="val 416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7051680" y="48006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Ora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1AA0-C49A-4304-A974-7B9E163B3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Seman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uman Model = filter seman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form re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PT all qu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WRITE qu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imes misleading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on-Truman model = deny seman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ject qu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PT or REJECT qu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query UN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define multiple security views for a 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7417080" y="6400800"/>
            <a:ext cx="1552320" cy="36828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Rizvi’0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5084640" y="2514600"/>
            <a:ext cx="4234680" cy="1373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count(*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Pati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disease=‘flu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B1A5-2CC7-4FD3-955E-D9E076A95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n Information Dis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heoretical resear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iting new connections between databases and information theory, probability theory, crypt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pplicatio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years a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5763600" y="3581280"/>
            <a:ext cx="3228840" cy="36828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adi&amp;Warinschi’05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FDAE-633B-46D7-9BC6-B157636F0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Fine Grained Access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nd in industry: label-based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ller app: application ho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pendent franchises share a single table at headquarters (e.g., Holiday In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runs under requester’s label, cannot see other lab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quarters runs Read queries over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acle’s Virtual Private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5908680" y="6442200"/>
            <a:ext cx="3609720" cy="36828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Rosenthal&amp;Winslett’200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EA04-FAA9-4402-88E4-075E23DA3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-125640" y="1940040"/>
            <a:ext cx="743508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T INSERT, DELETE ON Custom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up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GRANT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914040" y="3098880"/>
            <a:ext cx="34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ies allowed to Yupp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914400" y="5638680"/>
            <a:ext cx="33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ies denied to Yupp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2993400" y="3632040"/>
            <a:ext cx="673380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 INTO Customers(cid, name, addres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VALUES(32940, ‘Joe Blow’, ‘Seattle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ETE Custo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LastPurchaseDate &lt; 19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4356360" y="5562720"/>
            <a:ext cx="368604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Customer.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name = ‘Joe Blow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B9FE-2507-4263-AB83-DA83184B5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-251640" y="2498760"/>
            <a:ext cx="78616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T SELECT ON Customers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cha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069920" y="3886200"/>
            <a:ext cx="72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cha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SELECT, but not INSERT or DE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E585-6DF9-456E-A15A-658FA53C9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-183600" y="2544840"/>
            <a:ext cx="62157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SELECT ON Customer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cha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GRANT 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772560" y="3962520"/>
            <a:ext cx="621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cha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say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SELECT ON Customers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up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upp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SELECT on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47FE-EC9F-4685-BB42-8BF1757DE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-349200" y="2422440"/>
            <a:ext cx="87152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T UPDATE (price)  ON Product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225360" y="4114800"/>
            <a:ext cx="78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pdate, but only Product.price, but not Product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88C8-CACF-47B2-AE71-0DA2BC421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345960" y="4525920"/>
            <a:ext cx="80445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REFERENCES (cid)  ON Customer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-1234800" y="1889280"/>
            <a:ext cx="112755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er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ame, address, balance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s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id, amount)            cid= foreign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990720" y="5334120"/>
            <a:ext cx="52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INSERT tuples into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838800" y="3276720"/>
            <a:ext cx="56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s INSERT/UPDATE rights to Or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HE CAN’T INSERT ! (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3972-30CB-4A02-864E-7ABBF4865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ews and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Group 53"/>
          <p:cNvGrpSpPr/>
          <p:nvPr/>
        </p:nvGrpSpPr>
        <p:grpSpPr>
          <a:xfrm>
            <a:off x="1211400" y="4098240"/>
            <a:ext cx="7712640" cy="2584440"/>
            <a:chOff x="1211400" y="4098240"/>
            <a:chExt cx="7712640" cy="2584440"/>
          </a:xfrm>
        </p:grpSpPr>
        <p:sp>
          <p:nvSpPr>
            <p:cNvPr id="88" name="Rectangle 4"/>
            <p:cNvSpPr/>
            <p:nvPr/>
          </p:nvSpPr>
          <p:spPr>
            <a:xfrm>
              <a:off x="1211400" y="5125680"/>
              <a:ext cx="7313040" cy="155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REATE VIEW PublicCustom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LECT Name, Addr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Custom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RANT SELECT ON PublicCustomers TO Fr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AutoShape 8"/>
            <p:cNvSpPr/>
            <p:nvPr/>
          </p:nvSpPr>
          <p:spPr>
            <a:xfrm>
              <a:off x="7025760" y="4098240"/>
              <a:ext cx="1898280" cy="566640"/>
            </a:xfrm>
            <a:prstGeom prst="wedgeEllipseCallout">
              <a:avLst>
                <a:gd name="adj1" fmla="val -83768"/>
                <a:gd name="adj2" fmla="val 172981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vi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say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0" name=""/>
          <p:cNvGraphicFramePr/>
          <p:nvPr/>
        </p:nvGraphicFramePr>
        <p:xfrm>
          <a:off x="2286000" y="2666880"/>
          <a:ext cx="4572000" cy="22860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l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us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3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91" name="AutoShape 49"/>
          <p:cNvSpPr/>
          <p:nvPr/>
        </p:nvSpPr>
        <p:spPr>
          <a:xfrm>
            <a:off x="329760" y="1105920"/>
            <a:ext cx="2040480" cy="566640"/>
          </a:xfrm>
          <a:prstGeom prst="wedgeEllipseCallout">
            <a:avLst>
              <a:gd name="adj1" fmla="val 41263"/>
              <a:gd name="adj2" fmla="val 14885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v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w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51"/>
          <p:cNvSpPr/>
          <p:nvPr/>
        </p:nvSpPr>
        <p:spPr>
          <a:xfrm>
            <a:off x="2211480" y="2009880"/>
            <a:ext cx="193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stom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52"/>
          <p:cNvSpPr/>
          <p:nvPr/>
        </p:nvSpPr>
        <p:spPr>
          <a:xfrm>
            <a:off x="7052400" y="1436400"/>
            <a:ext cx="1884600" cy="1432800"/>
          </a:xfrm>
          <a:prstGeom prst="wedgeEllipseCallout">
            <a:avLst>
              <a:gd name="adj1" fmla="val -71939"/>
              <a:gd name="adj2" fmla="val 9350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no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ed t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Hal Perkins</cp:lastModifiedBy>
  <dcterms:modified xsi:type="dcterms:W3CDTF">2007-10-24T01:42:43Z</dcterms:modified>
  <cp:revision>390</cp:revision>
  <dc:subject/>
  <dc:title>Lecture 09:</dc:title>
</cp:coreProperties>
</file>