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DD4-3D25-4071-8371-6C7491B08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6878668-201D-441F-A2EA-18335106C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AE73-D0BA-4457-B561-A5F5B3120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337F-6E17-403F-9574-9B1FB0F39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836E-6A06-4C47-ABCC-A573A8DB9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7A75-93D3-4C45-9359-43F9D452F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054D-3DD5-4EC0-8F2A-1A44C1718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F2A7-BE99-45D2-A243-8F9EA5F64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9302-C4B6-4DD1-8E39-FD004C275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560B-60E6-4481-93C9-39EE5B93CC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9E8D-C755-42C8-A040-706F7AC6E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F36-4263-41CB-94EB-B1CD85E2B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57B9-9F84-43F9-A49D-A7B34EB9F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FFF-E9B1-4385-A417-BAB3D331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D04-B1E9-4D30-9652-0EDAAC3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BF5-7F94-4FBE-BEEB-D4C4CE2D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B6B-3DFF-446D-9F0D-67839ACB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124-0A3E-49F4-AE54-6CAE53E9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3A0-4043-4F06-9134-EA62B5E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96A-3867-40E3-A0F7-C5E09ADA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2F4-51A2-4387-98A1-ED964F99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21E-2A9B-48D2-A1FE-FB6EF71C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43D-42D4-4E2C-84CC-AB959796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7AB-296F-4969-BDAB-C0273C0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867-4A09-424B-8516-BAD7F7F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EB66-2716-4D3D-9E8E-977A532BA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428B-8678-468D-8ABD-D8B75E2FE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2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B63-92B9-488D-B304-24E932CD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47776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CA0F-8CBD-4095-88DC-38AB5E602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1308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765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65F2-9E96-491E-A1A4-507583FC7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8838-0889-4A39-9F77-57D71B34A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41684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EDFD-D9E8-4DA8-9477-3E56B45B3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n SQL Serve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s with attributes of typ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Xquer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the slides are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nkar Pal et al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ing XML data stored in a relational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LDB’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709A-1EB0-491C-8C3F-B00CFE68E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765440" y="1295280"/>
            <a:ext cx="40302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ID int primary ke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XDOC 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89280" y="3448080"/>
            <a:ext cx="88142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D, XDOC.query(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$s in  /BOOK[@ISBN= “1-55860-438-3”]//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&lt;topic&gt;{data($s/TITLE)} &lt;/topi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C604-D0E3-4B47-827A-FDE8736B6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Method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() = returns XML dat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() = extracts scalar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() = checks conditions on XM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) = returns a rowset of XML nodes that the Xquery expression evaluat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CEEE-B4A4-4B66-834F-B2760E0B4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msdn.microsoft.com/library/default.asp?url=/library/en-us/dnsql90/html/sql2k5xml.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1B8-6ED2-4D1F-93C4-B61DD0045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058120" y="3124080"/>
            <a:ext cx="5080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 INT PRIMARY KE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Col XML not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EE3F-0A4C-4EAC-BA93-289969085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ng an XML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65960" y="2666880"/>
            <a:ext cx="875016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docs VALUES (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&lt;doc id="123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1"&gt;&lt;title&gt;XML Schema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3"&gt;&lt;title&gt;Benefit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4"&gt;&lt;title&gt;Feature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do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D02-1FA2-433F-A395-0A508F941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phase 2 due Saturday 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term Next Monday. To study (tent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dependencies and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Basics (notation, DT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hw3 is xquery/xpath, so most XML details o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F2C4-A727-487F-85D3-5C9DD769B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22480" y="3124080"/>
            <a:ext cx="8721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k, xCol.query('/doc[@id = 123]//section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72B4-A8E0-49CD-999E-99B688D3F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93360" y="3276720"/>
            <a:ext cx="73634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query('/doc[@id = 123]//section'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xCol.exist ('/doc[@id = 123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730F-0249-4205-B2DE-A16D4842E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8040" y="3200400"/>
            <a:ext cx="879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valu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data((/doc//section[@num = 3]/title)[1])', 'nvarchar(max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E75-4B34-4AF4-AE3D-F43E61D60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88440" y="2895480"/>
            <a:ext cx="747468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first-name[1]', 'nvarchar(50)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 First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ref.value('last-name[1]', 'nvarchar(50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@xVar.nodes('//author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nref.exist('.[first-name != "David"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778D-A9ED-40A0-B5B5-E200BE3D0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27680" y="3448080"/>
            <a:ext cx="82472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@genre', 'varchar(max)')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 CROSS APP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xCol.nodes('//book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9BBE-1A3D-40C4-90FF-C58D7C9E6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“shredded” as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important id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ey decimal numbering of nodes; store in clustered B-tree i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ly odd numbers to allow in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PATH-ID encoding, for efficient processing of postfix expressions like //a/b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more indexes, e.g. on data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03E9-3597-4D10-89FF-EAFF30E85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906200" y="1295280"/>
            <a:ext cx="545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BN=“1-55860-438-3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Bad Bu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loves bad bu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TION=“Sample bu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ree Fro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ight-thinki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lov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fr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DA8F-F090-4D99-8EC8-7316C28B3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80880" y="1758960"/>
            <a:ext cx="8458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8B3C-96B9-4F56-86FC-CA0A9751A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990720" y="547560"/>
            <a:ext cx="7277040" cy="5830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1473840" y="63342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se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9F74-A7AB-4DDF-8B37-7BE0A0A54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74240" y="990720"/>
            <a:ext cx="610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BOOK[@ISBN = “1-55860-438-3”]/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4360" y="3498840"/>
            <a:ext cx="79743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erializeXML (N2.ID, 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fosettab N1  JOIN infosettab N2 ON (N1.ID = N2.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1.PATH_ID = PATH_ID(/BOOK/@IS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1.VALUE = '1-55860-438-3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2.PATH_ID = PATH_ID(BOOK/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rent (N1.ORDPATH) = Parent (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191120" y="190512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E7CC-E594-413A-BF57-02609C11F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57320" y="1828800"/>
            <a:ext cx="836568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“97”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/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1858-18AE-4ACE-92E8-EAB85CE5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35440" y="1981080"/>
            <a:ext cx="709272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8A34-FB6D-4D6B-9537-511F52DF3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25240" y="2133720"/>
            <a:ext cx="816228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232-C3B7-476B-AF8B-6FBF4508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08760" y="2362320"/>
            <a:ext cx="7634160" cy="280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8E56-949B-4381-8ED1-6907862FD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st-of-text-val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eliminate duplicate “tuples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5520" y="3276720"/>
            <a:ext cx="5094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5791320" y="388620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89440" y="5486400"/>
            <a:ext cx="5017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1D97-C58B-4DE8-BF69-669D7B108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EF14-A2C8-4F6B-B2CB-67679E8AC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08720" y="243828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8720" y="434340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5330520" y="2236680"/>
            <a:ext cx="3661560" cy="3980160"/>
            <a:chOff x="5330520" y="2236680"/>
            <a:chExt cx="3661560" cy="3980160"/>
          </a:xfrm>
        </p:grpSpPr>
        <p:sp>
          <p:nvSpPr>
            <p:cNvPr id="80" name="Text Box 4"/>
            <p:cNvSpPr/>
            <p:nvPr/>
          </p:nvSpPr>
          <p:spPr>
            <a:xfrm>
              <a:off x="5330520" y="2236680"/>
              <a:ext cx="366156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5683680" y="4294080"/>
              <a:ext cx="2835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7-10-24T01:29:59Z</dcterms:modified>
  <cp:revision>374</cp:revision>
  <dc:subject/>
  <dc:title>Lecture 09:</dc:title>
</cp:coreProperties>
</file>