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905-B292-4DB7-953C-8DAFC47A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D1C24C61-48A7-4D69-815D-05903A4C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501-EEC6-4598-8A8C-381C0C87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DCD-7B23-4903-A6A8-7B26B6B9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CD7C-3CEE-4E62-B62F-804080C9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218D-1A26-40B2-868A-78281FA55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485-263E-4614-B27F-52899CE6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CDD-2D79-4864-A0A9-F5A11096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2D49-8A8E-4259-80D9-692672D7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59E-8114-4BF5-A7B9-B7B752BE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FC7F-63A7-44D2-B49E-7B896E4A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B73-BD33-470D-93FD-01AF5D4B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9670-C601-475C-BA4B-25F8290E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3B70-D456-426D-89CE-4FCE62F0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B45-7EE1-4B87-B686-FA1A7C17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BE3-A6FF-4EA8-BAE6-DCD50F72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53C-9AAB-4080-AED8-7290DF43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DEFA-2192-44EF-ABFE-DA972C86C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E0FE-D8F5-4A87-85B2-8FFF44F0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D47-5DE8-4BFD-BDC6-2D8A5EF1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F5F0-B4B5-4414-BFB0-2C0C32FA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59E6-5A57-4B14-AFFF-F24FA3557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E41-C795-47F2-AD4B-A1EDACAD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CE41-E200-47B5-A709-A6E74286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0880" y="4377960"/>
            <a:ext cx="5091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749-5F63-4ACC-B7EE-BFA73AA65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70C-97BB-48BE-8243-6698C28C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F95-8D27-4462-9502-0ABB69BC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2420-C5AD-423C-8383-2F47C16F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F0D-6D16-4625-A958-53FCA414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09E-F4EC-4185-A3E7-EF7CC6212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655-AB32-49C7-8A2D-1490A17B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D8D-B7AB-4585-A4F8-4913248C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64E-171E-418C-B086-F383E5C5A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F9DC-9652-43D5-BB6B-CD20780F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BA45-BEEF-446C-BE57-76134C176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D32-D61A-4FC8-9A9B-E9851FD0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268-7EE5-4C38-A7B8-20EA2944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93A-1DAF-44EF-A767-CBEC1C61A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346-0A77-4785-B0D6-DD713FC65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C9A-86ED-4BDE-ACE8-29EB65D9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F1A-EE12-4568-8CF4-1B5D6043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ED5-E145-42E8-B13C-502A9A5A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8F5-0E7B-4E59-BE67-EA7E816E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532-8B9D-4689-81AD-99A78AD1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854-2CF8-47B1-9668-7C143C81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87B-AD88-4191-B9CC-D8AD6D5C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805-6848-4619-86DF-A1678635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EF1-A01B-4B1C-9949-3018182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9C5-4F07-4F22-95FD-BFA912E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A01-60DC-47E6-A267-D40AC74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9AC-4705-42B3-8BB8-052DACE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1C4-E600-40E6-A45A-E4C1EDA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00F-C597-40CB-A946-EAF81A7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F93-1859-49EF-8FAD-DADEE63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7B6-8AA6-4870-B1F2-0192AAE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8F1-5082-48FA-9752-90F5900F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CBD-743E-47E0-A49E-571ED4301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9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ABD4-97CF-4D4E-B6A3-EDE9EFA71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75248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E9CA-7769-419A-9056-A474829F0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4280" y="182880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B657-1DDE-4FF0-BE9C-4CA9F4E48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09120" y="4965840"/>
            <a:ext cx="3465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 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416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830-EE37-41CE-9E6D-F970415D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02240" y="335268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7760" y="44197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1218-644A-409D-8F5D-04ED1DB4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59360" y="2362320"/>
            <a:ext cx="2219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77640" y="4363920"/>
            <a:ext cx="4921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year = 1998] 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17680" y="5506920"/>
            <a:ext cx="4819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[@year = 19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5601600" y="2269440"/>
            <a:ext cx="2662200" cy="652680"/>
          </a:xfrm>
          <a:prstGeom prst="wedgeEllipseCallout">
            <a:avLst>
              <a:gd name="adj1" fmla="val -82097"/>
              <a:gd name="adj2" fmla="val 10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59000" y="3449520"/>
            <a:ext cx="2852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last(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5778360" y="3402720"/>
            <a:ext cx="2616480" cy="652680"/>
          </a:xfrm>
          <a:prstGeom prst="wedgeEllipseCallout">
            <a:avLst>
              <a:gd name="adj1" fmla="val -82009"/>
              <a:gd name="adj2" fmla="val 10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6266880" y="4255560"/>
            <a:ext cx="2712600" cy="1172520"/>
          </a:xfrm>
          <a:prstGeom prst="wedgeEllipseCallout">
            <a:avLst>
              <a:gd name="adj1" fmla="val -83449"/>
              <a:gd name="adj2" fmla="val -5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of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6131160" y="5551200"/>
            <a:ext cx="2725200" cy="1172520"/>
          </a:xfrm>
          <a:prstGeom prst="wedgeEllipseCallout">
            <a:avLst>
              <a:gd name="adj1" fmla="val -74527"/>
              <a:gd name="adj2" fmla="val -16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book IF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osition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E210-59D4-4C4C-A2B7-E0029BB2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429720" y="2286000"/>
            <a:ext cx="3452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91240" y="24289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81600" y="3581280"/>
            <a:ext cx="334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03920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639760" y="3581280"/>
            <a:ext cx="3125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77040" y="5257800"/>
            <a:ext cx="393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 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067640" y="53341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411160" y="5181480"/>
            <a:ext cx="362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5EC3-9871-4FE5-A89B-154A9F4E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6800" y="4343400"/>
            <a:ext cx="555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/../commen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80520" y="2209680"/>
            <a:ext cx="27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582000" y="49528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185400" y="2743200"/>
            <a:ext cx="4155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. 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4725000" y="2819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6174360" y="2743200"/>
            <a:ext cx="2581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01320" y="5410080"/>
            <a:ext cx="5875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*[comments][review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326760" y="6248520"/>
            <a:ext cx="2241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don’t us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85CA-0533-442D-B7A8-5EA0E9C9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421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2A3-1941-4552-A48E-3FEEE0A1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8A0-7A7B-4B0E-AFC1-89070BB32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853-3CC7-48BD-8131-2872BEB61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recommend readings in previou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626D-CFC9-4663-98B6-3EC252C59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6D1-5E7B-4F89-BF5D-24C02393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5F7-5084-457E-839B-A824492B7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R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195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0240" y="2895480"/>
            <a:ext cx="77767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75840" y="4495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written by the system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21400" y="54100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E71-8144-466F-86FE-78180A76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943C-A2F9-4730-9C5C-AE2FD1D5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98040" y="304812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93640" y="5334120"/>
            <a:ext cx="776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56DB-CCB3-4B9B-AF28-CBA84469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802-797D-4D70-A2F0-0FF148EDE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DD5-CE8F-48BD-A782-6984988B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62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671-3742-469D-9CE2-A67E1B07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6700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0866-FAD0-4F06-88A9-64BCDEE5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77320" y="3276720"/>
            <a:ext cx="6211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9960" y="5410080"/>
            <a:ext cx="76910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istinct-values applies ONLY to values, NO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5B4-8B51-48AB-A509-7FB3FA29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B41E-14FB-4553-9E05-475134F5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T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9128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B50-64E8-446F-BF6A-FC86E1BB5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list of (author, titl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638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721840" y="3870360"/>
            <a:ext cx="327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707440" y="1828800"/>
            <a:ext cx="32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E22-3DA3-4500-AA8E-00F13B0E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C938-59A8-4A35-8756-0B7FB084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EEA-6305-4848-9D00-1472A21B6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632-A205-42D0-9747-553A2E8C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245" name="Rectangle 6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8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248" name="Rectangle 9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6F0-E1B7-4AFB-8473-BDACE605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132-996B-4522-A0C5-978EF29E4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D9A-6DC7-4A2D-9226-A1C7C580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606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D58-8F74-4F27-9BA4-50E8DFF5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66" name="Rectangle 6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7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69" name="Rectangle 9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0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1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72" name="Rectangle 12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13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833-D048-4442-8D13-46474426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F01-466B-4B12-B0DD-1E6501531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4C44-5296-4DAA-ACEC-B0CCC0A92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D91-C701-401A-A658-CE516BE5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8EA-2EB7-48C5-A32D-1EB5E376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63" name="Oval 4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5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Oval 6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1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68A-3E5C-4C10-A797-07E296606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9"/>
          <p:cNvCxnSpPr>
            <a:stCxn id="88" idx="2"/>
            <a:endCxn id="86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0"/>
          <p:cNvCxnSpPr>
            <a:stCxn id="88" idx="6"/>
            <a:endCxn id="87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DFB-576C-490D-8EBE-2120AEFFE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62840" y="48006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FF2-D59C-4B7B-B231-A01B60EFC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7600" y="169704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E9DE-6440-486B-BBCD-B06083801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19T01:39:07Z</dcterms:modified>
  <cp:revision>218</cp:revision>
  <dc:subject/>
  <dc:title>Lecture 09:</dc:title>
</cp:coreProperties>
</file>