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9C18-A74E-42A1-A7AF-784F4E18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fld id="{1956B47B-9B64-47B7-AA99-DDB5CACA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EF8-1B5F-4DD2-8BBA-DFC1AFB4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D5B-A2F1-4068-B959-D9DAC9958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4E95-D23F-454D-AE92-B282051B6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F6E0-7313-4DFA-8856-497E3D93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17A-6387-4CB4-A961-04542BB81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C3FF-874F-45EF-A144-B764DF77C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may be non-well formed: e.g. &lt;br&gt; without &lt;/br&gt;.  Better: &lt;br/&gt;; XML must be well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has semantics: &lt;br&gt; means newline, &lt;i&gt; means italic etc.  XML has no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12E-93BE-433A-B3C3-7C50B97F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85E3-8BBB-431B-9702-0AEBE37C1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9F63-0BC5-41EB-B9FF-4D514346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AACE-C1E1-4C6B-8765-EE956FAD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DCD9-5D5D-4A2B-8013-60C9996EE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BD25-1C67-4B62-99EB-4FDA8ADC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A08F-28BF-4DDC-A4D6-B779EF94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E0D-75DF-4B6A-A2EB-B0D3D547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2434-2C62-46FC-AF14-758416AB2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093C-503B-40DF-B8A3-58E665BC2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1E6-F64C-4D31-B57E-442FC335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A39-34CB-49AD-BA3B-443A84C8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7E07-4D1E-42CE-A4A3-394C03D1E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205B-170C-4170-9563-17FCDBC3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CB97-2CB5-40FC-AAE9-33DDE9C1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8CC7-2FAD-4391-961C-23D2CE6BD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6F7-2FFD-4FFE-A9F0-CCA98759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056-D00E-44D6-8B16-28C3B092A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2D04-3CE8-4532-9564-91E819D1C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4E9F-5EBE-420E-AED9-FA77DB99D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2B4-DB79-4243-AFDB-6CB41B39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FC9F-C1C2-49FB-8624-17C9E649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1B8-952C-463C-855B-A34B9C47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0229-389F-4A2A-95D3-9A3807FF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FFF3-C711-42B1-ABAD-353B3815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C114-AAB8-4CBA-87E8-780C044C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E462-5B87-4615-945A-CAEAD87D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F50-FAF6-4C7C-A0EA-20161C47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1D8-9B26-4881-ABDC-10311E96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B9D-548A-4530-BB0B-66B4C122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4E6-AEAB-498D-A404-20FBCE61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A42-46F4-41EE-B73B-DBA85391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990-F9D0-4594-A68B-5E1E3879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93F-9387-4494-AFCB-ADBC44B1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4E6-1B99-44D9-8C3E-E66CA76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16F-2077-4C34-B6F2-A15D67D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403-92B7-4CC0-B632-5924B39A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D2D-BC42-4557-A5A5-9350A6A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A95-2CD9-42AF-8F19-AB13570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178-FB11-492C-A716-E2703BC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53D-C075-411C-9E91-AE4B7E12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80D-69C4-491D-9F44-8C273B8D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7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D1A9-76E4-478F-979D-C24256D25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7AB6-0527-47A4-BF08-56B0AF59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CEF-5967-4381-A90B-0C15836D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3F41-B277-44AC-BFDD-1CDC6642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262400" cy="25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04680" y="2133720"/>
            <a:ext cx="460836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814D-05F5-4E3E-8E85-2EF9349BF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514600"/>
          <a:ext cx="6858000" cy="2997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8C2-EEDE-41F8-BBEF-C464A219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.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ifferences between XML and HTM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672-6FA4-4CCD-A0D6-AB2791481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040" y="465120"/>
            <a:ext cx="7691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17720" cy="391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46520" y="2726280"/>
            <a:ext cx="434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just keys/ foreign keys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omeone who didn’t take 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m: use your 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s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9132-3960-4889-82ED-584AB01B1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083C-BA0F-4210-8CEF-FA483E44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00600" y="3886200"/>
          <a:ext cx="3124080" cy="2819520"/>
        </p:xfrm>
        <a:graphic>
          <a:graphicData uri="http://schemas.openxmlformats.org/drawingml/2006/table">
            <a:tbl>
              <a:tblPr/>
              <a:tblGrid>
                <a:gridCol w="1104840"/>
                <a:gridCol w="201924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FFCE-8239-4B29-89A4-504A4A8A3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0828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65F-9C5F-4FA7-AE4F-B51C8A715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8D1-5D6A-4932-BA8A-393F53DB5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3227-3F20-47F4-BA42-901261F5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5440" y="2828880"/>
            <a:ext cx="598248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292720" y="5009040"/>
            <a:ext cx="3567960" cy="1692360"/>
          </a:xfrm>
          <a:prstGeom prst="wedgeEllipseCallout">
            <a:avLst>
              <a:gd name="adj1" fmla="val -38287"/>
              <a:gd name="adj2" fmla="val -14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nothing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; just a un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DB52-1605-4624-BCCA-6A63B255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05160" y="3886200"/>
            <a:ext cx="824040" cy="54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898880" y="4267080"/>
            <a:ext cx="663840" cy="67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5819760" y="3605040"/>
            <a:ext cx="1038240" cy="28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35" name="Oval 10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5A7-C266-45AF-8486-9BEEB9CE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-262800" y="2133720"/>
            <a:ext cx="3899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pl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Thai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62618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51530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74390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85848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500868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660168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736308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1038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429120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60786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9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AutoShape 20"/>
          <p:cNvCxnSpPr>
            <a:stCxn id="140" idx="3"/>
            <a:endCxn id="142" idx="7"/>
          </p:cNvCxnSpPr>
          <p:nvPr/>
        </p:nvCxnSpPr>
        <p:spPr>
          <a:xfrm flipH="1">
            <a:off x="600192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21"/>
          <p:cNvCxnSpPr>
            <a:stCxn id="140" idx="5"/>
            <a:endCxn id="143" idx="1"/>
          </p:cNvCxnSpPr>
          <p:nvPr/>
        </p:nvCxnSpPr>
        <p:spPr>
          <a:xfrm>
            <a:off x="686736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22"/>
          <p:cNvCxnSpPr>
            <a:stCxn id="142" idx="3"/>
            <a:endCxn id="144" idx="7"/>
          </p:cNvCxnSpPr>
          <p:nvPr/>
        </p:nvCxnSpPr>
        <p:spPr>
          <a:xfrm flipH="1">
            <a:off x="4586040" y="2897280"/>
            <a:ext cx="73872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23"/>
          <p:cNvCxnSpPr>
            <a:stCxn id="142" idx="4"/>
            <a:endCxn id="145" idx="0"/>
          </p:cNvCxnSpPr>
          <p:nvPr/>
        </p:nvCxnSpPr>
        <p:spPr>
          <a:xfrm flipH="1">
            <a:off x="55666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24"/>
          <p:cNvCxnSpPr>
            <a:stCxn id="143" idx="3"/>
            <a:endCxn id="146" idx="0"/>
          </p:cNvCxnSpPr>
          <p:nvPr/>
        </p:nvCxnSpPr>
        <p:spPr>
          <a:xfrm flipH="1">
            <a:off x="703980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AutoShape 25"/>
          <p:cNvCxnSpPr>
            <a:stCxn id="143" idx="4"/>
            <a:endCxn id="147" idx="0"/>
          </p:cNvCxnSpPr>
          <p:nvPr/>
        </p:nvCxnSpPr>
        <p:spPr>
          <a:xfrm flipH="1">
            <a:off x="79210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26"/>
          <p:cNvCxnSpPr>
            <a:stCxn id="144" idx="4"/>
            <a:endCxn id="141" idx="0"/>
          </p:cNvCxnSpPr>
          <p:nvPr/>
        </p:nvCxnSpPr>
        <p:spPr>
          <a:xfrm flipH="1">
            <a:off x="4250880" y="4181400"/>
            <a:ext cx="468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27"/>
          <p:cNvCxnSpPr>
            <a:stCxn id="145" idx="3"/>
            <a:endCxn id="148" idx="0"/>
          </p:cNvCxnSpPr>
          <p:nvPr/>
        </p:nvCxnSpPr>
        <p:spPr>
          <a:xfrm flipH="1">
            <a:off x="5058720" y="4039920"/>
            <a:ext cx="1357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28"/>
          <p:cNvCxnSpPr>
            <a:stCxn id="145" idx="4"/>
            <a:endCxn id="149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29"/>
          <p:cNvCxnSpPr>
            <a:stCxn id="145" idx="5"/>
            <a:endCxn id="150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30"/>
          <p:cNvCxnSpPr>
            <a:stCxn id="148" idx="4"/>
            <a:endCxn id="151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31"/>
          <p:cNvCxnSpPr>
            <a:stCxn id="149" idx="4"/>
            <a:endCxn id="152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32"/>
          <p:cNvCxnSpPr>
            <a:stCxn id="150" idx="4"/>
            <a:endCxn id="153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33"/>
          <p:cNvCxnSpPr>
            <a:stCxn id="146" idx="4"/>
            <a:endCxn id="154" idx="0"/>
          </p:cNvCxnSpPr>
          <p:nvPr/>
        </p:nvCxnSpPr>
        <p:spPr>
          <a:xfrm>
            <a:off x="7040160" y="4410000"/>
            <a:ext cx="1422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34"/>
          <p:cNvCxnSpPr>
            <a:stCxn id="147" idx="4"/>
            <a:endCxn id="155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Oval 35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37"/>
          <p:cNvCxnSpPr>
            <a:stCxn id="143" idx="5"/>
            <a:endCxn id="171" idx="0"/>
          </p:cNvCxnSpPr>
          <p:nvPr/>
        </p:nvCxnSpPr>
        <p:spPr>
          <a:xfrm>
            <a:off x="8288280" y="3201840"/>
            <a:ext cx="3326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38"/>
          <p:cNvCxnSpPr>
            <a:stCxn id="171" idx="4"/>
            <a:endCxn id="172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Oval 39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41"/>
          <p:cNvCxnSpPr>
            <a:stCxn id="142" idx="2"/>
            <a:endCxn id="175" idx="7"/>
          </p:cNvCxnSpPr>
          <p:nvPr/>
        </p:nvCxnSpPr>
        <p:spPr>
          <a:xfrm flipH="1">
            <a:off x="4014360" y="2738160"/>
            <a:ext cx="11692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42"/>
          <p:cNvCxnSpPr>
            <a:stCxn id="175" idx="3"/>
            <a:endCxn id="176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9" name="Group 43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80" name="AutoShape 44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45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46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47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EEDA-6A6F-414D-B9F2-1558EF6C6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5D63-BD24-45E8-885B-B7AD5259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160" y="121680"/>
            <a:ext cx="89838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577800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3581280"/>
          <a:ext cx="3504960" cy="182880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48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5C1-19DD-41A6-BD40-02B510F8E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320" y="121680"/>
            <a:ext cx="89834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2666880"/>
          <a:ext cx="3504960" cy="137160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9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80880" y="4800600"/>
          <a:ext cx="3886200" cy="182880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43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8504-3139-4EE4-B286-5C4D53DB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834200" y="2565360"/>
            <a:ext cx="442620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207840" y="3886200"/>
            <a:ext cx="1811520" cy="566640"/>
          </a:xfrm>
          <a:prstGeom prst="wedgeEllipseCallout">
            <a:avLst>
              <a:gd name="adj1" fmla="val -73601"/>
              <a:gd name="adj2" fmla="val 149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29200" y="5029200"/>
          <a:ext cx="2133720" cy="15541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1B1B-F6B0-42D2-8736-A3A810B10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986480" y="2590920"/>
            <a:ext cx="4273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19720" y="5105520"/>
          <a:ext cx="3200400" cy="137160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29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0"/>
          <p:cNvSpPr/>
          <p:nvPr/>
        </p:nvSpPr>
        <p:spPr>
          <a:xfrm>
            <a:off x="6142680" y="3886200"/>
            <a:ext cx="2253240" cy="566640"/>
          </a:xfrm>
          <a:prstGeom prst="wedgeEllipseCallout">
            <a:avLst>
              <a:gd name="adj1" fmla="val -70638"/>
              <a:gd name="adj2" fmla="val -62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0AE-D672-4B17-9097-2874D0E8D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6216480" y="3822840"/>
            <a:ext cx="1765800" cy="999720"/>
          </a:xfrm>
          <a:prstGeom prst="wedgeEllipseCallout">
            <a:avLst>
              <a:gd name="adj1" fmla="val -87319"/>
              <a:gd name="adj2" fmla="val -88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0F8-4B26-4A92-8E5C-A8259E335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 on XML, but hard to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XM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utorials out of myria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XML/1999/XML-in-10-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zvon.org/xxl/XMLTutorial/General/book_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059200" y="5870880"/>
            <a:ext cx="506484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ad this for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9EE9-3643-422C-97E8-073ECB7A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712F-AAAC-4BD9-9A00-27803422F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what tags and attributes ar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n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seded by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plex: DTDs still used wid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7F89-20E2-45B6-91EB-59A6036D3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9504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5DF-8ADF-4F39-9A0F-D32BADB9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12372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B118-DBF1-42D2-828A-2661EBE13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84032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61376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3279-7C02-4FC7-AFB5-2D2E7D65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9480" y="2489040"/>
            <a:ext cx="4363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493600" y="2517840"/>
            <a:ext cx="3352320" cy="92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53360" y="4013280"/>
            <a:ext cx="5301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53720" y="5079960"/>
            <a:ext cx="4651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152280" y="6146640"/>
            <a:ext cx="5397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472428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510552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646240" y="4422600"/>
            <a:ext cx="274248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803C-9CDB-4E0E-A91D-733766B5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reading on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w3.org/TR/xquery-use-cas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uggested r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TR/xquer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laxque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70640" y="5946840"/>
            <a:ext cx="66103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ML/XQuery is NOT covered in the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7F5-9F64-4CFB-9D90-8C46515C4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exible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databases: e.g. proper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files: e.g. 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markup: e.g.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- a very nast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05760" y="6062400"/>
            <a:ext cx="4894200" cy="5767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 only XML a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599-B0E4-4843-9047-6222F9034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syntaxes: CSV (comma-separated-values), ASN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: Databa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/transform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: XM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s 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2BF1-5173-41AD-B97F-0546809D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s have rigid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evolution is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flexible: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data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not normal form!  Not even 1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ry this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8051-077C-4943-AE59-284F24133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94F0-D056-46D9-BBE1-6CF9F6BB7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17T00:10:58Z</dcterms:modified>
  <cp:revision>237</cp:revision>
  <dc:subject/>
  <dc:title>Lecture 09:</dc:title>
</cp:coreProperties>
</file>