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2473-A25D-480C-9A1C-691A959C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D51BEEC-47AC-4FB3-8A04-56D8DF949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5B93-00DA-4EB3-8CFB-68965800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4661-F487-4D2B-A870-38EFEEF12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CD18-C109-4C77-BE3D-A87C2E21F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B02E-519B-4FF7-87A5-9506E451E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3EAA-E3BF-48A5-9B48-8A44F6A53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5BDE-2965-460E-885F-EDFB06A5A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33B-002C-4C44-97AD-EFA4E91E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B254-11AE-4003-B7DB-C25017D58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FA69-B42F-4C99-87B3-EE0619BBE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A02F-B260-4486-8376-BA1A82609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00CF-CAF7-4409-BAD4-5E36C9E41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ABFD-ACFF-49FC-837D-FE8E4FA2D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95E-FC19-4721-B8FF-58329EC48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A2EB-E6A1-49D5-AF71-3853916B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A6D1-65EC-48EE-B66D-DC5673291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76DA-3250-4F78-B6E1-3FAB1DB0D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6B03-6E1E-4918-8E9F-4E3CAFE0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A821-9B97-44B3-B891-A44159BCB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7CEB-44F9-4A25-9DC0-C2DDB93AD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13C3-3F28-44E8-9FD0-F7F2A01A3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A2C8-B5E6-4449-AA69-17210FBA4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4AFB-AB0B-44D7-B616-7A9D364E5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1464-33F7-43B6-A3EB-CE9C73238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D08A-7781-4B36-B3AA-ABF9CF9C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9BBF-820F-4B2D-9D0B-CA6D94A8A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9A77-5214-4BAE-9D87-3BE7708C3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1D1-C650-4AF8-82EF-E1ED1E6D7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C84A-9785-4407-9904-DDB8E0C21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BF85-FB80-41AE-B5C3-098D6DE7C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7874-9CD6-49E0-A102-2FDBC2A89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C073-F3CC-4507-A580-52C243F7B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1DDE-CE48-43AF-A058-E3B26598E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E10A-A669-4BD7-B495-BBA792E3B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5A28-EB2E-4B70-BE40-A20F988B0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7C9A-E8E3-44DB-A4F4-D44867BB9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0ADF-AAD6-4DEF-B6F4-A79B66ED1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7FC2-9C98-4748-BD81-ECDDB3E6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64C-D1F4-4725-A9C6-335F4B3DA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DAFE-5E06-4DB7-8F27-A5FCC88EE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7A02-7A6E-4634-BC2D-7362E5296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3C87-04BA-4DAA-AA13-1F3BEC000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B92E-6E41-4BF4-89EC-4D2AA1A9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406B-72D4-4513-A998-6D57AB0ED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AC9B-7C5C-40A9-B2A8-489AD40E2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752-48D7-4699-832E-20B7124FC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A172-0109-4259-AAB4-26B5D9568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28BB-9645-49A1-9086-2B8A1FD10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72A3-B03C-45F6-A077-A1549EE68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0376-E266-4E11-A738-1A819FD90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B0D8-3918-43E6-BE09-980386CA9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197A-1FD4-4AE6-9CC4-38490C61B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D3CD-93CB-4F57-9330-E6C1CAA0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426-B189-46BC-8EB3-5E78976E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1DA-9651-4EC2-87EF-64EE908E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021-D5F7-4E93-83A3-8773AF9F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EE2-0C64-41E5-9DAE-D8071DB9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ECC-9415-44FA-995C-3D5192EB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C6A-C4DA-4C26-8997-00819FA7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21A-CFE5-426F-A866-34424C59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EC2-160B-4D42-BEE5-E94DCB01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7A7-D38F-4B49-9C7E-DD23BE58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ADA-4403-459F-B752-4A85E846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B45-BFA5-4238-A76B-D4503BAE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9A2-4C5E-4D17-B86D-BBB968E0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562-55C5-4056-A729-FC6059D6F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7A82-FB36-4769-9193-6E50138A0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8 &amp;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12 &amp; 15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283B-AB46-418F-AAAC-C8F4D5344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43DE-6B96-41B6-8969-674AF5E03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7BD-D64A-4FE1-B6DA-109215DE4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168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36728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4136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0072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99880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857D-022E-4BD9-92A0-BFB2DC40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an FD 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3622680"/>
          <a:ext cx="6400800" cy="22464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8280"/>
                <a:gridCol w="641160"/>
                <a:gridCol w="639720"/>
                <a:gridCol w="639720"/>
                <a:gridCol w="641520"/>
                <a:gridCol w="638280"/>
                <a:gridCol w="641160"/>
                <a:gridCol w="639720"/>
              </a:tblGrid>
              <a:tr h="55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45" name="AutoShape 83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84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5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6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7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1807-48B3-4E93-9802-E7454C68E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14720" y="153360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14400" y="2133720"/>
          <a:ext cx="6629400" cy="259056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AC0C-F8ED-4449-9C83-60C4678D0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198240" y="5334120"/>
            <a:ext cx="26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90720" y="2362320"/>
          <a:ext cx="6629400" cy="2590560"/>
        </p:xfrm>
        <a:graphic>
          <a:graphicData uri="http://schemas.openxmlformats.org/drawingml/2006/table">
            <a:tbl>
              <a:tblPr/>
              <a:tblGrid>
                <a:gridCol w="1657080"/>
                <a:gridCol w="1657440"/>
                <a:gridCol w="165744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9A28-A0A2-445A-B5FA-291FC8E83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14400" y="2133720"/>
          <a:ext cx="6629400" cy="259056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48"/>
          <p:cNvSpPr/>
          <p:nvPr/>
        </p:nvSpPr>
        <p:spPr>
          <a:xfrm>
            <a:off x="2816280" y="5257800"/>
            <a:ext cx="37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not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97BD-332F-4F7E-A2DE-D5D4B2B53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045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30"/>
          <p:cNvSpPr/>
          <p:nvPr/>
        </p:nvSpPr>
        <p:spPr>
          <a:xfrm>
            <a:off x="5306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1"/>
          <p:cNvSpPr/>
          <p:nvPr/>
        </p:nvSpPr>
        <p:spPr>
          <a:xfrm>
            <a:off x="571500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AE6C-B79F-4A42-B8FE-C5B67055D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35"/>
          <p:cNvSpPr/>
          <p:nvPr/>
        </p:nvSpPr>
        <p:spPr>
          <a:xfrm>
            <a:off x="5328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586728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475-C644-4F05-BE6E-DEAE0BD17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4156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72428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14300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72500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98252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1A47-9AD6-43D0-BDAB-27F3D547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/Remi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: solutions a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2: posted later today (due Sat., Oct. 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hase 1 due tomorrow, 9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0403-887E-4F62-BF3C-045C3B75B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: Find ALL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malies occur when certain “bad” FDs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some of the F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Ds, then look for the bad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23BF-E6BC-49D4-B6CD-34AFA312C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09768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14" name="Text Box 77"/>
          <p:cNvSpPr/>
          <p:nvPr/>
        </p:nvSpPr>
        <p:spPr>
          <a:xfrm>
            <a:off x="81036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8"/>
          <p:cNvSpPr/>
          <p:nvPr/>
        </p:nvSpPr>
        <p:spPr>
          <a:xfrm>
            <a:off x="140616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DE57-13A2-4BE9-A489-C9A847A4B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624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419720" y="4724280"/>
          <a:ext cx="3085920" cy="182880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21" name="Text Box 49"/>
          <p:cNvSpPr/>
          <p:nvPr/>
        </p:nvSpPr>
        <p:spPr>
          <a:xfrm>
            <a:off x="364284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0"/>
          <p:cNvSpPr/>
          <p:nvPr/>
        </p:nvSpPr>
        <p:spPr>
          <a:xfrm>
            <a:off x="71352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D666-61DE-4815-B06A-B528AF9B4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1307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28088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294372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93940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54AA-CE39-4A0A-85CA-7927D56C9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3520" y="2514600"/>
          <a:ext cx="8024760" cy="182880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D037-666C-40BA-B668-2F1780DA6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76104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544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02920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838080" y="3581280"/>
          <a:ext cx="6782040" cy="310860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6062-A099-46DC-9529-931407E6B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9062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8080" y="3048120"/>
          <a:ext cx="7772400" cy="310824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27"/>
          <p:cNvSpPr/>
          <p:nvPr/>
        </p:nvSpPr>
        <p:spPr>
          <a:xfrm>
            <a:off x="510552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83736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BE97-3B76-49D4-ABA5-A16CA1024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725040" y="1625760"/>
            <a:ext cx="7473240" cy="197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the set of attributes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s.t.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286000" y="40413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34240" y="4038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067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4A4E-7A73-48AC-BDF9-5B87127C3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41008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41080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03644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20788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B80-73A0-46A1-81DA-B75B0F63C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0C82-2A81-4A2E-9769-29CEF1FDF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3B68-9CBA-48E5-A052-8B9A0E404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losure we can find all FD’s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eck i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B01B-BAF2-414D-A0F8-BA961F255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12480" y="327672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321840" y="3782160"/>
            <a:ext cx="79621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ABCD, AC+=AC, AD+=ABC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BC+=BCD,  BD+=BD,  CD+=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02280" y="57913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60696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C986-F2A7-4AF0-B51A-13D7974B9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71EC-8203-41B4-B32E-5CA3C3275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E211-14B2-4BA7-B55E-A86B35834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D4B6-B2C3-474B-A886-AAE4E2B1C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9596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1350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582A-566B-4B93-9EFE-241E9B3C2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259596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1350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2052720" y="533412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, category) +  = name, category, price,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2055600" y="59436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(name, category) is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6C2-CDEB-4EDF-8354-BBDD3D8E1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590560" y="3016080"/>
            <a:ext cx="38109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2770920" y="50785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nd keys at h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69BF-B042-4E8F-BDE2-CF403294B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OK if X is a (super)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not OK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FAFE-5558-4180-82E8-67644290F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43000" y="1828800"/>
          <a:ext cx="7010280" cy="228600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Rectangle 36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951440" y="571500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“bad”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38F-C357-40E4-80BD-2D60DDC91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Refinements = 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Normal Form =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Normal Form = obso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ce Codd Normal Form = will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rd Normal Form = se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984D-70FC-43EB-B8FC-78571BF22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A549-7835-44B2-B0D7-4F3627C0E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60128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464940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65904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2590560" y="579132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1105200" y="623556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design FDs such that 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EF54-1CA6-4DD7-9A40-C213302DF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211320" y="457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: there are no “bad”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850680" y="5334120"/>
            <a:ext cx="59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either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)    or  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E39B-2B49-456B-8701-7D60A0112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257652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3697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BNC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4950360" y="5943600"/>
            <a:ext cx="39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coming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177-65A0-4733-A535-B03253B29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43000" y="1828800"/>
          <a:ext cx="7010280" cy="228600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Rectangle 36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7"/>
          <p:cNvSpPr/>
          <p:nvPr/>
        </p:nvSpPr>
        <p:spPr>
          <a:xfrm>
            <a:off x="4950720" y="5715000"/>
            <a:ext cx="31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BF46-58D2-4E59-9E7A-CE2CEE4DC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600200" y="2209680"/>
          <a:ext cx="4514760" cy="118908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676520" y="3886200"/>
          <a:ext cx="3962160" cy="198108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Rectangle 41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2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29DD-BBC7-4817-A965-23B8822C4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5865-9010-485E-A270-30870803C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847080" y="1752480"/>
            <a:ext cx="7000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ecursively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5943-9CF6-457D-A27A-9B9E9664B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407556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6"/>
          <p:cNvSpPr/>
          <p:nvPr/>
        </p:nvSpPr>
        <p:spPr>
          <a:xfrm>
            <a:off x="6750360" y="509040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053E-07DB-4FF0-ACCE-D901F9B5E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3"/>
          <p:cNvSpPr/>
          <p:nvPr/>
        </p:nvSpPr>
        <p:spPr>
          <a:xfrm>
            <a:off x="6902640" y="4709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472880" y="380880"/>
            <a:ext cx="1381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2580840" y="1828800"/>
            <a:ext cx="4386960" cy="121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232920" y="17784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34720" y="6019920"/>
            <a:ext cx="849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1209240" y="2844720"/>
            <a:ext cx="7175880" cy="2158920"/>
            <a:chOff x="1209240" y="2844720"/>
            <a:chExt cx="7175880" cy="2158920"/>
          </a:xfrm>
        </p:grpSpPr>
        <p:sp>
          <p:nvSpPr>
            <p:cNvPr id="376" name="Oval 9"/>
            <p:cNvSpPr/>
            <p:nvPr/>
          </p:nvSpPr>
          <p:spPr>
            <a:xfrm>
              <a:off x="1209240" y="3581280"/>
              <a:ext cx="3634560" cy="142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,C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BC ≠ A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10"/>
            <p:cNvSpPr/>
            <p:nvPr/>
          </p:nvSpPr>
          <p:spPr>
            <a:xfrm>
              <a:off x="6464160" y="3657600"/>
              <a:ext cx="1920960" cy="81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" name="AutoShape 11"/>
            <p:cNvCxnSpPr>
              <a:stCxn id="372" idx="3"/>
              <a:endCxn id="376" idx="0"/>
            </p:cNvCxnSpPr>
            <p:nvPr/>
          </p:nvCxnSpPr>
          <p:spPr>
            <a:xfrm flipH="1">
              <a:off x="3025080" y="2844720"/>
              <a:ext cx="205560" cy="73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12"/>
            <p:cNvCxnSpPr>
              <a:stCxn id="372" idx="5"/>
              <a:endCxn id="377" idx="0"/>
            </p:cNvCxnSpPr>
            <p:nvPr/>
          </p:nvCxnSpPr>
          <p:spPr>
            <a:xfrm>
              <a:off x="6318000" y="2844720"/>
              <a:ext cx="1105560" cy="81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0" name="Group 13"/>
          <p:cNvGrpSpPr/>
          <p:nvPr/>
        </p:nvGrpSpPr>
        <p:grpSpPr>
          <a:xfrm>
            <a:off x="294840" y="4700160"/>
            <a:ext cx="5425920" cy="1198080"/>
            <a:chOff x="294840" y="4700160"/>
            <a:chExt cx="5425920" cy="1198080"/>
          </a:xfrm>
        </p:grpSpPr>
        <p:sp>
          <p:nvSpPr>
            <p:cNvPr id="381" name="Oval 14"/>
            <p:cNvSpPr/>
            <p:nvPr/>
          </p:nvSpPr>
          <p:spPr>
            <a:xfrm>
              <a:off x="294840" y="5105520"/>
              <a:ext cx="196812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B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5"/>
            <p:cNvSpPr/>
            <p:nvPr/>
          </p:nvSpPr>
          <p:spPr>
            <a:xfrm>
              <a:off x="3724920" y="5062320"/>
              <a:ext cx="199584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AutoShape 16"/>
            <p:cNvCxnSpPr>
              <a:stCxn id="376" idx="3"/>
              <a:endCxn id="381" idx="0"/>
            </p:cNvCxnSpPr>
            <p:nvPr/>
          </p:nvCxnSpPr>
          <p:spPr>
            <a:xfrm flipH="1">
              <a:off x="1278720" y="4700160"/>
              <a:ext cx="46908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17"/>
            <p:cNvCxnSpPr>
              <a:stCxn id="376" idx="5"/>
              <a:endCxn id="382" idx="0"/>
            </p:cNvCxnSpPr>
            <p:nvPr/>
          </p:nvCxnSpPr>
          <p:spPr>
            <a:xfrm>
              <a:off x="4303800" y="4700160"/>
              <a:ext cx="41976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1542-F69D-4AFE-BEAF-FDEB8D324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3200400"/>
          <a:ext cx="2743200" cy="34290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666880" y="4172040"/>
          <a:ext cx="457200" cy="7318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666880" y="5153040"/>
          <a:ext cx="457200" cy="4874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676600" y="5972040"/>
          <a:ext cx="457200" cy="4874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52"/>
          <p:cNvSpPr/>
          <p:nvPr/>
        </p:nvSpPr>
        <p:spPr>
          <a:xfrm>
            <a:off x="21384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70"/>
          <p:cNvSpPr/>
          <p:nvPr/>
        </p:nvSpPr>
        <p:spPr>
          <a:xfrm>
            <a:off x="541116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772400" y="4876920"/>
          <a:ext cx="914400" cy="12189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486400" y="4583160"/>
          <a:ext cx="1828800" cy="21337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109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0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1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12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53A9-2214-4EFD-A38B-C5C6B8B53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26072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226080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95832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99248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7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CFFD-E965-44FD-8C9F-396AFC27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o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Line 62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63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64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264-1E7E-49E6-A08D-356B13269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Line 60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1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2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63"/>
          <p:cNvSpPr/>
          <p:nvPr/>
        </p:nvSpPr>
        <p:spPr>
          <a:xfrm>
            <a:off x="289512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9434-3469-48E2-86C6-217C89001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226080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95832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99248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7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769680" y="6028560"/>
            <a:ext cx="722628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 is always lossless. 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154800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5FAD-AE5A-465C-910C-A83130ABE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79" name="Rectangle 4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5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8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10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6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Text Box 17"/>
          <p:cNvSpPr/>
          <p:nvPr/>
        </p:nvSpPr>
        <p:spPr>
          <a:xfrm>
            <a:off x="51732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60912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608400" y="5257800"/>
            <a:ext cx="28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9880" y="3809880"/>
          <a:ext cx="1524240" cy="79236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867280" y="3809880"/>
          <a:ext cx="1905120" cy="5940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800600" y="5181480"/>
          <a:ext cx="1143000" cy="7923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248520" y="5181480"/>
          <a:ext cx="380880" cy="7923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010280" y="5181480"/>
          <a:ext cx="762120" cy="79236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81280" y="5181480"/>
          <a:ext cx="762120" cy="79236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Line 141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42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3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44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5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46"/>
          <p:cNvSpPr/>
          <p:nvPr/>
        </p:nvSpPr>
        <p:spPr>
          <a:xfrm>
            <a:off x="152280" y="32004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47"/>
          <p:cNvSpPr/>
          <p:nvPr/>
        </p:nvSpPr>
        <p:spPr>
          <a:xfrm>
            <a:off x="152280" y="48769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ED6E-EC84-4912-B80D-818838825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date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6417-A462-499A-9506-7F45C9BD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0992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    =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 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548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2209680"/>
          <a:ext cx="7010640" cy="158436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2"/>
          <p:cNvSpPr/>
          <p:nvPr/>
        </p:nvSpPr>
        <p:spPr>
          <a:xfrm>
            <a:off x="528480" y="403848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erson may have multiple phones, but lives in only on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4F89-6F41-4D8F-9F11-7BBDB6C89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1276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3841920"/>
          <a:ext cx="4514760" cy="10969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029200" y="3886200"/>
          <a:ext cx="3657600" cy="14637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39"/>
          <p:cNvSpPr/>
          <p:nvPr/>
        </p:nvSpPr>
        <p:spPr>
          <a:xfrm>
            <a:off x="374400" y="5014800"/>
            <a:ext cx="605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ar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s (how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2057400"/>
          <a:ext cx="6248520" cy="146376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Line 67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8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0-12T01:55:22Z</dcterms:modified>
  <cp:revision>245</cp:revision>
  <dc:subject/>
  <dc:title>Lecture 10</dc:title>
</cp:coreProperties>
</file>