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C3F3-8E7B-45BE-ADA9-022F1BFD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E9A3BAA8-510A-429A-8A03-F0F8A6872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7040-81C3-402E-81E3-19AB6F838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4FB6-6CA1-48F2-B56A-28E3B8120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B80-A166-459D-B811-AA6AA2179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6FBA-2C68-47EA-855C-1142AF48C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700-E2CF-4089-8311-7158E303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F48E-3D2A-4F4A-8600-62DFA2731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B0E-B74F-41F6-9AB7-F5238E322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7430-A335-4B8C-B036-572C35D3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061C-6D94-4FD0-B3F8-8F64E416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B168-0B05-4D37-8459-D6EF942C5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223A-E900-4494-9E14-6C3B7E69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A78-0FF6-48A2-8CE4-0036C22B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0CE-3797-4111-9B54-8CE0C9A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A81-F95C-44DA-B5C9-B066F8FE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403-6C7E-426B-BFC0-869478C3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303-49DD-4427-AF0E-CB52A9EF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DD2-04AB-42D4-8BB3-3DC5405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10B-F3DB-4295-9919-E7EC5D5F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994-45B2-45B0-919E-566FF45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6DD-A312-4A58-8AE9-F0EEE351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91F-74A1-4467-9606-70AABCF4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721-4C5C-430C-84AA-2013239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113-2413-409B-B603-381B491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DEF1-2E89-4FA9-9BB1-6423DEC8E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A97-A230-4696-B77E-2CE6DB113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10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1A74-BFED-4C0D-B676-929235657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201" name="AutoShape 5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12"/>
          <p:cNvSpPr/>
          <p:nvPr/>
        </p:nvSpPr>
        <p:spPr>
          <a:xfrm>
            <a:off x="698760" y="613728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90F-D80E-4C68-A64B-AC73DFF48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73680" y="5943600"/>
            <a:ext cx="779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877-B0EF-495E-A06C-1A9D171A6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73680" y="5943600"/>
            <a:ext cx="7794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store sells to every person at most on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509A-0034-45B1-A799-5BBF5BF4F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074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do we say that every person shops at at most one sto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75120" y="5943600"/>
            <a:ext cx="537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annot.  This is the best approxim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only approxi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3D0-5442-42FE-99FA-7566EA49E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5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7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6309-1070-46AC-8258-4C09EF45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6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3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9456-BAFA-42CF-81A6-90C2072C7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7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8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1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469-5F45-4B9D-8FDB-C7FECE1C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F6D-6FFB-4B7C-ADA0-5737C8767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DEBE-29BC-4814-B63B-AC464D71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4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7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FC2-7A67-4ACB-8D2C-114E22145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3.2, 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7A08-CBCA-45CB-BF6B-B9BF6CAB2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15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21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AutoShape 22"/>
          <p:cNvCxnSpPr>
            <a:stCxn id="323" idx="0"/>
            <a:endCxn id="338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23"/>
          <p:cNvCxnSpPr>
            <a:stCxn id="323" idx="0"/>
            <a:endCxn id="324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AutoShape 24"/>
          <p:cNvCxnSpPr>
            <a:stCxn id="323" idx="0"/>
            <a:endCxn id="325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AutoShape 25"/>
          <p:cNvCxnSpPr>
            <a:stCxn id="321" idx="0"/>
            <a:endCxn id="332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AutoShape 26"/>
          <p:cNvCxnSpPr>
            <a:stCxn id="321" idx="3"/>
            <a:endCxn id="322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4" name="Rectangle 27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831A-FF53-4021-A1EB-79A74836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1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5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21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AutoShape 22"/>
          <p:cNvCxnSpPr>
            <a:stCxn id="350" idx="0"/>
            <a:endCxn id="365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AutoShape 23"/>
          <p:cNvCxnSpPr>
            <a:stCxn id="350" idx="0"/>
            <a:endCxn id="351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AutoShape 24"/>
          <p:cNvCxnSpPr>
            <a:stCxn id="350" idx="0"/>
            <a:endCxn id="352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AutoShape 25"/>
          <p:cNvCxnSpPr>
            <a:stCxn id="348" idx="0"/>
            <a:endCxn id="359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AutoShape 26"/>
          <p:cNvCxnSpPr>
            <a:stCxn id="348" idx="3"/>
            <a:endCxn id="349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Line 27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76A-30F8-4D83-8098-1BEF9315F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3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5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9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0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21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B07-F3E5-496A-8D52-B9EA66640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7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88E-8FC5-47CA-A144-A088AE0D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4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5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7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8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9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1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4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8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9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F5A-EE72-4796-A66C-AE9C77CD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9" name="Rectangle 5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7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32" name="Rectangle 8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35" name="Rectangle 11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Line 13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8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9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0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1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22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47" name="Text Box 23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24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25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50" name="Text Box 26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53" name="Text Box 29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30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Text Box 31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134-A90F-452B-B4D3-6261BFE8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61" name="Rectangle 4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5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6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7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8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9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0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AutoShape 11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AutoShape 12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3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4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5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6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7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18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19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20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21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22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0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Text Box 70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1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72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2276-5702-4748-9DA6-BEA22EC03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9" name="Text Box 4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5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6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7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8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9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0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14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6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A8A-7CB1-42A6-8A08-C0CA06CD9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6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10" name="Text Box 7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8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9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10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12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13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Oval 15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17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18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45FB-A334-4E15-9D6B-EE1B156D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27" name="Text Box 6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7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9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10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11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12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3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Oval 14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6"/>
          <p:cNvSpPr/>
          <p:nvPr/>
        </p:nvSpPr>
        <p:spPr>
          <a:xfrm>
            <a:off x="3352680" y="3263760"/>
            <a:ext cx="3060720" cy="1320840"/>
          </a:xfrm>
          <a:prstGeom prst="pi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7"/>
          <p:cNvSpPr/>
          <p:nvPr/>
        </p:nvSpPr>
        <p:spPr>
          <a:xfrm>
            <a:off x="2286000" y="3530520"/>
            <a:ext cx="2654280" cy="1155960"/>
          </a:xfrm>
          <a:prstGeom prst="pi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9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531720" y="53341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43A2-8637-40CB-A5F0-5BEE6A44B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ormalisms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11D-A26B-4611-AD99-830F2C07E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2442960" y="2517840"/>
            <a:ext cx="4911120" cy="1679040"/>
            <a:chOff x="2442960" y="2517840"/>
            <a:chExt cx="4911120" cy="1679040"/>
          </a:xfrm>
        </p:grpSpPr>
        <p:sp>
          <p:nvSpPr>
            <p:cNvPr id="545" name="Rectangle 4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5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6"/>
            <p:cNvSpPr/>
            <p:nvPr/>
          </p:nvSpPr>
          <p:spPr>
            <a:xfrm>
              <a:off x="5301360" y="3581280"/>
              <a:ext cx="20527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Rectangle 7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779-10B3-4C66-8088-A38881D19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Group 4"/>
          <p:cNvGrpSpPr/>
          <p:nvPr/>
        </p:nvGrpSpPr>
        <p:grpSpPr>
          <a:xfrm>
            <a:off x="1225440" y="3809880"/>
            <a:ext cx="7424280" cy="2558880"/>
            <a:chOff x="1225440" y="3809880"/>
            <a:chExt cx="7424280" cy="2558880"/>
          </a:xfrm>
        </p:grpSpPr>
        <p:sp>
          <p:nvSpPr>
            <p:cNvPr id="553" name="Rectangle 5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6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7"/>
            <p:cNvSpPr/>
            <p:nvPr/>
          </p:nvSpPr>
          <p:spPr>
            <a:xfrm>
              <a:off x="6597000" y="3809880"/>
              <a:ext cx="20527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AutoShape 8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AutoShape 9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0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3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9C4D-E2B3-4AA1-BD0B-800E6E005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1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2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AutoShape 13"/>
          <p:cNvCxnSpPr>
            <a:stCxn id="567" idx="0"/>
            <a:endCxn id="565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AutoShape 14"/>
          <p:cNvCxnSpPr>
            <a:stCxn id="568" idx="0"/>
            <a:endCxn id="571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AutoShape 15"/>
          <p:cNvCxnSpPr>
            <a:stCxn id="565" idx="0"/>
            <a:endCxn id="570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AutoShape 16"/>
          <p:cNvCxnSpPr>
            <a:stCxn id="571" idx="0"/>
            <a:endCxn id="570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A632-9E39-46B1-906A-6725977CC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2F6-C5E4-4197-98CE-01002F085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8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1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4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5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6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7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8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9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F71D-82CB-423A-A2D1-3B0F4A8F5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318492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4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320400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7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381B-953C-450A-B1E8-317035AD1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6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7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0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rc 13"/>
          <p:cNvSpPr/>
          <p:nvPr/>
        </p:nvSpPr>
        <p:spPr>
          <a:xfrm>
            <a:off x="5867280" y="4800600"/>
            <a:ext cx="30492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106164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98460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9136-D40F-4E81-8A4A-76DFAC18A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5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6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7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A819-A797-4C4A-B9CB-E94642EF4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7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8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9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0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11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13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5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6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8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819000" y="5943600"/>
            <a:ext cx="57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D914-788D-45C4-A6C0-42F5327A7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E353-4471-4D37-B560-FCB0942A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4"/>
          <p:cNvGrpSpPr/>
          <p:nvPr/>
        </p:nvGrpSpPr>
        <p:grpSpPr>
          <a:xfrm>
            <a:off x="1371600" y="1600200"/>
            <a:ext cx="6400800" cy="3581280"/>
            <a:chOff x="1371600" y="1600200"/>
            <a:chExt cx="6400800" cy="3581280"/>
          </a:xfrm>
        </p:grpSpPr>
        <p:sp>
          <p:nvSpPr>
            <p:cNvPr id="71" name="AutoShape 7"/>
            <p:cNvSpPr/>
            <p:nvPr/>
          </p:nvSpPr>
          <p:spPr>
            <a:xfrm>
              <a:off x="1371600" y="350532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3657600" y="16002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6248520" y="36576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plo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>
              <a:off x="51814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H="1">
              <a:off x="2971440" y="22860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 flipV="1">
              <a:off x="21337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>
              <a:off x="2133720" y="4876920"/>
              <a:ext cx="99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 flipH="1">
              <a:off x="5638680" y="4343400"/>
              <a:ext cx="609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AutoShape 29"/>
            <p:cNvCxnSpPr>
              <a:stCxn id="73" idx="0"/>
              <a:endCxn id="68" idx="2"/>
            </p:cNvCxnSpPr>
            <p:nvPr/>
          </p:nvCxnSpPr>
          <p:spPr>
            <a:xfrm flipV="1">
              <a:off x="7010280" y="2666520"/>
              <a:ext cx="49608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80" name="Group 35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grpSp>
          <p:nvGrpSpPr>
            <p:cNvPr id="81" name="Group 33"/>
            <p:cNvGrpSpPr/>
            <p:nvPr/>
          </p:nvGrpSpPr>
          <p:grpSpPr>
            <a:xfrm>
              <a:off x="152280" y="457200"/>
              <a:ext cx="4038840" cy="1828440"/>
              <a:chOff x="152280" y="457200"/>
              <a:chExt cx="4038840" cy="1828440"/>
            </a:xfrm>
          </p:grpSpPr>
          <p:sp>
            <p:nvSpPr>
              <p:cNvPr id="82" name="Oval 12"/>
              <p:cNvSpPr/>
              <p:nvPr/>
            </p:nvSpPr>
            <p:spPr>
              <a:xfrm>
                <a:off x="11430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13"/>
              <p:cNvSpPr/>
              <p:nvPr/>
            </p:nvSpPr>
            <p:spPr>
              <a:xfrm>
                <a:off x="27432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tego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16"/>
              <p:cNvSpPr/>
              <p:nvPr/>
            </p:nvSpPr>
            <p:spPr>
              <a:xfrm>
                <a:off x="152280" y="1371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18"/>
              <p:cNvSpPr/>
              <p:nvPr/>
            </p:nvSpPr>
            <p:spPr>
              <a:xfrm flipH="1" flipV="1">
                <a:off x="1142640" y="198072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19"/>
              <p:cNvSpPr/>
              <p:nvPr/>
            </p:nvSpPr>
            <p:spPr>
              <a:xfrm flipV="1">
                <a:off x="1905120" y="1142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0"/>
              <p:cNvSpPr/>
              <p:nvPr/>
            </p:nvSpPr>
            <p:spPr>
              <a:xfrm flipV="1">
                <a:off x="2514600" y="1142640"/>
                <a:ext cx="7621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31"/>
            <p:cNvGrpSpPr/>
            <p:nvPr/>
          </p:nvGrpSpPr>
          <p:grpSpPr>
            <a:xfrm>
              <a:off x="1295280" y="5486400"/>
              <a:ext cx="6705720" cy="1219320"/>
              <a:chOff x="1295280" y="5486400"/>
              <a:chExt cx="6705720" cy="1219320"/>
            </a:xfrm>
          </p:grpSpPr>
          <p:sp>
            <p:nvSpPr>
              <p:cNvPr id="89" name="Oval 3"/>
              <p:cNvSpPr/>
              <p:nvPr/>
            </p:nvSpPr>
            <p:spPr>
              <a:xfrm>
                <a:off x="1295280" y="601992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4"/>
              <p:cNvSpPr/>
              <p:nvPr/>
            </p:nvSpPr>
            <p:spPr>
              <a:xfrm>
                <a:off x="388620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"/>
              <p:cNvSpPr/>
              <p:nvPr/>
            </p:nvSpPr>
            <p:spPr>
              <a:xfrm>
                <a:off x="655308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26"/>
              <p:cNvSpPr/>
              <p:nvPr/>
            </p:nvSpPr>
            <p:spPr>
              <a:xfrm flipH="1">
                <a:off x="2590920" y="5486400"/>
                <a:ext cx="16761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27"/>
              <p:cNvSpPr/>
              <p:nvPr/>
            </p:nvSpPr>
            <p:spPr>
              <a:xfrm>
                <a:off x="4267080" y="54864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28"/>
              <p:cNvSpPr/>
              <p:nvPr/>
            </p:nvSpPr>
            <p:spPr>
              <a:xfrm>
                <a:off x="5029200" y="5486400"/>
                <a:ext cx="1676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32"/>
            <p:cNvGrpSpPr/>
            <p:nvPr/>
          </p:nvGrpSpPr>
          <p:grpSpPr>
            <a:xfrm>
              <a:off x="7391520" y="685800"/>
              <a:ext cx="1600200" cy="2971800"/>
              <a:chOff x="7391520" y="685800"/>
              <a:chExt cx="1600200" cy="2971800"/>
            </a:xfrm>
          </p:grpSpPr>
          <p:sp>
            <p:nvSpPr>
              <p:cNvPr id="96" name="Oval 14"/>
              <p:cNvSpPr/>
              <p:nvPr/>
            </p:nvSpPr>
            <p:spPr>
              <a:xfrm>
                <a:off x="7543800" y="29718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15"/>
              <p:cNvSpPr/>
              <p:nvPr/>
            </p:nvSpPr>
            <p:spPr>
              <a:xfrm>
                <a:off x="7391520" y="685800"/>
                <a:ext cx="144756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24"/>
              <p:cNvSpPr/>
              <p:nvPr/>
            </p:nvSpPr>
            <p:spPr>
              <a:xfrm flipV="1">
                <a:off x="7772400" y="1295280"/>
                <a:ext cx="2286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AutoShape 30"/>
              <p:cNvCxnSpPr>
                <a:stCxn id="68" idx="2"/>
                <a:endCxn id="96" idx="0"/>
              </p:cNvCxnSpPr>
              <p:nvPr/>
            </p:nvCxnSpPr>
            <p:spPr>
              <a:xfrm>
                <a:off x="7505280" y="2666520"/>
                <a:ext cx="762840" cy="30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8322-DD62-49E5-A784-354F498A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05C4-9BAC-435E-B570-E455A2704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14" name="Text Box 5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13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5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8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AutoShape 19"/>
          <p:cNvSpPr/>
          <p:nvPr/>
        </p:nvSpPr>
        <p:spPr>
          <a:xfrm>
            <a:off x="3821040" y="5843520"/>
            <a:ext cx="746280" cy="67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5165640" y="5992920"/>
            <a:ext cx="108288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438280" y="6180120"/>
            <a:ext cx="104616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567320" y="618012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3484080" y="6180120"/>
            <a:ext cx="33660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B1E-6EEE-47FD-B07B-28394B8CA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13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46" name="Oval 14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Line 16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9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52" name="Oval 20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22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55" name="Oval 23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Line 25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6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7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0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1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2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B16-91D6-4140-88A2-B2D95CD28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5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6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29"/>
          <p:cNvCxnSpPr>
            <a:stCxn id="174" idx="0"/>
            <a:endCxn id="175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0"/>
          <p:cNvCxnSpPr>
            <a:stCxn id="175" idx="2"/>
            <a:endCxn id="179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" name="AutoShape 31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7-10-10T02:43:10Z</dcterms:modified>
  <cp:revision>402</cp:revision>
  <dc:subject/>
  <dc:title>PowerPoint Presentation</dc:title>
</cp:coreProperties>
</file>