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062-AEFC-4557-9DE0-12ABD1061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87236-D6B4-4128-B7A1-E630CCB9F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E3EB-6AD7-4284-9200-B011CB169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4DB3-FC8C-4BCF-A3C7-9B1C866E9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084A-93BF-4905-9045-9845371AC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B1C-78A0-4B99-8FE9-AA919F669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FB6C-EDDB-4FDA-93C8-83CA70D3F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EA6-DD7E-4913-9131-2891F73F6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8181-A144-4D99-8897-5B97F9702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88C-BA94-4376-A341-61F2F67A5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7B9-84AA-40B4-88A3-96A563335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1EC-10CD-4617-A5EF-43263259E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08B-3BD0-4672-B7F8-5F04A5599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237-41D2-4CD9-A05E-85C09DC52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FF5-FB15-4F63-A9D0-27ED52FF0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0B3-B4A2-4036-8DE4-DF5ACF2CD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B77-AB36-481E-A56A-28D1EDA1F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4F9-89F1-4A10-A890-8DD390C76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DFC-8A28-4FFF-A882-1FE827AF0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202-B003-4F74-8259-07369FFDE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72D2-D7D6-4579-B275-D15EB15CA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2C6C-7256-4EA6-BA3F-77D776E3F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9E3-BC13-489B-BEAF-45E8769A9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688F-2120-4A59-8D4C-42D3177C8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260-361B-417E-ABA4-7AB4F2199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E9F-15DA-4E1F-8ACD-CFB88805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D51-3C10-4490-8087-C375F6D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9F5-DE9B-4678-A38B-0A12E955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444-C7B8-4492-AE94-637B58C6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C6C-44DD-4538-B68A-C09D385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E9A-27F8-490F-B60C-15FAD007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2B1-1120-4D42-A45F-D383F16C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2B1-F85C-4AD7-B7E5-72363E6C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3A2-98C4-4D23-97B8-9E8C5ED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A8E-7F63-491A-8E61-F473EA6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090-38A0-4538-9E12-39F8950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062-29FE-46AB-B127-16EDB83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6549-07A3-4FD3-B701-C218E3709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934-65BF-4E83-97F8-C8F6CEF8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 C#,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5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1980-7367-4C0C-B4AD-ECFA6AE5E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aSe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important class that allows you to interact with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 = a “mini” database (cache)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12E-0FDF-4E91-B5A7-B908D8E7E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24840" y="1676520"/>
            <a:ext cx="72338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(this is shown on a following slide)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now use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x = myLocalDB.Tables[“books”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 (DataRow y in x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[“title”] == “Harry Potter”) y[“price”]++;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3791-6450-469D-9CE9-5DBEA63F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r edit web.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isqlsrv, user,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Data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SQL quer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Fill( ) method to run query and store answers in a data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93F-0DB2-407B-9618-36139D8A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16440" y="1930320"/>
            <a:ext cx="8280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Connection c = new SqlConnection( . . . “name” . . 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q = “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select title, price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from produ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where price &lt; 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DataAdapter a = new SqlDataAdapter(q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Fill(myLocalDB, “book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596920" y="3561120"/>
            <a:ext cx="3368520" cy="1692360"/>
          </a:xfrm>
          <a:prstGeom prst="wedgeEllipseCallout">
            <a:avLst>
              <a:gd name="adj1" fmla="val -61240"/>
              <a:gd name="adj2" fmla="val -101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= a string !!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mped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4F4-AEBC-44EF-8C92-52A0F2B5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EB7A-BCE7-46D8-9FCE-BF89D1F1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“good”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EB10-ABD0-4D16-9298-FD28C096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: draw an E/R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econd fil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69720" y="2819520"/>
            <a:ext cx="4649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34AE-652B-4ECC-99E1-B0BCCA77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escription AND look inside the starter code App_code/Provided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classes, determine the field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358-FD50-4AAF-AC3F-A1807C9F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/foreign keys: note table order mat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represent all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-able or not (don’t worry too mu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not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name or FirstName or PersonFirst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char(20) or char(200) or varchar(120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4A63-83FF-4165-BB3E-464371D5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need to run th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402080" y="1752480"/>
            <a:ext cx="42786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John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Sue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E404-9470-40F2-A5C1-FCC8BCD0C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 C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e that it does not talk about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238-E46E-4596-9605-2D531780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rte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(you do not need to understa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Website for accessing your online store BUT it misses the fragments of code that get the data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isqlsrv.cs.washington.edu/444/Phase1_Examp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45BB-C6A8-4E5B-8B19-FE74546E5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have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_Code/Phase1/Billing and Shipping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1800" y="3429000"/>
            <a:ext cx="61016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Custom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add your own fields, like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List&lt;invoice&gt; GetInvoices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A39-4BEA-49C7-8DEF-7EC0218BC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4520" y="1676520"/>
            <a:ext cx="872280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String.Forma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“SELECT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FROM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WHERE x.customerId = {0} …”, 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Context store = StoreContext.curr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ds = new DataSet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invoices = store.GetDataTable(s, ds, “invoice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continued on next slide….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5981040" y="1905120"/>
            <a:ext cx="2161800" cy="1172520"/>
          </a:xfrm>
          <a:prstGeom prst="wedgeEllipseCallout">
            <a:avLst>
              <a:gd name="adj1" fmla="val -61069"/>
              <a:gd name="adj2" fmla="val 1096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7057800" y="3581280"/>
            <a:ext cx="2099520" cy="1172520"/>
          </a:xfrm>
          <a:prstGeom prst="wedgeEllipseCallout">
            <a:avLst>
              <a:gd name="adj1" fmla="val -98736"/>
              <a:gd name="adj2" fmla="val 13336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C91-D841-4F6B-9C8C-AC9F6640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18120" y="1752480"/>
            <a:ext cx="7189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… continued from previous slid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&lt;Invoice&gt; invoiceList new List&lt;Invoice&gt; 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(datarow r in invoices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List.Add(new Invoice( r 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voice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01600" y="4648320"/>
            <a:ext cx="3296880" cy="1172520"/>
          </a:xfrm>
          <a:prstGeom prst="wedgeEllipseCallout">
            <a:avLst>
              <a:gd name="adj1" fmla="val -52879"/>
              <a:gd name="adj2" fmla="val -6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mplemen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D621-A5E8-4806-894A-35C3AAD8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68000" y="1676520"/>
            <a:ext cx="8239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Invoic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voice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here goes your code, something like that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(invoiceData);   /* may need it in several places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oid init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Id  = (int) invoiceData[“invoiceId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Date = (DateTime) invoiceData[“date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20120" y="6019920"/>
            <a:ext cx="2292120" cy="652680"/>
          </a:xfrm>
          <a:prstGeom prst="wedgeEllipseCallout">
            <a:avLst>
              <a:gd name="adj1" fmla="val 9356"/>
              <a:gd name="adj2" fmla="val -887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218560" y="6019920"/>
            <a:ext cx="2300400" cy="652680"/>
          </a:xfrm>
          <a:prstGeom prst="wedgeEllipseCallout">
            <a:avLst>
              <a:gd name="adj1" fmla="val 20583"/>
              <a:gd name="adj2" fmla="val -1121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you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0DF9-1729-404C-B29C-25F3C71A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sti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1: about 9 tables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hours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2: try 2 tuples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find out WHAT to modify in star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DROP TABLEs then go to 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ime here: anywhere from 2 to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AF7-CD68-4EF1-B24B-80479BE28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Crash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(getters/set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 DataTable, 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7240" y="5943600"/>
            <a:ext cx="75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cma-international.org/activities/Languages/Introduction%20to%20Csharp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C0C-980D-4071-A502-940B158A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#   =  C++ Sytnax  +   Java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“safe” language (like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mbedded in 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, but you should see the predecessor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FFCB-4311-4B7B-AA27-B909767DD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216080" y="2057400"/>
            <a:ext cx="688644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ystem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llo 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void Main(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.WriteLine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B742-C7F1-41A2-93FF-9FA449D98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38960" y="1523880"/>
            <a:ext cx="4713120" cy="52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ring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posi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x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{ x = value; c = “red”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ring colo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c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c = value; x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: Getters and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148360" y="1905120"/>
            <a:ext cx="383688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uvw = new Po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color = “green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*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uvw.color == “gree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1D9-6293-4B8B-9FFD-E5FE3AA3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13840" y="18367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s and setters with [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6880" y="1701720"/>
            <a:ext cx="58208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tuff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[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this[int i]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x[2*i+1]=0; return x[2*i]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x[2*i] = value; x[2*i+1]=1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01080" y="4724280"/>
            <a:ext cx="3981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ff uvw = new Stuff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12]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99] = uvw[12]*7 +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50B-A56E-4C27-8C99-53107125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904040" y="2362320"/>
            <a:ext cx="511416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Color: byt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= 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= 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= 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= 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= Red | Green | Bl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ED4-0E6B-4719-A44E-A15F0F50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ields defined in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elds defined in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reate file 1, you create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10-05T02:38:49Z</dcterms:modified>
  <cp:revision>408</cp:revision>
  <dc:subject/>
  <dc:title>PowerPoint Presentation</dc:title>
</cp:coreProperties>
</file>