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904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B55A-6516-48BF-A866-B1DBECF1E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fld id="{2F9CD4C1-16C1-471A-A07E-909CCB493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BB55-9295-4601-8CC7-1DE712F34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E1B5-432A-4F8C-AE13-6F96B983C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0B44-4853-43A4-A772-3791B6215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AED8-7B13-4FF9-94D7-9199905FA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9F9C-83FB-4FC6-AFC2-BC87F0C7A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EE5D-BCDD-428B-B76A-970E319CC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1DF7-7E00-4465-AE28-0503C323A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0CCB-F405-4143-AF63-320BB1D8A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6C32-7EBA-4A2E-B0F1-D63467301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2E16-B529-4713-BD10-227CFE8D1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ALL !  Because the system doesn’t know where the customers in seattl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68E0-6A3A-4207-9D44-3C0DD4EB1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B2EF-599C-4EA6-A0A8-8F9CD9815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BDAD-82C9-4B24-8C6E-844D21DC5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3342-B11D-421D-A9F6-4CF4C6E6C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D8D4-DDAA-4352-8ED9-0B93E5ABD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2705-3B6B-4285-B815-A939A0396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B716-CB3F-4A5E-9DF0-8DEB943E6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024A-CDD5-4CC7-A29B-2826CEE2B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20DD-C6C9-4748-8461-E353BCA26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CAB0-1189-46CB-BCB3-7FEA42BE0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372C-A426-45B8-87AB-939241D0F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5C15-FB8A-4207-9C05-77F5AD8EE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E2F1-A0F5-4BF5-A1C1-A58630A8D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7166-7C72-4E34-9413-A263CE946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10CC-956E-446F-AF26-FD5E19B47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547C-8206-41B5-A1CD-F3B4B640D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E1CA-B4E9-471B-9F38-BAA464F96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A15F-84C1-45E1-8B8F-A56055F75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C5EF-1C1A-4134-9DD4-1331365C8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5D47-6CB9-4D57-B1CC-68FFC9FF8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263F-F462-4FC6-B431-65D94E55D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8033-5F9B-45E6-87D3-1C019761C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F098-0A8D-408B-99E0-F568F5046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2124-2DF3-4803-B645-F933590EE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53E5-C2D1-4F75-85CD-ECF5CA04B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49F-423B-4108-9665-8C2B6ED7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AF46-DB8B-49AE-ABAD-9530707E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E541-DFEE-4982-B68C-D7AA0852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7610-F226-4071-8F02-695789E8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7A5E-8AAD-499F-91A9-1765A0BE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BC01-20BC-4886-9B07-E3BA75B7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0BFB-81A6-4154-9A4E-ED4678DE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EB1E-0252-4B6F-AE2F-AB7ABF23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78B-9C04-4621-AEDC-0EB1F05D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779D-B184-4373-A8F2-DDC0A776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807F-1072-46F5-B98F-DB641B7E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9182-072A-4221-88A7-31C6D965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1481-53F1-420B-A902-90719DF4C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84A9-B326-4DB7-AC1A-367E90760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5: Views,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3733920"/>
            <a:ext cx="723888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8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F7AF-EBBD-44D3-AA74-3FB609780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What About Thi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"/>
          <p:cNvSpPr/>
          <p:nvPr/>
        </p:nvSpPr>
        <p:spPr>
          <a:xfrm>
            <a:off x="4114800" y="4038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154880" y="2133720"/>
            <a:ext cx="616716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, v.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CustomerPrice 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urchase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 = v.customer 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rice &gt;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5">
            <a:hlinkClick r:id="rId1" action="ppaction://hlinksldjump"/>
          </p:cNvPr>
          <p:cNvSpPr/>
          <p:nvPr/>
        </p:nvSpPr>
        <p:spPr>
          <a:xfrm>
            <a:off x="3887280" y="487692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3F08-F63B-44F6-AD11-94A999D2F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3"/>
          <p:cNvSpPr/>
          <p:nvPr/>
        </p:nvSpPr>
        <p:spPr>
          <a:xfrm>
            <a:off x="4114800" y="4038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154880" y="2133720"/>
            <a:ext cx="616716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, v.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CustomerPrice 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urchase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 = v.customer 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rice &gt;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229040" y="4468680"/>
            <a:ext cx="663336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, v.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Purchase x, Product 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urchase v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 = v.customer 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rice &gt; 100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x.product = y.p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B933-F461-455E-886D-6E1655A25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 of Virtual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data independ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ical data partiti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izontal data partiti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(view) V reveals only what the users are allowed to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C239-63F3-4249-AC15-4665D5CD9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tic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828800" y="1600200"/>
          <a:ext cx="6781680" cy="228600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  <a:gridCol w="1447920"/>
                <a:gridCol w="1447920"/>
                <a:gridCol w="1447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b1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b1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b2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b2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3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b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b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b4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b4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41"/>
          <p:cNvSpPr/>
          <p:nvPr/>
        </p:nvSpPr>
        <p:spPr>
          <a:xfrm>
            <a:off x="306000" y="16002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4952880"/>
          <a:ext cx="2971800" cy="1463760"/>
        </p:xfrm>
        <a:graphic>
          <a:graphicData uri="http://schemas.openxmlformats.org/drawingml/2006/table">
            <a:tbl>
              <a:tblPr/>
              <a:tblGrid>
                <a:gridCol w="990360"/>
                <a:gridCol w="83844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s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962520" y="4940280"/>
          <a:ext cx="2209680" cy="1463760"/>
        </p:xfrm>
        <a:graphic>
          <a:graphicData uri="http://schemas.openxmlformats.org/drawingml/2006/table">
            <a:tbl>
              <a:tblPr/>
              <a:tblGrid>
                <a:gridCol w="990360"/>
                <a:gridCol w="1219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b1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b2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400800" y="4952880"/>
          <a:ext cx="2133720" cy="146376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b1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b2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98"/>
          <p:cNvSpPr/>
          <p:nvPr/>
        </p:nvSpPr>
        <p:spPr>
          <a:xfrm>
            <a:off x="687600" y="4419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99"/>
          <p:cNvSpPr/>
          <p:nvPr/>
        </p:nvSpPr>
        <p:spPr>
          <a:xfrm>
            <a:off x="3888000" y="4495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00"/>
          <p:cNvSpPr/>
          <p:nvPr/>
        </p:nvSpPr>
        <p:spPr>
          <a:xfrm>
            <a:off x="6402600" y="4495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01"/>
          <p:cNvSpPr/>
          <p:nvPr/>
        </p:nvSpPr>
        <p:spPr>
          <a:xfrm>
            <a:off x="4191120" y="3962520"/>
            <a:ext cx="11430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7DE4-11DF-4F46-9C4E-33C5C61AF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tic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74040" y="2514600"/>
            <a:ext cx="8410320" cy="25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Resu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1.ssn, T1.name, T1.addres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T2.resume, T3.pic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T1,T2,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T1.ssn=T2.ssn and T2.ssn=T3.ss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955440" y="5775840"/>
            <a:ext cx="6946920" cy="6498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do we use vertical partitioni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AD62-99C1-4257-B8BB-20FE88760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tic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153440" y="2133720"/>
            <a:ext cx="362196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Res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name = ‘Su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666160" y="4495680"/>
            <a:ext cx="451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tables T1, T2, T3 w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queried by the syste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F451-2D27-4BE5-B7D6-7E02C72B2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tic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ome fields are large, and rarely acc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istributed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 personal info at one site, customer profile at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ata 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 comes from one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 comes from a different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B5CC-7125-47DC-8B3A-489A5B76F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izont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280" y="2763720"/>
          <a:ext cx="4114800" cy="2649600"/>
        </p:xfrm>
        <a:graphic>
          <a:graphicData uri="http://schemas.openxmlformats.org/drawingml/2006/table">
            <a:tbl>
              <a:tblPr/>
              <a:tblGrid>
                <a:gridCol w="1054080"/>
                <a:gridCol w="851040"/>
                <a:gridCol w="1143000"/>
                <a:gridCol w="106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3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g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45"/>
          <p:cNvSpPr/>
          <p:nvPr/>
        </p:nvSpPr>
        <p:spPr>
          <a:xfrm>
            <a:off x="229320" y="182880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410080" y="2590920"/>
          <a:ext cx="3429000" cy="669960"/>
        </p:xfrm>
        <a:graphic>
          <a:graphicData uri="http://schemas.openxmlformats.org/drawingml/2006/table">
            <a:tbl>
              <a:tblPr/>
              <a:tblGrid>
                <a:gridCol w="833400"/>
                <a:gridCol w="735120"/>
                <a:gridCol w="930240"/>
                <a:gridCol w="930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Rectangle 63"/>
          <p:cNvSpPr/>
          <p:nvPr/>
        </p:nvSpPr>
        <p:spPr>
          <a:xfrm>
            <a:off x="5333760" y="216216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stomersInHou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410080" y="3886200"/>
          <a:ext cx="3429000" cy="1006560"/>
        </p:xfrm>
        <a:graphic>
          <a:graphicData uri="http://schemas.openxmlformats.org/drawingml/2006/table">
            <a:tbl>
              <a:tblPr/>
              <a:tblGrid>
                <a:gridCol w="833400"/>
                <a:gridCol w="735120"/>
                <a:gridCol w="930240"/>
                <a:gridCol w="930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3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3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86"/>
          <p:cNvSpPr/>
          <p:nvPr/>
        </p:nvSpPr>
        <p:spPr>
          <a:xfrm>
            <a:off x="5324400" y="3425760"/>
            <a:ext cx="233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stomersInSeat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410080" y="5410080"/>
          <a:ext cx="3429000" cy="1006560"/>
        </p:xfrm>
        <a:graphic>
          <a:graphicData uri="http://schemas.openxmlformats.org/drawingml/2006/table">
            <a:tbl>
              <a:tblPr/>
              <a:tblGrid>
                <a:gridCol w="685800"/>
                <a:gridCol w="762120"/>
                <a:gridCol w="1050840"/>
                <a:gridCol w="930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g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tre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Rectangle 109"/>
          <p:cNvSpPr/>
          <p:nvPr/>
        </p:nvSpPr>
        <p:spPr>
          <a:xfrm>
            <a:off x="5327640" y="4981680"/>
            <a:ext cx="24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stomersInC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10"/>
          <p:cNvSpPr/>
          <p:nvPr/>
        </p:nvSpPr>
        <p:spPr>
          <a:xfrm>
            <a:off x="4419720" y="4038480"/>
            <a:ext cx="685800" cy="486000"/>
          </a:xfrm>
          <a:prstGeom prst="rightArrow">
            <a:avLst>
              <a:gd name="adj1" fmla="val 50000"/>
              <a:gd name="adj2" fmla="val 3527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9531-3316-453F-A568-FCA9DFA5A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izont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81960" y="2514600"/>
            <a:ext cx="55983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ustom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sInHous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ION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sInSe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ION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7218-B815-4977-8F29-C6D8B646A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izont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848160" y="2514600"/>
            <a:ext cx="381996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city = ‘Seattl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510640" y="434340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ables are inspected by the syste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1508040" y="584820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3687-174C-4DD4-A4EC-2653A02DC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w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6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90DC-2B4D-4FF3-8048-684089FB1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izont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58000" y="2209680"/>
            <a:ext cx="7445520" cy="39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ustom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LECT * FROM CustomersInHoust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WHERE city = ‘Houston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ION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LECT * FROM CustomersInSe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city = ‘Seattle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ION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04920" y="161604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2610-9DB4-4E2D-B1F9-D63CA49E3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izont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305360" y="2057400"/>
            <a:ext cx="381996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city = ‘Seattl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3124080" y="37339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46920" y="5105520"/>
            <a:ext cx="43243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CustomersInSea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FB7D-B475-46E3-B136-D18F441D0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izont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archived applications and activ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937C-6065-4AF9-AFBD-C18E5093E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672920" y="5257800"/>
            <a:ext cx="5484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Public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Name,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286000" y="2666880"/>
          <a:ext cx="4572000" cy="22860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57" name="AutoShape 30"/>
          <p:cNvSpPr/>
          <p:nvPr/>
        </p:nvSpPr>
        <p:spPr>
          <a:xfrm>
            <a:off x="191520" y="4706640"/>
            <a:ext cx="1774800" cy="1432800"/>
          </a:xfrm>
          <a:prstGeom prst="wedgeEllipseCallout">
            <a:avLst>
              <a:gd name="adj1" fmla="val 62083"/>
              <a:gd name="adj2" fmla="val 5014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1"/>
          <p:cNvSpPr/>
          <p:nvPr/>
        </p:nvSpPr>
        <p:spPr>
          <a:xfrm>
            <a:off x="2211480" y="200988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32"/>
          <p:cNvSpPr/>
          <p:nvPr/>
        </p:nvSpPr>
        <p:spPr>
          <a:xfrm>
            <a:off x="7052400" y="1436400"/>
            <a:ext cx="1884600" cy="1432800"/>
          </a:xfrm>
          <a:prstGeom prst="wedgeEllipseCallout">
            <a:avLst>
              <a:gd name="adj1" fmla="val -71939"/>
              <a:gd name="adj2" fmla="val 9350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5712-0BEF-4CAA-BC7E-BB75BE5B0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04920" y="2362320"/>
          <a:ext cx="4572000" cy="22860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9"/>
          <p:cNvSpPr/>
          <p:nvPr/>
        </p:nvSpPr>
        <p:spPr>
          <a:xfrm>
            <a:off x="2275200" y="5029200"/>
            <a:ext cx="56671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BadCredit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Balance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0"/>
          <p:cNvSpPr/>
          <p:nvPr/>
        </p:nvSpPr>
        <p:spPr>
          <a:xfrm>
            <a:off x="306720" y="182880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1"/>
          <p:cNvSpPr/>
          <p:nvPr/>
        </p:nvSpPr>
        <p:spPr>
          <a:xfrm>
            <a:off x="5512680" y="1505520"/>
            <a:ext cx="1930320" cy="1866240"/>
          </a:xfrm>
          <a:prstGeom prst="wedgeEllipseCallout">
            <a:avLst>
              <a:gd name="adj1" fmla="val -79254"/>
              <a:gd name="adj2" fmla="val 3152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only &lt;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C753-ECC8-44FD-B672-02002BABA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 in SQ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, foreign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-level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-level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constraints: asse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re complex the constraint, the harder it is to check and to en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6324480" y="2438280"/>
            <a:ext cx="2210040" cy="609840"/>
          </a:xfrm>
          <a:prstGeom prst="wedgeEllipseCallout">
            <a:avLst>
              <a:gd name="adj1" fmla="val -131175"/>
              <a:gd name="adj2" fmla="val -755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6516720" y="3352680"/>
            <a:ext cx="1750680" cy="1172520"/>
          </a:xfrm>
          <a:prstGeom prst="wedgeEllipseCallout">
            <a:avLst>
              <a:gd name="adj1" fmla="val -123782"/>
              <a:gd name="adj2" fmla="val 349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662E-3CA5-4B07-9C10-182B74C40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34286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922680" y="1752480"/>
            <a:ext cx="5426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VARCHAR(2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997920" y="4343400"/>
            <a:ext cx="4217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VARCHAR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m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5637600" y="373392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CDA9-F8B4-4901-A251-2A920FF9A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with Multiple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5605200" cy="22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e 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ame, category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4800600"/>
          <a:ext cx="4191120" cy="170172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7160"/>
              </a:tblGrid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Rectangle 33"/>
          <p:cNvSpPr/>
          <p:nvPr/>
        </p:nvSpPr>
        <p:spPr>
          <a:xfrm>
            <a:off x="5103360" y="4800600"/>
            <a:ext cx="39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,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5752-6D42-44FD-B8D2-E1DA3802B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040440" cy="39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D  CHAR(1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IN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M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uctID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ame, category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296000" y="5486400"/>
            <a:ext cx="49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t most on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can be many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A659-6CAF-4037-923F-8072CDFBB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718992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(name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06600" y="4952880"/>
            <a:ext cx="570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Name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Product(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must b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6894720" y="914400"/>
            <a:ext cx="2185920" cy="1692360"/>
          </a:xfrm>
          <a:prstGeom prst="wedgeEllipseCallout">
            <a:avLst>
              <a:gd name="adj1" fmla="val -136726"/>
              <a:gd name="adj2" fmla="val -3281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t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6742080" y="4495680"/>
            <a:ext cx="2341800" cy="1692360"/>
          </a:xfrm>
          <a:prstGeom prst="wedgeEllipseCallout">
            <a:avLst>
              <a:gd name="adj1" fmla="val -93541"/>
              <a:gd name="adj2" fmla="val -9695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wri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7F52-D096-4C94-8819-6E66FFB28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59280" y="1793880"/>
            <a:ext cx="777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are relations, except that they are not physically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esenting different information to different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 has access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thers only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680120" y="3962520"/>
            <a:ext cx="51152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 = ‘Developmen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F348-17D1-49AD-B0A5-82F675882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2540160"/>
          <a:ext cx="304812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5029200" y="2540160"/>
          <a:ext cx="304812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36"/>
          <p:cNvSpPr/>
          <p:nvPr/>
        </p:nvSpPr>
        <p:spPr>
          <a:xfrm>
            <a:off x="457920" y="200664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7"/>
          <p:cNvSpPr/>
          <p:nvPr/>
        </p:nvSpPr>
        <p:spPr>
          <a:xfrm>
            <a:off x="5029920" y="200664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38"/>
          <p:cNvSpPr/>
          <p:nvPr/>
        </p:nvSpPr>
        <p:spPr>
          <a:xfrm>
            <a:off x="1523880" y="1905120"/>
            <a:ext cx="3733920" cy="609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F8D4-84C4-4D57-9C65-C21815B8D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ame, category) must be a PRIMARY K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378000" y="2057400"/>
            <a:ext cx="82929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REIG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Name, categor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Product(name, categor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9940-B8AF-4D11-87A8-FBDC0A76E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04920" y="4444920"/>
          <a:ext cx="3047760" cy="20322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876920" y="4444920"/>
          <a:ext cx="3047760" cy="20322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36"/>
          <p:cNvSpPr/>
          <p:nvPr/>
        </p:nvSpPr>
        <p:spPr>
          <a:xfrm>
            <a:off x="305640" y="39117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7"/>
          <p:cNvSpPr/>
          <p:nvPr/>
        </p:nvSpPr>
        <p:spPr>
          <a:xfrm>
            <a:off x="4877640" y="39117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during updat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upd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urchase: insert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oduct: 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40"/>
          <p:cNvSpPr/>
          <p:nvPr/>
        </p:nvSpPr>
        <p:spPr>
          <a:xfrm>
            <a:off x="1371600" y="3962520"/>
            <a:ext cx="3733920" cy="609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8A5A-8E81-49EC-AEEA-3885AFDF4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during updat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has three policies for maintaining referential integr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olating modifications (defaul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sca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fter a delete/update do a 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t-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t foreign-key field to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SSIGNMENT: 7.1.5, 7.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0955-ACAB-4B52-8CE9-C02A11304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on Attributes and Tu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on attribut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obvious meaning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any condi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on tup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8C82-3CBB-49CC-978E-172FCFFAC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74040" y="2666880"/>
            <a:ext cx="74991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HE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Name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NOT 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3"/>
          <p:cNvSpPr/>
          <p:nvPr/>
        </p:nvSpPr>
        <p:spPr>
          <a:xfrm>
            <a:off x="4923000" y="304920"/>
            <a:ext cx="4007520" cy="1692360"/>
          </a:xfrm>
          <a:prstGeom prst="wedgeEllipseCallout">
            <a:avLst>
              <a:gd name="adj1" fmla="val -39486"/>
              <a:gd name="adj2" fmla="val 13995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difference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-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1DC6-A14E-4505-B0F2-90B354A72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s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223200" y="1981080"/>
            <a:ext cx="8628120" cy="35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ASSER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yAsser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HEC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OT 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, Purcha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 = Purchase.prod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unt(*) &gt; 2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5242-EFC7-4869-BC4A-D1C0531A8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291680" y="2819520"/>
            <a:ext cx="6319440" cy="20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ustomer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x.customer, y.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Purchase x, Product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x.product = y.p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524880" y="1425600"/>
            <a:ext cx="586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rchase(customer, product, sto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98440" y="5562720"/>
            <a:ext cx="538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ustomerPrice(customer,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5941080" y="5638680"/>
            <a:ext cx="25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tab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16D8-8516-427E-9D7F-75CFEB0A0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154880" y="4191120"/>
            <a:ext cx="616716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, v.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CustomerPrice 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urchase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 = v.customer 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rice &gt;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3276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later use the vie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24880" y="914400"/>
            <a:ext cx="586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rchase(customer, product, sto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603360" y="1981080"/>
            <a:ext cx="538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ustomerPrice(customer,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F439-40CB-4DA6-9DD0-B7E4636B9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irt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only on-demand – slow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p to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iz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 ware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computed offline – fast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stal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5990400" y="1351440"/>
            <a:ext cx="2666880" cy="1692360"/>
          </a:xfrm>
          <a:prstGeom prst="wedgeEllipseCallout">
            <a:avLst>
              <a:gd name="adj1" fmla="val -80620"/>
              <a:gd name="adj2" fmla="val 14523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iscu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virtu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BE35-39F5-47E2-A480-FD9566F1A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ies Over View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Mod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145600" y="4210200"/>
            <a:ext cx="616716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, v.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CustomerPrice 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urchase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 = v.customer 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rice &gt;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067840" y="2133720"/>
            <a:ext cx="55256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Customer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x.customer, y.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Purchase x, Product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x.product = y.p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534960" y="26668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610560" y="4724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6604-72C1-4EDE-BB04-CCDD04E24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ies Over View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Mod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24240" y="2971800"/>
            <a:ext cx="8354160" cy="265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.customer, v.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x.customer, y.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Purchase x, Product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x.product = y.pname) u, Purchase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u.customer = v.customer 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price &gt;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05640" y="205740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ified 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E7C2-316D-4504-BCD2-C91003F7F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ies Over View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Mod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143440" y="2895480"/>
            <a:ext cx="663336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, v.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Purchase x, Product 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urchase v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 = v.customer 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rice &gt; 100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x.product = y.p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04920" y="205740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ified and rewritten 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Hal Perkins</cp:lastModifiedBy>
  <dcterms:modified xsi:type="dcterms:W3CDTF">2007-10-08T01:30:41Z</dcterms:modified>
  <cp:revision>345</cp:revision>
  <dc:subject/>
  <dc:title>PowerPoint Presentation</dc:title>
</cp:coreProperties>
</file>