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B1BE-2CA7-40E2-A2F8-02960C90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7014581-2B88-48B4-AAFA-8C334B5A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ACD5-F427-4CA2-887B-CF162CE1A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FB91-3054-43C9-B9CC-A4E0F2C1A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6D4C-3A4C-4723-A533-346B02B95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75BE-C795-4585-ACD2-BA7AB592F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E18-B748-4C80-8488-A6D47033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D700-3076-405A-816E-148B47DA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36EB-985C-4384-B7BB-B8B0A103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CB5A-C616-4F96-89A1-ED05F99F4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70D-D2AB-441C-856C-F6CA1F300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AD3-9E57-40F1-8253-047090200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A6A-10C5-4D57-87C2-B5187FC59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E829-0F62-4D12-95BC-DE6B8E4DF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D2E1-3380-4B20-82DE-A17E0618D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FB0-730C-4E3E-AD7A-44D961672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7101-A1A8-4663-8CE6-D575AA845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9943-6470-4777-98E9-B68D0F778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7A8-34B2-4CB3-9C75-5ABD04514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F217-48C7-4FED-9BF6-40AE0C8F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0012-8E02-4CB7-9E53-C815C742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A579-0D8D-4A95-80F5-BFAA841A0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8080-C9A1-4137-8A46-64BC697F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CC13-189B-4790-8DCC-25E80AFFD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1E38-2771-40C7-969B-6836EB220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79E8-FAF6-473B-954E-144990571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34B0-B3D9-4F88-A279-BBDD832C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9098-E827-41A2-8082-7C785C41F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8EF8-8F79-4C65-A3CB-4613E8FE3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67FC-27E7-44CD-B0B8-235591ED4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C979-A68A-46F2-9521-869AC356B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C438-8D16-44AA-BD06-A91B7F2CF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ED5-B6F8-4611-9311-521DDF47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9BD-E916-4D69-830D-9EDFF40B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154-5029-4184-A949-AEB43C60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F71-1B77-4B94-8181-9F2E4E36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118-EF2D-4C35-A778-AA57C3B2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B94-D57B-40F6-9872-4C3DBBBD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DAA-D745-493D-B4F5-B3B7ABE9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689-7702-4B0E-A812-192E26B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22C-80B0-4CD9-83C4-8151341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D91-2A25-434D-825C-EBAD7AAC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3EC-6541-4AB0-85D8-4C561F3D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10F-7289-46ED-9188-F92C3F6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9514-FAEB-4778-8B35-C2EB2653D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B1DB-5DAA-4867-9908-CEA8B5A5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723888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3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09F9-4B04-435D-A32E-22235D19F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242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A8E-9011-42AC-A498-167159391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 = “inner joins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916200" y="2819520"/>
            <a:ext cx="694440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678680" y="4495680"/>
            <a:ext cx="59691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1240" y="441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18480" y="5943600"/>
            <a:ext cx="5252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F7CA-9070-432E-A552-895B2C37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955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DCCB-A00A-497D-BE34-F142B8FF8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029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971800" y="4038480"/>
          <a:ext cx="3048120" cy="25401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56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7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20E6-D316-4503-A2BE-571F1DE6A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9288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89584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A174-286F-4020-8E29-4B25692F0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7148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29204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565E-4BFD-4A96-880C-C49487E95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62FE-543C-45C4-B4F8-FCB097866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D6D0-A982-4945-873C-FB0649D91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B247-9A17-4C5A-AEC3-41A1B1CE3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7255-CAAA-45A3-91A7-2A7DB7D6E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D42-8D91-4A09-A17F-270AF225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0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3673-1B0F-4FF3-8CF1-6B7E1570A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4A0E-7ED0-44AB-B846-F57DE267F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4191120"/>
          <a:ext cx="3505320" cy="238752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26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43D-DB22-4A4D-BEAD-0C88B1D72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B056-C02F-4EC1-96D3-0D25635DD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7F39-60B8-425D-AEB6-9D2BDA964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544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0FB9-2D50-436B-AB7E-E16EB66B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11600" y="2082960"/>
            <a:ext cx="746064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0E1-1F94-4DED-BFD0-8EBDD0638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97972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0024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06452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0092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26556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73592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00300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8150-B23E-4403-8490-6ABFD8480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220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21640" y="2514600"/>
            <a:ext cx="807012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CHAR(1)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99D-1291-4F7C-B349-B3BA90FC9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83420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DCE-A7C9-4DEB-AE4C-89B37139F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tique online music and book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atabase, access through a Web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real data and develop inventory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check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functionality (TB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1313-D145-4E7E-B5FE-5149EB5E1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45720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Group 20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84" name="Oval 21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Line 30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1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5181480" y="4114800"/>
            <a:ext cx="106704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9"/>
          <p:cNvSpPr/>
          <p:nvPr/>
        </p:nvSpPr>
        <p:spPr>
          <a:xfrm>
            <a:off x="1444680" y="5638680"/>
            <a:ext cx="568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7FB-04D7-4ECF-91B4-E1F884744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3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8BC6-D485-4ADF-AAEB-1349C9E29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3064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97900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8E17-B226-41BB-A803-E743FDE5A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2848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86160" y="3071880"/>
            <a:ext cx="6109200" cy="1008720"/>
            <a:chOff x="686160" y="3071880"/>
            <a:chExt cx="6109200" cy="1008720"/>
          </a:xfrm>
        </p:grpSpPr>
        <p:sp>
          <p:nvSpPr>
            <p:cNvPr id="216" name="Rectangle 5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68616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686160" y="5557680"/>
            <a:ext cx="4551120" cy="1008720"/>
            <a:chOff x="686160" y="5557680"/>
            <a:chExt cx="4551120" cy="1008720"/>
          </a:xfrm>
        </p:grpSpPr>
        <p:sp>
          <p:nvSpPr>
            <p:cNvPr id="219" name="Rectangle 8"/>
            <p:cNvSpPr/>
            <p:nvPr/>
          </p:nvSpPr>
          <p:spPr>
            <a:xfrm>
              <a:off x="251892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68616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0"/>
          <p:cNvGrpSpPr/>
          <p:nvPr/>
        </p:nvGrpSpPr>
        <p:grpSpPr>
          <a:xfrm>
            <a:off x="686520" y="2135160"/>
            <a:ext cx="5780160" cy="703800"/>
            <a:chOff x="686520" y="2135160"/>
            <a:chExt cx="5780160" cy="703800"/>
          </a:xfrm>
        </p:grpSpPr>
        <p:sp>
          <p:nvSpPr>
            <p:cNvPr id="222" name="Rectangle 11"/>
            <p:cNvSpPr/>
            <p:nvPr/>
          </p:nvSpPr>
          <p:spPr>
            <a:xfrm>
              <a:off x="25095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68652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3"/>
          <p:cNvGrpSpPr/>
          <p:nvPr/>
        </p:nvGrpSpPr>
        <p:grpSpPr>
          <a:xfrm>
            <a:off x="685080" y="4314960"/>
            <a:ext cx="3863520" cy="1008720"/>
            <a:chOff x="685080" y="4314960"/>
            <a:chExt cx="3863520" cy="1008720"/>
          </a:xfrm>
        </p:grpSpPr>
        <p:sp>
          <p:nvSpPr>
            <p:cNvPr id="225" name="Rectangle 14"/>
            <p:cNvSpPr/>
            <p:nvPr/>
          </p:nvSpPr>
          <p:spPr>
            <a:xfrm>
              <a:off x="251748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68508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819F-E8A2-439B-8C0E-1A7A07C8E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ot build an index on every attribute ? On every pair of attributes ?  Etc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ex selection problem is hard: balance the query cost v.s. the update cost, in a large application work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C0C7-134B-405B-A78B-27014DB5B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artner n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Studio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.NET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10F4-6E15-47C2-9577-FCF3D176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1: posted by end of week, due Oct.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e the database: fake data for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hrough a simple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9C6B-97A0-42FE-80F3-A9950E833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0B45-2121-4110-837F-C0D5A455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45E-14ED-4B7E-BB17-948AA7C41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7256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390D-FB72-4911-A5AF-295FE06AD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1152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7-10-03T05:26:19Z</dcterms:modified>
  <cp:revision>232</cp:revision>
  <dc:subject/>
  <dc:title>PowerPoint Presentation</dc:title>
</cp:coreProperties>
</file>