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227F-3749-4AF4-B9E1-6229FFDBC0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3C978A7-696A-42F5-A2BF-8B29C21C68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81F3-45F4-4D78-908D-15EBBE2D3B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38AF-26EF-4011-9D41-4D947FAAF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8BA1-1369-422B-9BF3-164523C253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5F77-4CB9-4DA4-945B-EC5518A1CC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9A29-7E07-4FA7-AF5E-CB4BDB42E4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3B53-94F9-4462-9C30-7929DF461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8F5F-7219-4F34-B8CF-BAB815A45E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DFA1-E5FD-4A98-BD01-1A3CA45EF9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C726-A542-4EF0-930C-62FACB7C57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41F4-9D51-446C-A3E6-B8FCF9130E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AE28-356C-4F95-9F36-E6443ACF22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E0F9-7FFB-4B8E-915B-BE8EBDC124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EE3D-A96E-4062-A5FF-C0B89D2B2E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944B-F8DA-413A-A9BA-64319A1DE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D9DF-46AB-4A8B-8423-51C7CA395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3981-8ADD-4033-A2B3-0A2D1E9B03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384D-FF23-4244-8898-79AFEA2D35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16C3-0515-4C26-A5D0-4497F4C70E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89A0-DFD4-45E1-A24E-B6A648E8FD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98A9-BFF3-4FD5-A1F7-E34108A882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02DB-D698-481B-9449-3A30D2CCD9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611D-8E7D-4003-BAE0-CE183A351D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DF6D-82D2-46A6-8862-58294B3F82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B05D-55A4-489D-A7BD-BE22322828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4608-615C-418F-B817-1DFCA55828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0B31-E8AD-4A96-9EBC-6AE21CE37D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4E89-4B28-4AB9-BCBD-0D531498D3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A58-5C64-4023-BE97-093431CD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A003-05FC-4906-AB04-E5FB943A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1B25-9455-4DAA-977F-4AA240E8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7E6-1870-4518-96E7-CBB32AD5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E3BE-3A3D-461E-BAB9-F0F9E370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804-341A-4368-9F90-AEF53B8D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2B2D-669B-4401-B880-C574058E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2EC7-B91C-4FA9-BC18-75F3B399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3ACE-8CCE-4B40-B4D5-82A8B68B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E6B8-CA74-4D32-94E5-ED53103A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E646-B20D-404F-84C3-43E259A6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4A4-115A-4E1E-8AD5-F89CBAB5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896D-648C-481F-B7F4-B5528E203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9CBE-3AF7-4F01-B203-74773B751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848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3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3733920"/>
            <a:ext cx="723888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(!) 1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F12F-2A3B-473F-A2BD-05A1D2DC8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EL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536040" y="4648320"/>
            <a:ext cx="7349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1981080"/>
          <a:ext cx="4038480" cy="182880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890640"/>
                <a:gridCol w="11286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562720" y="1905120"/>
          <a:ext cx="3429000" cy="180324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</a:tblGrid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alS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AutoShape 79"/>
          <p:cNvSpPr/>
          <p:nvPr/>
        </p:nvSpPr>
        <p:spPr>
          <a:xfrm>
            <a:off x="441972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12F7-18D6-443C-A833-86F0A6E21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 BY v.s. Nested Quer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12000" y="1523880"/>
            <a:ext cx="727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57680" y="3505320"/>
            <a:ext cx="862668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oduct,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y.price*y.quant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AND y.date &gt; ‘10/1/2005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.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E49C-AA90-406E-8751-989B61FE8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41320" y="3048120"/>
            <a:ext cx="6156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sum(price * quantity) AS Sum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quantity) AS Max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12"/>
          <p:cNvSpPr/>
          <p:nvPr/>
        </p:nvSpPr>
        <p:spPr>
          <a:xfrm>
            <a:off x="6445800" y="1661400"/>
            <a:ext cx="208908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B47B-7B2B-4BDF-981B-46E8F66C0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917640" y="3352680"/>
            <a:ext cx="559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m(quantity) 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05520" y="160020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query, except that we consider only products tha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100 bu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39920" y="56037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clause contains conditions on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A937-21C2-4948-88A2-AB744AC51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may contain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/or any aggregates but NO OTHER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 = is any condition on the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= is any condition on aggregate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7280640" y="3276720"/>
            <a:ext cx="1399680" cy="652680"/>
          </a:xfrm>
          <a:prstGeom prst="wedgeEllipseCallout">
            <a:avLst>
              <a:gd name="adj1" fmla="val -26962"/>
              <a:gd name="adj2" fmla="val 17293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0882-9534-4F9E-8348-B6141B1C5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4114800"/>
            <a:ext cx="7785360" cy="280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FROM-WHERE, apply condition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the attributes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condition C2 to each group (may have aggreg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aggregates in S and return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087920" y="1981080"/>
            <a:ext cx="2691000" cy="21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100A-B3C9-44C5-9A35-B89AEF9B0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SQ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around INTERSECT and EX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 v.s. sub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xamples (study at ho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0A99-AEE9-4808-ABB7-CB6299D0F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NTERSECT and EXCEP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32920" y="228600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INTERS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729600" y="228600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266688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08880" y="449568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805920" y="449568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2743200" y="5105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6636240" y="1143000"/>
            <a:ext cx="2540880" cy="1862280"/>
          </a:xfrm>
          <a:prstGeom prst="wedgeEllipseCallout">
            <a:avLst>
              <a:gd name="adj1" fmla="val -57490"/>
              <a:gd name="adj2" fmla="val 4325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R, S have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plicates, then c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e witho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OW 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35080" y="151560"/>
            <a:ext cx="6001920" cy="5094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 and EXCEPT: not in SQL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04B4-B65D-4B48-837E-0B46DC970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91224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28840" y="3352680"/>
            <a:ext cx="77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that 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s with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47480" y="4648320"/>
            <a:ext cx="7518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,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= Product.company and Product.price &lt;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2343240" y="5884920"/>
            <a:ext cx="36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Existential: easy  !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8AA9-E857-4D01-BF47-291077014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91224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80400" y="4495680"/>
            <a:ext cx="75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662920" y="556272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Universal: hard ! 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81480" y="3276720"/>
            <a:ext cx="76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that 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s with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348360" y="388620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5122-C9FD-4C05-AE5F-3FD10C864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 (6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s (6.4.3 – 6.4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, examples, exampl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entire chapter 6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5CAC-C72A-4283-917D-34287D8CB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3560" y="434340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87200" y="1828800"/>
            <a:ext cx="71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ot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ies: i.e.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96960" y="2438280"/>
            <a:ext cx="658008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773280" y="4952880"/>
            <a:ext cx="715608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1FEF-EBC6-4C15-B209-FF2CB4409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Group-by v.s. Nes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2666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uthors who wrot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1: with nested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995040" y="4038480"/>
            <a:ext cx="7163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.ur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=Wrote.logi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7056000" y="2666880"/>
            <a:ext cx="1713960" cy="1692360"/>
          </a:xfrm>
          <a:prstGeom prst="wedgeEllipseCallout">
            <a:avLst>
              <a:gd name="adj1" fmla="val -96847"/>
              <a:gd name="adj2" fmla="val 3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300600" y="1447920"/>
            <a:ext cx="34315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6B8A-F8C0-4FAB-9F3D-2E638CB21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Group-by v.s. Nes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2: SQL style (with GROUP 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833120" y="3962520"/>
            <a:ext cx="500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, Wr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login=Wrote.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wrote.url)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6983280" y="3733920"/>
            <a:ext cx="1859400" cy="1692360"/>
          </a:xfrm>
          <a:prstGeom prst="wedgeEllipseCallout">
            <a:avLst>
              <a:gd name="adj1" fmla="val -93300"/>
              <a:gd name="adj2" fmla="val -3424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898920" y="613728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utomatically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1588-0AAB-4377-A1D0-946E660E1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Group-by v.s. Nes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3429000"/>
            <a:ext cx="76107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uthors with vocabular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000 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54440" y="4321080"/>
            <a:ext cx="8736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Author, Wrote, M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uthor.login=Wrote.login AND Wrote.url=Mentions.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distinct Mentions.word) &gt; 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28960" y="1676520"/>
            <a:ext cx="30168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entions(url,w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14A2-7789-46F6-A4D4-B2D0A3E88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87240" y="2187720"/>
            <a:ext cx="458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ore(sid, s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(pid, pname, price, s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59000" y="3886200"/>
            <a:ext cx="78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stores that se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s with 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stores s.t. all their products have price &gt; 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845F-F412-46BF-92FB-35DA18150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156960" y="130320"/>
            <a:ext cx="455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,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&lt; min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452600" y="4494240"/>
            <a:ext cx="57848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price &lt;=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188280" y="2133720"/>
            <a:ext cx="8876880" cy="2288520"/>
            <a:chOff x="188280" y="2133720"/>
            <a:chExt cx="8876880" cy="2288520"/>
          </a:xfrm>
        </p:grpSpPr>
        <p:sp>
          <p:nvSpPr>
            <p:cNvPr id="176" name="Rectangle 5"/>
            <p:cNvSpPr/>
            <p:nvPr/>
          </p:nvSpPr>
          <p:spPr>
            <a:xfrm>
              <a:off x="3087000" y="2133720"/>
              <a:ext cx="5978160" cy="228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Store.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00 &lt;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AL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roduct.pric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rodu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Store.sid = Product.si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6"/>
            <p:cNvSpPr/>
            <p:nvPr/>
          </p:nvSpPr>
          <p:spPr>
            <a:xfrm>
              <a:off x="188280" y="2895480"/>
              <a:ext cx="273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most equivalent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AutoShape 7"/>
          <p:cNvSpPr/>
          <p:nvPr/>
        </p:nvSpPr>
        <p:spPr>
          <a:xfrm>
            <a:off x="5891760" y="699480"/>
            <a:ext cx="2279520" cy="652680"/>
          </a:xfrm>
          <a:prstGeom prst="wedgeEllipseCallout">
            <a:avLst>
              <a:gd name="adj1" fmla="val -104870"/>
              <a:gd name="adj2" fmla="val 6934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bot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2B3C-D510-4C03-82DB-DC1320D36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86880" y="2187720"/>
            <a:ext cx="458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or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s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pname, price, s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914760" y="3886200"/>
            <a:ext cx="464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stor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its most expensive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6937-FB05-44C0-9E19-1AFFF3D2B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127320" y="1905120"/>
            <a:ext cx="5392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, max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, Store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511720" y="3962520"/>
            <a:ext cx="58669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, x.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227520" y="15238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easy but doesn’t do what we w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12760" y="36990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304920" y="4724280"/>
            <a:ext cx="196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na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2A7B-8C5C-4408-A5BD-38CAAE7C6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528920" y="2743200"/>
            <a:ext cx="5866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, max(x.p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87520" y="1565280"/>
            <a:ext cx="67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, choose some pid arbitrarily, if there are m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highest pr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50C5-0633-4000-B60F-6B6E070D0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187600" y="1905120"/>
            <a:ext cx="2951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908640" y="5562720"/>
            <a:ext cx="70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count, all aggregations apply to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15240" y="1905120"/>
            <a:ext cx="3562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vg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“Toyo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83280" y="3657600"/>
            <a:ext cx="57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upports several aggregatio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count, min, max, av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5664-D815-4092-A011-BF7605665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14800" y="1946160"/>
            <a:ext cx="70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  applies to duplicates, unless otherwise st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14880" y="2819520"/>
            <a:ext cx="3525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categor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496040" y="274320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57560" y="434340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robably w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92280" y="5029200"/>
            <a:ext cx="4912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EB54-EF74-43D5-832A-1738F7828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29920" y="1981080"/>
            <a:ext cx="49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766440" y="3352680"/>
            <a:ext cx="412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90120" y="5029200"/>
            <a:ext cx="412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7"/>
          <p:cNvSpPr/>
          <p:nvPr/>
        </p:nvSpPr>
        <p:spPr>
          <a:xfrm>
            <a:off x="6141240" y="4024080"/>
            <a:ext cx="234144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390E-202A-488B-AB67-2DE2E1541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304200" y="1197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90720" y="1905120"/>
          <a:ext cx="6476760" cy="2895480"/>
        </p:xfrm>
        <a:graphic>
          <a:graphicData uri="http://schemas.openxmlformats.org/drawingml/2006/table">
            <a:tbl>
              <a:tblPr/>
              <a:tblGrid>
                <a:gridCol w="1619280"/>
                <a:gridCol w="1619280"/>
                <a:gridCol w="1618920"/>
                <a:gridCol w="1619280"/>
              </a:tblGrid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48"/>
          <p:cNvSpPr/>
          <p:nvPr/>
        </p:nvSpPr>
        <p:spPr>
          <a:xfrm>
            <a:off x="461520" y="5181480"/>
            <a:ext cx="412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49"/>
          <p:cNvSpPr/>
          <p:nvPr/>
        </p:nvSpPr>
        <p:spPr>
          <a:xfrm>
            <a:off x="502920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0"/>
          <p:cNvSpPr/>
          <p:nvPr/>
        </p:nvSpPr>
        <p:spPr>
          <a:xfrm>
            <a:off x="6629760" y="556272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 (= 20+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9450-AEB6-4689-9DCD-6DB6E4184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85480" y="1641600"/>
            <a:ext cx="49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536040" y="3733920"/>
            <a:ext cx="7349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049760" y="598500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mea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53960" y="2590920"/>
            <a:ext cx="55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otal sales after 10/1/2005 pe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BF82-76E8-4091-9ED9-EAE02927C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76920" y="2209680"/>
            <a:ext cx="843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roup by the attributes i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: grouped attributes and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6C5C-FBAA-4A53-B9C4-9D07D62EF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&amp;2. FROM-WHERE-GROUP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066680" y="2438280"/>
          <a:ext cx="6477120" cy="2894040"/>
        </p:xfrm>
        <a:graphic>
          <a:graphicData uri="http://schemas.openxmlformats.org/drawingml/2006/table">
            <a:tbl>
              <a:tblPr/>
              <a:tblGrid>
                <a:gridCol w="1619280"/>
                <a:gridCol w="1619280"/>
                <a:gridCol w="1619280"/>
                <a:gridCol w="161928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Hal Perkins</cp:lastModifiedBy>
  <dcterms:modified xsi:type="dcterms:W3CDTF">2007-09-29T23:54:57Z</dcterms:modified>
  <cp:revision>335</cp:revision>
  <dc:subject/>
  <dc:title>PowerPoint Presentation</dc:title>
</cp:coreProperties>
</file>