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441-70BF-4A15-9DE1-440072947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49B60EF-8170-436E-B4F8-3267B6EC8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BCB-426C-451C-BC8E-877951009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434-5ACE-443D-8A99-288AB5AE1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E9D-069D-4295-AB0A-EDDA750E8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1CD3-8228-4BF6-8A63-6E2E96EA2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3F84-2FBF-4CE7-99CC-2B4551CF6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E587-0CF6-4D84-8C6C-C7F32F9FA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8DB-9789-4BEA-BBDC-BC751DDFC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47E-BF47-4306-AC2C-67F547FC0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EA7-B2AE-4244-B2DA-3EA45E3A2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F392-0492-4F26-B4DB-E6F2DC3F5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4E4-AB6F-45C6-B31F-0F36AD257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87C-2B36-45E2-84F7-BEF5C5187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C2EF-8453-4C05-8A39-24DCE47D9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82A8-C114-4E98-ABFD-A7E69F2A9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25F-3F7E-4FBF-8EF4-CB210BCB1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D31-A33F-41A7-BBCB-FE529CB83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33E6-014E-4A31-ACB2-8368C9F6A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8C60-0BB2-42C7-BA5B-04BD72691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C76-DCDD-4FD0-B627-101FD7B53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C73-ADA8-47D4-A04B-095CAA38A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500A-CFB1-4DC6-B6BF-58749DEDF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CA1-574F-4846-BCAC-59E8682AD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163-2635-4201-A2B0-973660093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042-70A4-4A9A-B851-05BA59003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7CF-D1AA-469B-A6B0-4058B73CB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912-4327-40F9-8BFB-11FDAB129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22D2-0E05-4BFE-A3FB-55B30508C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CB00-447F-4BA7-BB06-7C8C51455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915-7583-4EC3-98C3-B0128B704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22A5-B891-4FF3-AEF6-0043B1DCE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F79C-6376-46FE-B90B-60768EA31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542-03A8-46DB-8719-B4410F2EE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527-8BDE-4701-8A5B-44D4DA254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4758-84D9-48E7-9343-AD874F1BD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31BF-C993-4663-A3E6-8F46DDD23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CB4-0A29-4B92-822F-E7809C26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6A3-B27C-4B74-8437-B55E78F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FE7-56A8-454D-A08B-713D0555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316-D32F-468E-8862-1A775992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36B-E87F-42F9-AACE-0758F1E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76F-30A1-4050-91B2-15A5BD4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392-4782-47AA-836C-93F52BF5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338-227E-4E15-BB04-E1E7996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9AB-6B31-4485-B376-7B5AB988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377-9C99-4BD8-98D6-A83EFD6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2B8-E772-4739-A487-598BE54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844-393C-443B-81F6-EDA5E92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22C-94E0-4FA3-88C2-7FC0C90D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0B75-E219-4CCD-8CDC-E04A776F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B14B-938D-49FC-AEF3-1C5C3E3FB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301040" y="3957480"/>
            <a:ext cx="444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one or more rel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94C0-9439-432D-8AC9-D75699E9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352680" y="1981080"/>
          <a:ext cx="5410440" cy="167652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35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76720" y="5257800"/>
          <a:ext cx="5410080" cy="10065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Oval 71"/>
          <p:cNvSpPr/>
          <p:nvPr/>
        </p:nvSpPr>
        <p:spPr>
          <a:xfrm>
            <a:off x="27216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A4E1-1E9C-4B87-BCF6-D8A91CF8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352680" y="1981080"/>
          <a:ext cx="5410440" cy="167652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5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7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114800" y="5257800"/>
          <a:ext cx="4057560" cy="10065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Oval 62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D1E-1AF5-4229-A6AA-D34F20DBB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7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6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7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8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19D2-B0A0-4049-AB75-AE8C0312A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sen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SELECT  Select 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Product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: ‘Seattle’ 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’ 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” -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4EB5-A0D3-45EA-AE1F-E6661487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26640" y="1981080"/>
            <a:ext cx="55317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E35-188B-41A6-9943-61C69669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324480" y="4343400"/>
          <a:ext cx="1352520" cy="16765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1905120"/>
          <a:ext cx="1352520" cy="13413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AutoShape 55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6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BE3-11CE-4CB9-8DB7-DF4F389D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572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F56F-AE0E-4F1A-89C4-E176A2606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89520" y="377208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29000" y="228600"/>
          <a:ext cx="5410080" cy="16765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AutoShape 37"/>
          <p:cNvSpPr/>
          <p:nvPr/>
        </p:nvSpPr>
        <p:spPr>
          <a:xfrm>
            <a:off x="51055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83120" y="2209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38844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388440" y="541008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51814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68594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518148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6859440" y="52578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206B-4268-4BFA-A7B7-35F3E0B2D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and Foreig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4724280"/>
          <a:ext cx="6324480" cy="1828800"/>
        </p:xfrm>
        <a:graphic>
          <a:graphicData uri="http://schemas.openxmlformats.org/drawingml/2006/table">
            <a:tbl>
              <a:tblPr/>
              <a:tblGrid>
                <a:gridCol w="1638360"/>
                <a:gridCol w="1257120"/>
                <a:gridCol w="167652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36"/>
          <p:cNvSpPr/>
          <p:nvPr/>
        </p:nvSpPr>
        <p:spPr>
          <a:xfrm>
            <a:off x="305640" y="4194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1602000" y="160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2133720"/>
          <a:ext cx="4419720" cy="19303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44792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AutoShape 107"/>
          <p:cNvSpPr/>
          <p:nvPr/>
        </p:nvSpPr>
        <p:spPr>
          <a:xfrm>
            <a:off x="196920" y="2650320"/>
            <a:ext cx="977760" cy="652680"/>
          </a:xfrm>
          <a:prstGeom prst="wedgeEllipseCallout">
            <a:avLst>
              <a:gd name="adj1" fmla="val 108444"/>
              <a:gd name="adj2" fmla="val -9988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8"/>
          <p:cNvSpPr/>
          <p:nvPr/>
        </p:nvSpPr>
        <p:spPr>
          <a:xfrm>
            <a:off x="7427880" y="4600080"/>
            <a:ext cx="1605240" cy="1172520"/>
          </a:xfrm>
          <a:prstGeom prst="wedgeEllipseCallout">
            <a:avLst>
              <a:gd name="adj1" fmla="val -111476"/>
              <a:gd name="adj2" fmla="val -2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96A-152D-41AE-834B-CE842292E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Fri., Oct.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today’s reading assig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you remember what it wa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0: Who’s your part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Wednesday; posted by this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E4C-9D46-4A1F-B168-6D1C7097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14732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53" name="Oval 6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B89-5585-465C-BFA0-6EE533FD8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2133720"/>
          <a:ext cx="4114800" cy="1371600"/>
        </p:xfrm>
        <a:graphic>
          <a:graphicData uri="http://schemas.openxmlformats.org/drawingml/2006/table">
            <a:tbl>
              <a:tblPr/>
              <a:tblGrid>
                <a:gridCol w="1047960"/>
                <a:gridCol w="857160"/>
                <a:gridCol w="106668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36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05520" y="2209680"/>
          <a:ext cx="3809880" cy="10969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1" name="AutoShape 72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73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74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75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65" name=""/>
          <p:cNvGraphicFramePr/>
          <p:nvPr/>
        </p:nvGraphicFramePr>
        <p:xfrm>
          <a:off x="6019920" y="5257800"/>
          <a:ext cx="1904760" cy="54936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AutoShape 114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17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68" name="Oval 76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77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16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Rectangle 118"/>
          <p:cNvSpPr/>
          <p:nvPr/>
        </p:nvSpPr>
        <p:spPr>
          <a:xfrm>
            <a:off x="77400" y="4419720"/>
            <a:ext cx="540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B9C6-C611-4E63-85AB-AFCBDA80A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hinese companies that manufacture products both in the ‘electronic’ and ‘toy’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845640" y="4191120"/>
            <a:ext cx="7130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na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B01-5DD2-495B-9D6F-5CF4D3F2A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4168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A22-FB04-431F-97C2-DF73F125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2133720"/>
          <a:ext cx="4114800" cy="1371600"/>
        </p:xfrm>
        <a:graphic>
          <a:graphicData uri="http://schemas.openxmlformats.org/drawingml/2006/table">
            <a:tbl>
              <a:tblPr/>
              <a:tblGrid>
                <a:gridCol w="1047960"/>
                <a:gridCol w="857160"/>
                <a:gridCol w="106668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5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105520" y="2209680"/>
          <a:ext cx="3809880" cy="10969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88" name="AutoShape 59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AutoShape 60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61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62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Oval 64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77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553080" y="5181480"/>
          <a:ext cx="1270080" cy="109692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Oval 102"/>
          <p:cNvSpPr/>
          <p:nvPr/>
        </p:nvSpPr>
        <p:spPr>
          <a:xfrm>
            <a:off x="451440" y="5524200"/>
            <a:ext cx="2238120" cy="8643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"/>
          <p:cNvSpPr/>
          <p:nvPr/>
        </p:nvSpPr>
        <p:spPr>
          <a:xfrm>
            <a:off x="62136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4AD-CFBF-49D9-AE36-C4AB7013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280" y="2133720"/>
          <a:ext cx="4114800" cy="1371600"/>
        </p:xfrm>
        <a:graphic>
          <a:graphicData uri="http://schemas.openxmlformats.org/drawingml/2006/table">
            <a:tbl>
              <a:tblPr/>
              <a:tblGrid>
                <a:gridCol w="1047960"/>
                <a:gridCol w="857160"/>
                <a:gridCol w="106668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35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105520" y="2209680"/>
          <a:ext cx="3809880" cy="10969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203" name="AutoShape 59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AutoShape 60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AutoShape 61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AutoShape 62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7" name="Oval 63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4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553080" y="5181480"/>
          <a:ext cx="1270080" cy="82260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" name="Oval 77"/>
          <p:cNvSpPr/>
          <p:nvPr/>
        </p:nvSpPr>
        <p:spPr>
          <a:xfrm>
            <a:off x="575640" y="5340240"/>
            <a:ext cx="2004840" cy="123048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8"/>
          <p:cNvSpPr/>
          <p:nvPr/>
        </p:nvSpPr>
        <p:spPr>
          <a:xfrm>
            <a:off x="62136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1899-711C-40D0-B7A1-FB1386A55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073160" y="28195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6462360" y="23605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06000" y="1752480"/>
            <a:ext cx="50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2"/>
          <p:cNvGrpSpPr/>
          <p:nvPr/>
        </p:nvGrpSpPr>
        <p:grpSpPr>
          <a:xfrm>
            <a:off x="533520" y="4152960"/>
            <a:ext cx="8339760" cy="1191240"/>
            <a:chOff x="533520" y="4152960"/>
            <a:chExt cx="8339760" cy="1191240"/>
          </a:xfrm>
        </p:grpSpPr>
        <p:sp>
          <p:nvSpPr>
            <p:cNvPr id="218" name="Rectangle 5"/>
            <p:cNvSpPr/>
            <p:nvPr/>
          </p:nvSpPr>
          <p:spPr>
            <a:xfrm>
              <a:off x="1834560" y="4152960"/>
              <a:ext cx="70387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on.pname, Compan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, Compan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.worksfor = Compan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0"/>
            <p:cNvSpPr/>
            <p:nvPr/>
          </p:nvSpPr>
          <p:spPr>
            <a:xfrm>
              <a:off x="533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533520" y="5486400"/>
            <a:ext cx="6629040" cy="1191240"/>
            <a:chOff x="533520" y="5486400"/>
            <a:chExt cx="6629040" cy="1191240"/>
          </a:xfrm>
        </p:grpSpPr>
        <p:sp>
          <p:nvSpPr>
            <p:cNvPr id="221" name="Rectangle 9"/>
            <p:cNvSpPr/>
            <p:nvPr/>
          </p:nvSpPr>
          <p:spPr>
            <a:xfrm>
              <a:off x="1835280" y="5486400"/>
              <a:ext cx="5327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.pname, 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 AS x, Company AS 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worksfor = 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533520" y="5686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0C67-937E-45A9-8CFE-655ED1F6F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430600" cy="11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09400" y="3505320"/>
            <a:ext cx="7746120" cy="29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D1C2-8212-4C2B-9C8C-DEB55910C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067120" y="274320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intuit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907560" y="5562720"/>
            <a:ext cx="6540120" cy="459720"/>
            <a:chOff x="907560" y="5562720"/>
            <a:chExt cx="6540120" cy="459720"/>
          </a:xfrm>
        </p:grpSpPr>
        <p:sp>
          <p:nvSpPr>
            <p:cNvPr id="231" name="Rectangle 7"/>
            <p:cNvSpPr/>
            <p:nvPr/>
          </p:nvSpPr>
          <p:spPr>
            <a:xfrm>
              <a:off x="907560" y="556272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s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4953600" y="556272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t what if 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10"/>
          <p:cNvSpPr/>
          <p:nvPr/>
        </p:nvSpPr>
        <p:spPr>
          <a:xfrm>
            <a:off x="2912400" y="44719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compu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79D-E2C9-4E0E-BB2F-CDD17C0D2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13080" y="388620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46400" y="297180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ities where one can find companies that manufa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bought by Joe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457560" y="1600200"/>
            <a:ext cx="42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make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roduct, bu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2CB-0876-45B5-8065-C6EFFAF8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EC16-B2D8-499D-8C60-2F9CDAE2F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299960" y="31021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5520" y="20224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equivalent to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652D-7A5D-4CF7-8128-2C312F06D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13080" y="167652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90480" y="46483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07B9-B14F-4CC3-99F4-D0F28BC1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727E-901A-40B3-80E7-CE9387791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A6D-C58E-4355-970C-DA29FE7C5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otone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Q 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we add tuples to one or more of the tabl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swer to the query cannot contain fewer t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:  all SFW (select-from-where) queries are monot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: A query with ALL is not 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: we cannot rewrite an ALL query into a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7886-29BB-4AA3-AAB0-F29E941B2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29852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7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614-282E-4B9C-A08F-B27250A8C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Very powerful ! Also much harder to optim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9A2-55F6-47C5-AAD7-2BF7874E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8480" y="3200400"/>
            <a:ext cx="87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,  SQL92 (a.k.a. SQL2),  SQL99 (a.k.a. SQL3)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: watch for fun discussions in cla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039-EAA3-42F5-82F3-AE9D629F2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133-6008-4369-9E3B-3F20A66E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2209680"/>
          <a:ext cx="7696080" cy="355608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56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7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8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0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C22C-0748-48A9-ADAA-B6645510D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64F-3805-469C-BB4B-A8765709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CHAR(20), VARCHAR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 INT, BIGINT, SMALLINT,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: MONEY, DATETI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ttribute must have an atom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ables are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A13-7295-40D8-B25F-3933EDD6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unorder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7-09-28T17:17:38Z</dcterms:modified>
  <cp:revision>266</cp:revision>
  <dc:subject/>
  <dc:title>PowerPoint Presentation</dc:title>
</cp:coreProperties>
</file>