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3524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79600" y="-360"/>
            <a:ext cx="313524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04040"/>
            <a:ext cx="313524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79600" y="9104040"/>
            <a:ext cx="313524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BA6DAB-5DF6-4280-9D3B-6C88748AB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47BF68B-348C-4C8E-A5CC-80B541058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B6A1FDF-FA8D-423D-A557-F8383D417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C0E4C50-9257-4B7D-B8AE-1C248974D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B5197AD-D40B-4F00-AA88-30E59020C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Courier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D483EEC-7D05-4AF6-88C4-8A161A597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select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from Actor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,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,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where lname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=</a:t>
            </a:r>
            <a:r>
              <a:rPr b="0" sz="1200" spc="-1" strike="noStrike">
                <a:solidFill>
                  <a:srgbClr val="ff0000"/>
                </a:solidFill>
                <a:latin typeface="Courier New"/>
              </a:rPr>
              <a:t>'Hanks'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and Actor.id =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.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and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.mid=Movie.id and Movie.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year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=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C24C094-405B-40ED-BFA4-D74B23A52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32EE86A-A4AE-4FCB-A59E-9651094C5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2B32C56-2610-491E-846F-D878DEA28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0829041-DB52-441E-9EBB-64319C6DD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34585EF-D88C-444E-ABD9-185760BA5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0D1E845-248B-4C2E-BB9B-24B1F2335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5683003-A128-4D30-AA09-5F966D251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4A0FA35-2BD3-43D0-8CBB-EBD5DA65B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9B081B1-2B74-4CC6-9AE2-52B9D76E1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472EF61-D04B-4940-933F-F8E41B72A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99C1B1E-A1F6-4385-B787-AB8927458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E67098B-2D84-4D87-8C4C-75D55D904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L = “Data Manipulation Langua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L = “Data Definition Langua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7510174-B6F1-4A70-BBF9-47D506302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94E9291-1DF2-487F-9BF7-4941672B5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2BA4DAE-3E6D-499C-B6BA-657B8EBC8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CA91168-7633-43B1-B037-6368BF5B4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F38F7A4-BD31-455D-8D5F-5F1F10EF5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0C7397F-8A12-4C65-9E8C-726122B52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4CC7201-A018-41F0-BDE9-C8ABEDD47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F30BD33-A54C-4BBE-9D16-6EBFA7B10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E3E58BE-762D-4CCE-91EC-DB8D36C4A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D20C033-3275-44C4-ABF8-2BD56978E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7D39A1F-4D3F-4372-B5FF-6AB2A2451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F128A04-BCA0-4D36-850C-FE76EB6E6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536B36E-A3AC-47BF-9E12-D1618C7FF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179960" y="9104400"/>
            <a:ext cx="3135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6CC59FB-F05A-4D37-8CA4-D0FD5A205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5520" cy="3625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6516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E92-D8F6-4F10-BFDE-882BB8F3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3A4-C445-416A-A4E6-DF74C792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496-CC4D-455F-AC27-C261E4D2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A4D-A7F5-4BE8-AD30-61B31DA6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706-3222-452E-8D5C-8F84EC36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641-248D-4D77-B4BA-890B27EF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858-480D-47A0-8E9D-2416D5D8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5C6-D23E-4F64-AC02-3548B9C1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CCC-CF91-4F30-89BB-16C63D6F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680-551E-4ACD-A65E-43043E8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6BE-9204-4371-826E-74F8177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2DC-3926-49D2-B74A-9C88CC7A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743A-9754-4434-BDD2-FE78C1A57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9F48-B4B0-49AE-87F2-E1EDCBD03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6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6AD0-22C3-489B-8669-B726CDD39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big C/C++ program written by someone else that allows us to manage efficiently a large database and allows it to persist over long period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2 (IBM), SQL Server (MS), Oracle, S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SQL, Postgr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5B4D-AA4E-4DDD-A54B-68F992094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DBMS Market Sh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2006, www.gartn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cle: 47% market share, $7.2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: 21% market share with $3.2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: 17% market with $2.6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2F9E-FEB4-4A57-949C-F40EE6673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Movie Datab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md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ors (800k), Movies (400k), Directors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layed where, who directed what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DA29-4EAD-4A4D-A50A-F39B95102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3668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_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14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2438280"/>
          <a:ext cx="449568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2445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is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133720" y="3886200"/>
          <a:ext cx="487656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od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486400" y="2438280"/>
          <a:ext cx="3251160" cy="11970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6CFC-CA46-4161-A0EC-25A467687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Database Systems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store larg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/query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cess to many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E605-9847-41CA-96C1-98D88DAEC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C530-8A3E-458F-B3FC-AC5B2673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e/store Large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984640" y="1812240"/>
            <a:ext cx="2134080" cy="652680"/>
          </a:xfrm>
          <a:prstGeom prst="wedgeEllipseCallout">
            <a:avLst>
              <a:gd name="adj1" fmla="val -99180"/>
              <a:gd name="adj2" fmla="val 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589720" y="3259800"/>
            <a:ext cx="2436840" cy="652680"/>
          </a:xfrm>
          <a:prstGeom prst="wedgeEllipseCallout">
            <a:avLst>
              <a:gd name="adj1" fmla="val -90944"/>
              <a:gd name="adj2" fmla="val 4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987520" y="4326840"/>
            <a:ext cx="929880" cy="652680"/>
          </a:xfrm>
          <a:prstGeom prst="wedgeEllipseCallout">
            <a:avLst>
              <a:gd name="adj1" fmla="val -80995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DAF1-F7D3-4BBE-AC1D-37FC5BE85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/Query/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754880" y="1552320"/>
            <a:ext cx="4139280" cy="1172520"/>
          </a:xfrm>
          <a:prstGeom prst="wedgeEllipseCallout">
            <a:avLst>
              <a:gd name="adj1" fmla="val -100375"/>
              <a:gd name="adj2" fmla="val 67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queries (grep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 are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5325480" y="2999880"/>
            <a:ext cx="2970000" cy="1172520"/>
          </a:xfrm>
          <a:prstGeom prst="wedgeEllipseCallout">
            <a:avLst>
              <a:gd name="adj1" fmla="val -91314"/>
              <a:gd name="adj2" fmla="val 4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querie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6046920" y="4326840"/>
            <a:ext cx="810720" cy="652680"/>
          </a:xfrm>
          <a:prstGeom prst="wedgeEllipseCallout">
            <a:avLst>
              <a:gd name="adj1" fmla="val -79912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352680" y="59436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: generally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B97F-2DAC-4962-90F8-80366590B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Change th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294240" y="2878920"/>
            <a:ext cx="2002320" cy="652680"/>
          </a:xfrm>
          <a:prstGeom prst="wedgeEllipseCallout">
            <a:avLst>
              <a:gd name="adj1" fmla="val -109013"/>
              <a:gd name="adj2" fmla="val -4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585840" y="4326840"/>
            <a:ext cx="929880" cy="652680"/>
          </a:xfrm>
          <a:prstGeom prst="wedgeEllipseCallout">
            <a:avLst>
              <a:gd name="adj1" fmla="val -88699"/>
              <a:gd name="adj2" fmla="val -6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6233400" y="5393520"/>
            <a:ext cx="929880" cy="652680"/>
          </a:xfrm>
          <a:prstGeom prst="wedgeEllipseCallout">
            <a:avLst>
              <a:gd name="adj1" fmla="val -264703"/>
              <a:gd name="adj2" fmla="val 168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BE11-31B0-4D6B-9EC0-D4BC11C7C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ers access/update the data concur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in 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nsufficient in databases; wh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918600" y="2820240"/>
            <a:ext cx="4812120" cy="496440"/>
          </a:xfrm>
          <a:prstGeom prst="wedgeRoundRectCallout">
            <a:avLst>
              <a:gd name="adj1" fmla="val -35773"/>
              <a:gd name="adj2" fmla="val 139129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s; inconsistent read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7924680" y="4115880"/>
            <a:ext cx="891000" cy="496440"/>
          </a:xfrm>
          <a:prstGeom prst="wedgeRoundRectCallout">
            <a:avLst>
              <a:gd name="adj1" fmla="val -101611"/>
              <a:gd name="adj2" fmla="val -4856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655160" y="5747040"/>
            <a:ext cx="3429000" cy="891000"/>
          </a:xfrm>
          <a:prstGeom prst="wedgeRoundRectCallout">
            <a:avLst>
              <a:gd name="adj1" fmla="val -38884"/>
              <a:gd name="adj2" fmla="val -91675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gical action consi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ultiple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E1A3-6C1F-4BD4-A308-7F31CE69F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483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 Hal Perk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E 548, perkins@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 Mondays 3:40-4:30 and tbd, CSE ugrad labs.  (Where would be bes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w Hemmaplardh, plardh@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ei-hun Elizabeth Tseng, lachesis@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 tb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D2AB-49E0-4A4F-812F-D3F095E77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Recover from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$100 from account #4662 to #719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762120" y="2819520"/>
            <a:ext cx="4405320" cy="246096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Read(Account, #46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amount = X.amount -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, #4662, X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Read(Account, #719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amount = Y.amount +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, #7199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225760" y="3505320"/>
            <a:ext cx="1949760" cy="652680"/>
          </a:xfrm>
          <a:prstGeom prst="wedgeEllipseCallout">
            <a:avLst>
              <a:gd name="adj1" fmla="val -78407"/>
              <a:gd name="adj2" fmla="val -93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517480" y="61722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3AF-1BAA-4197-A8BA-4F686B82D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5876640" y="2085480"/>
            <a:ext cx="2703600" cy="1172520"/>
          </a:xfrm>
          <a:prstGeom prst="wedgeEllipseCallout">
            <a:avLst>
              <a:gd name="adj1" fmla="val -111453"/>
              <a:gd name="adj2" fmla="val 31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5831640" y="3793320"/>
            <a:ext cx="1811520" cy="652680"/>
          </a:xfrm>
          <a:prstGeom prst="wedgeEllipseCallout">
            <a:avLst>
              <a:gd name="adj1" fmla="val -91601"/>
              <a:gd name="adj2" fmla="val -6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[?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5322960" y="4935240"/>
            <a:ext cx="3656160" cy="1172520"/>
          </a:xfrm>
          <a:prstGeom prst="wedgeEllipseCallout">
            <a:avLst>
              <a:gd name="adj1" fmla="val -94842"/>
              <a:gd name="adj2" fmla="val -120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/attribut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8CAF-76C8-43BD-A9B2-B2C77287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2703960" y="5105520"/>
            <a:ext cx="3041280" cy="1692360"/>
          </a:xfrm>
          <a:prstGeom prst="wedgeEllipseCallout">
            <a:avLst>
              <a:gd name="adj1" fmla="val -29148"/>
              <a:gd name="adj2" fmla="val -5633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 flipV="1">
            <a:off x="3581280" y="2742840"/>
            <a:ext cx="2819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657600" y="38862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3809880" y="4572000"/>
            <a:ext cx="2895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118040" y="3429000"/>
            <a:ext cx="2125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BC, JD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618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0" descr="C:\Documents and Settings\perkins\Local Settings\Temporary Internet Files\Content.IE5\0OHVP7JK\MCj04114760000[1].wmf"/>
          <p:cNvPicPr/>
          <p:nvPr/>
        </p:nvPicPr>
        <p:blipFill>
          <a:blip r:embed="rId1"/>
          <a:stretch/>
        </p:blipFill>
        <p:spPr>
          <a:xfrm>
            <a:off x="6400800" y="2133720"/>
            <a:ext cx="1366920" cy="101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C:\Documents and Settings\perkins\Local Settings\Temporary Internet Files\Content.IE5\0L62EO6B\MPj04223000000[1].jpg"/>
          <p:cNvPicPr/>
          <p:nvPr/>
        </p:nvPicPr>
        <p:blipFill>
          <a:blip r:embed="rId2"/>
          <a:stretch/>
        </p:blipFill>
        <p:spPr>
          <a:xfrm>
            <a:off x="6400800" y="342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C:\Documents and Settings\perkins\Local Settings\Temporary Internet Files\Content.IE5\QYEAXM5I\MPj04225540000[1].jpg"/>
          <p:cNvPicPr/>
          <p:nvPr/>
        </p:nvPicPr>
        <p:blipFill>
          <a:blip r:embed="rId3"/>
          <a:stretch/>
        </p:blipFill>
        <p:spPr>
          <a:xfrm>
            <a:off x="6705720" y="4572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C:\Documents and Settings\perkins\Local Settings\Temporary Internet Files\Content.IE5\0L62EO6B\MCj04242240000[1].wmf"/>
          <p:cNvPicPr/>
          <p:nvPr/>
        </p:nvPicPr>
        <p:blipFill>
          <a:blip r:embed="rId4"/>
          <a:stretch/>
        </p:blipFill>
        <p:spPr>
          <a:xfrm>
            <a:off x="2209680" y="3341520"/>
            <a:ext cx="91152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0A8-78AC-45E4-A06F-71879B042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0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93668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_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14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2438280"/>
          <a:ext cx="449568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2445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is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133720" y="3886200"/>
          <a:ext cx="487656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od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486400" y="2438280"/>
          <a:ext cx="3251160" cy="11970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61" name="AutoShape 56"/>
          <p:cNvSpPr/>
          <p:nvPr/>
        </p:nvSpPr>
        <p:spPr>
          <a:xfrm>
            <a:off x="6837120" y="1365840"/>
            <a:ext cx="2095560" cy="5288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7"/>
          <p:cNvSpPr/>
          <p:nvPr/>
        </p:nvSpPr>
        <p:spPr>
          <a:xfrm>
            <a:off x="76320" y="533412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8"/>
          <p:cNvSpPr/>
          <p:nvPr/>
        </p:nvSpPr>
        <p:spPr>
          <a:xfrm>
            <a:off x="231480" y="5541840"/>
            <a:ext cx="201204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9"/>
          <p:cNvSpPr/>
          <p:nvPr/>
        </p:nvSpPr>
        <p:spPr>
          <a:xfrm>
            <a:off x="230760" y="6151680"/>
            <a:ext cx="38422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_fname_index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0"/>
          <p:cNvSpPr/>
          <p:nvPr/>
        </p:nvSpPr>
        <p:spPr>
          <a:xfrm>
            <a:off x="2599200" y="5541840"/>
            <a:ext cx="347040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ws_title_index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1"/>
          <p:cNvSpPr/>
          <p:nvPr/>
        </p:nvSpPr>
        <p:spPr>
          <a:xfrm>
            <a:off x="4344840" y="6151680"/>
            <a:ext cx="172404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2"/>
          <p:cNvSpPr/>
          <p:nvPr/>
        </p:nvSpPr>
        <p:spPr>
          <a:xfrm>
            <a:off x="6703920" y="6106320"/>
            <a:ext cx="2216160" cy="5288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4802-14E6-4F01-A57C-3133CB166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Database Systems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store larg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/query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cess to many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6708240" y="2210760"/>
            <a:ext cx="1628280" cy="496440"/>
          </a:xfrm>
          <a:prstGeom prst="wedgeRoundRectCallout">
            <a:avLst>
              <a:gd name="adj1" fmla="val -130013"/>
              <a:gd name="adj2" fmla="val 87314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6707520" y="3160080"/>
            <a:ext cx="1572120" cy="496440"/>
          </a:xfrm>
          <a:prstGeom prst="wedgeRoundRectCallout">
            <a:avLst>
              <a:gd name="adj1" fmla="val -127472"/>
              <a:gd name="adj2" fmla="val 15287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D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6931800" y="4115160"/>
            <a:ext cx="1880280" cy="891000"/>
          </a:xfrm>
          <a:prstGeom prst="wedgeRoundRectCallout">
            <a:avLst>
              <a:gd name="adj1" fmla="val -96476"/>
              <a:gd name="adj2" fmla="val -17611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2970360" y="5792040"/>
            <a:ext cx="3030480" cy="496440"/>
          </a:xfrm>
          <a:prstGeom prst="wedgeRoundRectCallout">
            <a:avLst>
              <a:gd name="adj1" fmla="val -54203"/>
              <a:gd name="adj2" fmla="val -16543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, Revoke,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F795-6D3E-4D0C-9B3C-1766714AA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 - TENTATIVE 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/26: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1: SQL in C#; Database Design: E/R, 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5: Views, Constraints,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12: Databas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17: XML/XPath/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26: Transactions, con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/14: Database storage, ind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/26:  Physical operators,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endar on web site – updated as we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5576-FCD1-432C-ABB0-15F06F165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 (TENTATI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mework 3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ject        2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dterm     1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           2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angibles:   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 days: Up to 4 total per quarter, at most 2 on any particular assignment/project phase.  Otherwi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 late assignment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D72B-6C7C-4FEC-AB1D-D52B0BAB4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 for Fri, Sept.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  (link on the course we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one-time assignment, no grading, 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ructive and lots of fun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06F2-D0B1-4427-AC58-24E37FA22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this Friday!  (Don’t panic – page with your name/picture/etc.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1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Oct. 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t is posted already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2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nceptual design: E/R diagrams, Normal For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Oct. 1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3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XML/Xque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Nov.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4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ansactions: concurrency control and recove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Nov. 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5FB1-D62A-4E19-A842-EE813D03A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utique Online 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38320"/>
            <a:ext cx="83059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artner details; due middle of next wee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1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esign a Database Schema, Build Related Data 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Oct. 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2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mport data, Web Inventory Data 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Oct. 2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3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heckout 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Nov. 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4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atabase Tuning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Nov. 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490D-3FF1-40FE-A8C9-97735F151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b site: www.cs.washington.edu/44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ctures will be available here (usually after cla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will be posted here (HW1 is pos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cussion boa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ll be linked from web s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ease watch, con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iling li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eryone automatically subscrib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inly for announcements from course staff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14D2-5B6C-4059-997F-7496490C3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, C#, ASP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provide starter code in C#, ASP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ort data is in SQL/XML on SQ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technologies: MySQL, postgres, PH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upported (you are on your 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ry about the SQL/XML par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B0C2-54AC-4B3D-9F46-64C4213BE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SQL Server – To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Server Management Stud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er Type = Database Eng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er Name = IISQLSR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hentication = SQL Server Authent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in = your UW email neti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your CSE email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u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 netid without “u.washington.edu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word = 2007#cse4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your password on first login (must be “secure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tails on the course we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play with IMDB, start thinking about HW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D262-E939-4E69-B52A-ADD794FD0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hapters are good.  Some are not (functional dependecie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TO CLASS !  ASK QUESTIONS ! READ SLID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86BE-6488-49D6-B5ED-28EED39A5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at the Engineering Library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reserv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0279-1181-4674-A552-31B6B81B0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through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1, Homewor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9783-6186-4F07-96BE-2E62A6F86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D497-5867-45B0-A167-B4511D744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storing rela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s database; payroll database; UW’s students database; Amazon’s products database; airline reservation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6615-AC1B-4186-B087-D64268E65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Hal Perkins</cp:lastModifiedBy>
  <cp:lastPrinted>1998-09-26T21:35:18Z</cp:lastPrinted>
  <dcterms:modified xsi:type="dcterms:W3CDTF">2007-09-26T18:42:01Z</dcterms:modified>
  <cp:revision>540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