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1B7-6833-4D73-8FCC-CBFE3095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695-E349-4EF6-98F5-E97E467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3AB-87C7-459A-AB26-4C17CD63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A61-7C90-4D34-847E-6F5EE7C7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6CC-4B65-46D0-B5C6-10179A1B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A74-E47E-4E94-9163-2492ADB7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00E-10D1-4884-B7E3-EC87032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413-81AA-493C-AFFC-D0E15C29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EE9-3621-43EC-8826-012BEFD4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230-D072-45A2-9C8D-95F7E06D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C43-401E-4AD9-9E69-03DEBC9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677-AA28-4C34-B914-A8E6B7C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2196-0A1A-43F2-978C-5A260AB29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March 10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061-3B63-45DB-B297-ACCEBF274E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3: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4C9-07D7-4677-9EEB-F4CFC49023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as already on the midterm, so will likely be a small question or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96D-81DD-4607-A4AF-6FE31D7ABF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798-7410-4703-BAD3-5FB984F45F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4: Database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E69-738A-477E-97B2-401CED9B88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hash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81D-472B-428C-9054-1C212075FC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536-569B-41CC-8F80-99F4D288A2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B2C-367A-49DB-8C5B-43C40EAA42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: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: 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: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s: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2CA-6A05-439C-8A0F-95542D9E5F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E9B-F1F4-4026-A351-5007EC05A0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Wednesday, March 15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2:30-4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207-3A1C-40C0-ACF5-896CBA5D7C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odeling/relational model/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F99-120A-4050-99AC-6DDD3598CD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50E-EBFC-461F-AC07-01653DE0C4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037-5853-469E-9B99-914117E44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CF7-6651-442A-912A-CF133CE18A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088-AA63-45C2-B7D1-643C9A0AED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2: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/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D3D-24D7-4187-8759-A329DD22B8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ng data from XML (often in Xpa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ng new XML values (RETUR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(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7A4-D2D9-43E0-B359-29EC85BF93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3-10T05:23:04Z</dcterms:modified>
  <cp:revision>501</cp:revision>
  <dc:subject/>
  <dc:title>Lecture 09:</dc:title>
</cp:coreProperties>
</file>