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236-9537-4121-938B-7C7BF64B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538-5955-460C-BB77-F9447493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382-AE5E-4E68-BC06-D00C4BBA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CB9-3447-4D7E-9C0D-136C45CA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32E-59A9-4FCF-8DD0-B147FC7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2F3-4E08-492D-9598-8CD2F86F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DBF-F493-4846-87C1-5EF86495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982-89A4-4210-A342-F6B44B8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F15-6E52-49B8-B018-95A4602A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4EB-42EF-4DE0-9F2A-B2AECB9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E8B-C2A1-4038-A865-B9554D64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53E-DE86-48A1-9ED4-345D2E0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213-502E-4CBD-B0F2-65042E2BD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B96-514F-49E5-95CE-33653C488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29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8248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9724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46E-3074-491C-B9D4-35DD577C3C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84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D4D-AFDD-43C6-B819-4A2E15EABB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20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68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0CE-F2BD-482E-91B3-121B9E7D6C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57B-9762-412C-85FE-622763CE4D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SQL query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pla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quivalent plans P = P’ = P’’ =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“cheapest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48200" y="3336120"/>
            <a:ext cx="1783080" cy="652680"/>
          </a:xfrm>
          <a:prstGeom prst="wedgeEllipseCallout">
            <a:avLst>
              <a:gd name="adj1" fmla="val -35773"/>
              <a:gd name="adj2" fmla="val 106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85D-A68E-43B2-9C22-EE2705E1F6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2156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136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268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2864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2568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468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0924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3096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6600" y="5362200"/>
            <a:ext cx="4089240" cy="1172520"/>
          </a:xfrm>
          <a:prstGeom prst="wedgeEllipseCallout">
            <a:avLst>
              <a:gd name="adj1" fmla="val 42768"/>
              <a:gd name="adj2" fmla="val -1153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2513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99160" y="1217880"/>
            <a:ext cx="29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se(buyer, c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(name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B3A-F531-4CE7-8F0C-5918125CD8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0280" y="2251080"/>
            <a:ext cx="395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sum(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quantity)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4520" y="54864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quantity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92520" y="4038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92520" y="30481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600" y="5362200"/>
            <a:ext cx="4089240" cy="1172520"/>
          </a:xfrm>
          <a:prstGeom prst="wedgeEllipseCallout">
            <a:avLst>
              <a:gd name="adj1" fmla="val 62347"/>
              <a:gd name="adj2" fmla="val -149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0400" y="2056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6960" y="3123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EEE-3442-49B9-B448-B67FBED0B0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595-3227-4041-819A-8D4A29A0F1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E05-6DA7-4647-92F5-19D25F1F30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C5B-2AD8-4A9D-ABEA-5A36FEF624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841-9B4C-4AD3-898E-D1382A0D4B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040-0DDD-4FBC-8D37-235FD96591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312-CA3A-4126-9D01-1CE20AD4BC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6C6-8E8C-4956-80A2-32535A6AD1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588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AC7-7445-4DB9-80B5-F3A59B0371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48B-1C95-43D4-81DF-EC9809149B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9341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42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43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230-D706-4775-9253-608B4C9AA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816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CF0-C3CF-4E16-8E27-A77B6195B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100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0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B35-1CF8-4F55-BF52-3FFF2BC52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52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788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8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112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73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0884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135-507F-411F-BC46-151263559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796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388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08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232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332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DED-33B6-4DFD-BB5A-5EEB959A6C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3-08T04:25:20Z</dcterms:modified>
  <cp:revision>375</cp:revision>
  <dc:subject/>
  <dc:title>Lecture 09:</dc:title>
</cp:coreProperties>
</file>