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01B7B6-D74D-49B1-8867-EBC78098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AA10AD-400D-4E06-8E51-C035F1B6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87E73A-0C0F-4FD6-AA14-1F9B035F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72C21F-94F6-49B4-8FC3-156917B9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FACBB4-EA63-4E82-9618-BD6FD71C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3A80E3-5202-4F0A-A48E-2132B90B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534-4692-46EA-9525-E74358D9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FF4-FA54-4F94-8D6C-AEE3223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E1F-C54D-4A5C-AF24-B72AC327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EEC-3A03-4B7F-9C2F-5E4EC87D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7E4-B34D-4B99-8B3C-070ECD9D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41E-8535-4E6D-8BFD-3CC8921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68F-ABD4-462C-9BEF-C23A6B5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1D4-0911-41C9-890A-7E07352D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07C-4E15-4FDB-9A21-4341F5A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8C6-7DB8-47D6-AF5F-E85A2F1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14E-0EDD-42DF-B056-9CF1CB9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5C2-7C09-4CC8-A3BB-11F6446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7D4-8BCD-4250-B621-F11EE1A3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March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663-EA3F-4E9B-AFF4-81BE9DDD79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ssumed to be delivered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size of main memory buffer pool, in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15D-81D3-4469-943B-77A038A72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&lt;&lt;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3E7-1732-4231-8032-C6D5D48C10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D8C-CEFE-4006-B51D-91896F9B0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C15-47D0-414D-A427-46A8FA99C3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C7F-5A0E-4227-8307-1E00A2CE32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195-51E2-455E-9B5C-5F3CE65AFC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B69-BD16-4BF5-A598-DF4616EBFE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8E9-4287-49FC-B0F3-3B39DD1F4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44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774-DB1D-4601-916D-B5B44411FF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7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6400" y="39355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7320" y="3247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8440" y="26258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119280" y="2979720"/>
            <a:ext cx="1404360" cy="2026440"/>
            <a:chOff x="6119280" y="2979720"/>
            <a:chExt cx="1404360" cy="2026440"/>
          </a:xfrm>
        </p:grpSpPr>
        <p:grpSp>
          <p:nvGrpSpPr>
            <p:cNvPr id="19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9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9280" y="39337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788440" y="2624040"/>
            <a:ext cx="186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141-5653-4F2B-A856-1181FFB6FC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D7C-432A-424D-AD46-D2B7E5BF8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7D6-D4EC-4410-9445-B01378048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212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22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43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252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626-37D1-418F-9DAB-6356B3016F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A51-C80C-48FE-AF88-EB60EE5730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D7E-0FCB-41DB-AA2C-5E7D5EEBAE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401-E19B-42DE-9CD0-21D877B711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82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305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326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335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45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75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707-E3CF-49DB-BF16-A4A550A0CF7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26E-B1AE-438D-BB3D-8486643CE0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file of size B with memory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hys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iscuss only 2-pass sorting, for when B &lt;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695-6B99-4AD7-A0D4-E86DC40CB27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518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30304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22480" y="34196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22480" y="44197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76320" y="30654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77080" y="35053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91480" y="37861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11520" y="28195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57880" y="48625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48960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216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5908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11160" y="4483440"/>
            <a:ext cx="1530000" cy="367200"/>
            <a:chOff x="911160" y="4483440"/>
            <a:chExt cx="1530000" cy="367200"/>
          </a:xfrm>
        </p:grpSpPr>
        <p:sp>
          <p:nvSpPr>
            <p:cNvPr id="411" name=""/>
            <p:cNvSpPr/>
            <p:nvPr/>
          </p:nvSpPr>
          <p:spPr>
            <a:xfrm>
              <a:off x="99360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1116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697440" y="4416840"/>
            <a:ext cx="1536120" cy="348480"/>
            <a:chOff x="6697440" y="4416840"/>
            <a:chExt cx="1536120" cy="348480"/>
          </a:xfrm>
        </p:grpSpPr>
        <p:sp>
          <p:nvSpPr>
            <p:cNvPr id="414" name=""/>
            <p:cNvSpPr/>
            <p:nvPr/>
          </p:nvSpPr>
          <p:spPr>
            <a:xfrm>
              <a:off x="6780240" y="44168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97440" y="44168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78492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5184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98520" y="34639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67280" y="40176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22480" y="36972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6036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91480" y="43401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5800" y="36050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29718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49528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50600" y="5792400"/>
            <a:ext cx="4329360" cy="627480"/>
          </a:xfrm>
          <a:prstGeom prst="wedgeRoundRectCallout">
            <a:avLst>
              <a:gd name="adj1" fmla="val 27481"/>
              <a:gd name="adj2" fmla="val -15400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of length M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5BE-2F04-47ED-B73B-B45D2BDAD6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43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46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82120" y="495648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6640" y="6018840"/>
            <a:ext cx="49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4100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394-8994-4B91-8C5C-9ABE221338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AF8-BC85-4126-A869-F11B5FD46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+write+read = 3B(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7D5-51DE-403A-ADBB-29B6D44BE87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do a two step merge sort, but change one of th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ich step needs to be changed and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5A8-44DA-42C6-BB80-B9EEFC71F6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059-263C-43F4-BB00-542D043C84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a: initial runs for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b: initial runs for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erge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36E-7188-49D9-8D37-9B1EB83ECE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37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4370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37480" y="2219400"/>
            <a:ext cx="1393560" cy="25380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98440" y="260820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98440" y="3608280"/>
            <a:ext cx="112896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2640" y="2254320"/>
            <a:ext cx="1387440" cy="26496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67200" y="441972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53400" y="2693880"/>
            <a:ext cx="1118880" cy="15732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67440" y="297504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87480" y="2008080"/>
            <a:ext cx="3625920" cy="279252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34200" y="4051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408456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848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3540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987480" y="3672360"/>
            <a:ext cx="1530000" cy="367200"/>
            <a:chOff x="987480" y="3672360"/>
            <a:chExt cx="1530000" cy="367200"/>
          </a:xfrm>
        </p:grpSpPr>
        <p:sp>
          <p:nvSpPr>
            <p:cNvPr id="495" name=""/>
            <p:cNvSpPr/>
            <p:nvPr/>
          </p:nvSpPr>
          <p:spPr>
            <a:xfrm>
              <a:off x="106992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8748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773760" y="3605400"/>
            <a:ext cx="1536120" cy="348480"/>
            <a:chOff x="6773760" y="3605400"/>
            <a:chExt cx="1536120" cy="348480"/>
          </a:xfrm>
        </p:grpSpPr>
        <p:sp>
          <p:nvSpPr>
            <p:cNvPr id="498" name=""/>
            <p:cNvSpPr/>
            <p:nvPr/>
          </p:nvSpPr>
          <p:spPr>
            <a:xfrm>
              <a:off x="6856560" y="360540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3760" y="360540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124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2816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274840" y="246852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74840" y="30225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27720" y="2652840"/>
            <a:ext cx="642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527720" y="330012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16480" y="320688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98440" y="288612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55840" y="366876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27720" y="3022560"/>
            <a:ext cx="64260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2792520"/>
            <a:ext cx="822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67440" y="352908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2120" y="279396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58440" y="380376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1639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52680" y="28497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43200" y="319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01640" y="292608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29880" y="5236920"/>
            <a:ext cx="494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R)/M runs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S)/M runs for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513-CB01-4B75-A4EC-F3DF676DDF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3B4-9FEC-4B96-ADF3-C6A2D779EF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5C9-2590-4241-8BB6-5F98DFCC99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FB3-C5E7-45EB-B53F-7F64EF387E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4CC-36D0-4A38-8275-061593ADEE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0A4-7E0C-4121-87DB-AFC7276069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038-ABF6-4807-875F-D55B67F6E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Nested Loop: B(S) + B(R)*B(S)/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: 3B(R)+3B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B(R),B(S)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Join: 3B(R)+3B(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+B(S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Join: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22-7CFF-4E5A-A897-B85127623D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D3B-B8FB-4924-929D-9554662D8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89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1720" y="1425600"/>
            <a:ext cx="36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9CA-18BF-4E06-8F61-0150CBB1D2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3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7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7C8-4C2A-45B0-9B7D-588276390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FCF-BD87-45B4-A956-EB77F44A4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6C6-AB37-4FDC-8BA7-11FA40E23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suciu</cp:lastModifiedBy>
  <dcterms:modified xsi:type="dcterms:W3CDTF">2006-03-06T19:42:57Z</dcterms:modified>
  <cp:revision>337</cp:revision>
  <dc:subject/>
  <dc:title>Lecture 09:</dc:title>
</cp:coreProperties>
</file>