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B75-E428-45AE-B25C-3C4958CE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E42-68B9-4DC5-BC52-8809E223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626-BEBA-4F40-9378-1CC01CFE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575-EC83-4E59-B47F-79E636EA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7D3-A5F6-4EF9-BFC9-A1A3C0D5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EB6-5375-4E6D-91EC-7EBFB662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02B-2D37-46ED-875D-A6B82C62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BEC-E628-4C8E-8187-6006DA5A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BCC-3F3E-433E-8141-5871902E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3E6-02DA-42F0-9AA7-0D3405CC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26B-F6F6-4A65-937F-4EEC37BC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215-F0BD-4B60-99DB-C044AE58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0D4B-5AF8-4D52-AC60-26EB3D7FF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1: Hash Tab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March 3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199-1A0D-4B33-BF2B-E685445272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=1, n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, k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only look at the first bit (0 or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C1B-AFF2-4BCC-B999-FD764C852D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8FB-294E-4607-93B1-876609FD92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xtend table, spli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become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110), 1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44A-D28F-4FC3-935B-DC28B3ECAE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9E5-2BE7-4AD5-B393-958FD19920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0000, then 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plit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791320" y="2666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(000), 0(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B20-E346-4952-B533-3E38C404C2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plitting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(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D7D-26C8-48DE-AC44-5EB41212F7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buckets (blocks)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entries in the hash table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CE6-6096-456A-BCBC-C7B0B125B2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verflow blocks: access always on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can be costly and disrup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n extension table may no longer fit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FAC-EAD1-4C19-9E2C-07E137BD93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extend only one entry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n= no longer a power of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i be such tha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= n 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omputing h(k), use last i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ast i bits represent a number &gt; n, change msb from 1 to 0 (get a number &lt;=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08C-5A18-4568-AF88-4F6EC1F59B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809880" y="358128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(01)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BIT FL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1F0-384B-462F-AAF3-D3F52C2297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 (1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D27-0FAB-40F4-8A4C-DB97E4A6F2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000: overflow block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6576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657600" y="48769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676520" y="44197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676520" y="35053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 flipV="1">
            <a:off x="2133720" y="36576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28600" y="430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28600" y="46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28600" y="50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209680" y="41911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65760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71500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008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84582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86A-BD9E-4C6D-B093-7ED0A793DF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: independent on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n:=n+1 when average number of records per block exceeds (say) 8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D9A-8E6E-402C-ADA5-AF222AD5CC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n=3 to n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need to tou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lock (which one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30440" y="2743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30440" y="44197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49360" y="39625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49360" y="30481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 flipV="1">
            <a:off x="1006560" y="32004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656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8784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4419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082520" y="37339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530440" y="35812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458784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02080" y="60958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7002720" y="4426560"/>
            <a:ext cx="1828800" cy="9003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2701" y="11029"/>
                </a:moveTo>
                <a:arcTo wR="-8102" hR="-8102" stAng="10702823" swAng="-10702823"/>
                <a:lnTo>
                  <a:pt x="0" y="10800"/>
                </a:lnTo>
                <a:arcTo wR="10800" hR="10800" stAng="10800000" swAng="10702823"/>
                <a:lnTo>
                  <a:pt x="24295" y="10418"/>
                </a:lnTo>
                <a:lnTo>
                  <a:pt x="20362" y="14580"/>
                </a:lnTo>
                <a:lnTo>
                  <a:pt x="16200" y="106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524-AE6D-4241-B17B-B1DB6C2A4B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n=3 to n=4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from n=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n=5 (new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touch eve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block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608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D53-AA02-42AD-8D68-5727E73903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index struc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r than B+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r then B+ trees (when not fu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ade rapidly (when fu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tensively during query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D8E-0D10-4C58-8102-E513671D1A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MS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a SQL engine wor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que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al algebra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pl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timized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each operator of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A18-9EC6-409F-8CBA-34A02DA705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7664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2532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8" idx="2"/>
            <a:endCxn id="279" idx="0"/>
          </p:cNvCxnSpPr>
          <p:nvPr/>
        </p:nvCxnSpPr>
        <p:spPr>
          <a:xfrm>
            <a:off x="4478400" y="2717280"/>
            <a:ext cx="216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9" idx="2"/>
            <a:endCxn id="280" idx="0"/>
          </p:cNvCxnSpPr>
          <p:nvPr/>
        </p:nvCxnSpPr>
        <p:spPr>
          <a:xfrm>
            <a:off x="4479480" y="357516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80" idx="2"/>
            <a:endCxn id="281" idx="0"/>
          </p:cNvCxnSpPr>
          <p:nvPr/>
        </p:nvCxnSpPr>
        <p:spPr>
          <a:xfrm flipH="1">
            <a:off x="4478040" y="443232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1" idx="2"/>
            <a:endCxn id="282" idx="1"/>
          </p:cNvCxnSpPr>
          <p:nvPr/>
        </p:nvCxnSpPr>
        <p:spPr>
          <a:xfrm>
            <a:off x="4478400" y="528948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7" idx="2"/>
            <a:endCxn id="278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7452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27640" y="2725200"/>
            <a:ext cx="1582200" cy="1172520"/>
          </a:xfrm>
          <a:prstGeom prst="wedgeEllipseCallout">
            <a:avLst>
              <a:gd name="adj1" fmla="val -157912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57800" y="4096800"/>
            <a:ext cx="1726560" cy="1172520"/>
          </a:xfrm>
          <a:prstGeom prst="wedgeEllipseCallout">
            <a:avLst>
              <a:gd name="adj1" fmla="val -157064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E32-415A-4E44-9C01-9E8507943D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 for creating new relations from existing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place in the big pi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55960" y="4422600"/>
            <a:ext cx="1453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88600" y="4788000"/>
            <a:ext cx="116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01680" y="4788000"/>
            <a:ext cx="2116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5" idx="3"/>
            <a:endCxn id="296" idx="1"/>
          </p:cNvCxnSpPr>
          <p:nvPr/>
        </p:nvCxnSpPr>
        <p:spPr>
          <a:xfrm>
            <a:off x="2614320" y="5017680"/>
            <a:ext cx="1569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6" idx="3"/>
            <a:endCxn id="297" idx="1"/>
          </p:cNvCxnSpPr>
          <p:nvPr/>
        </p:nvCxnSpPr>
        <p:spPr>
          <a:xfrm>
            <a:off x="5357880" y="5017680"/>
            <a:ext cx="124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607680" y="590868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65600" y="580716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bag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6C4-79B8-4320-8223-39558CD031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2F9-A826-4DDA-BE56-BFE2ADB9F7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on and 2.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–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mployees --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CBB-FB80-4A58-933B-E041BD4282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 hash tables are much like main memory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bas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ash function f(k) maps a key k to {0, 1, …, n-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in bucket f(k) a pointer to record with key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: bucket = block, use overflow blocks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C35-321E-4547-ADD4-283D8A8412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interse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derived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= R1 – (R1 –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xpressed as a join (will see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ized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686-0836-4706-8B2C-3C653FFB05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ll tuples which satisfy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ame = “Smith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c can be =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g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l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97B-9EF3-4D57-B0DB-C0B3A972C8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78920" y="3505320"/>
            <a:ext cx="377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90920" y="4343400"/>
          <a:ext cx="6019560" cy="1638360"/>
        </p:xfrm>
        <a:graphic>
          <a:graphicData uri="http://schemas.openxmlformats.org/drawingml/2006/table">
            <a:tbl>
              <a:tblPr/>
              <a:tblGrid>
                <a:gridCol w="2006280"/>
                <a:gridCol w="2006640"/>
                <a:gridCol w="2006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248-95E3-4299-9354-98E5120737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columns, then remov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schema:   Answer(SSN, 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540-78C0-483F-8BB7-BABCAE0828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71360" y="3276720"/>
            <a:ext cx="378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ame,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3505320" y="4267080"/>
          <a:ext cx="4012920" cy="1638360"/>
        </p:xfrm>
        <a:graphic>
          <a:graphicData uri="http://schemas.openxmlformats.org/drawingml/2006/table">
            <a:tbl>
              <a:tblPr/>
              <a:tblGrid>
                <a:gridCol w="2006640"/>
                <a:gridCol w="20062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73C-B6E0-4C55-AC05-343751AA9B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uple in R1 with each tuple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 in practice; mainly used to express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619-8ED4-4CC1-A029-54ACBEA7C0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304920" y="990720"/>
          <a:ext cx="3504960" cy="1803240"/>
        </p:xfrm>
        <a:graphic>
          <a:graphicData uri="http://schemas.openxmlformats.org/drawingml/2006/table">
            <a:tbl>
              <a:tblPr/>
              <a:tblGrid>
                <a:gridCol w="1371240"/>
                <a:gridCol w="213372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9999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777777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343400" y="990720"/>
          <a:ext cx="4267080" cy="180324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</a:tblGrid>
              <a:tr h="60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9999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777777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762120" y="3784680"/>
          <a:ext cx="6629400" cy="2844720"/>
        </p:xfrm>
        <a:graphic>
          <a:graphicData uri="http://schemas.openxmlformats.org/drawingml/2006/table">
            <a:tbl>
              <a:tblPr/>
              <a:tblGrid>
                <a:gridCol w="1143000"/>
                <a:gridCol w="2057400"/>
                <a:gridCol w="2133720"/>
                <a:gridCol w="129528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9999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9999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777777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777777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9999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9999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777777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777777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433-0CBA-4843-B486-9BA56477B1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416-56C7-4A22-B3E3-492DA648C2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F31-12A8-439B-AA71-515ED0523B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9012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0536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204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073-822D-46CE-A8F4-1B5ABDE968F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1 bucket (block) stores 2 keys +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e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b)=h(f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g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a)=h(c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8320" y="5985000"/>
            <a:ext cx="2768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: h(x) = x mo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E4A-7FAC-466D-831C-9A886419F3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h(a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ucke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dis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in a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D7A-CF54-4ABA-9673-AABF047771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 right bucket, i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d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FB2-4EAF-4419-9DA2-32A96A536F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overflow block, if n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k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v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62520" y="304812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1863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863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86360" y="464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863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809880"/>
            <a:ext cx="309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0572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6172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1A4-5390-478E-8CA6-4907A89FE0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, if no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es considerably when number of keys exceeds the number of buckets (I.e. many overflow bloc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57F-35B2-43A4-A449-E81534F09C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has table to grow, to avoid performance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 hash function h that returns numbers in {0, …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n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only look at first i most significant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4B6-53EF-4678-B209-9F25D46A92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03-01T00:30:14Z</dcterms:modified>
  <cp:revision>270</cp:revision>
  <dc:subject/>
  <dc:title>Lecture 09:</dc:title>
</cp:coreProperties>
</file>