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15BD-4438-4D08-AEE3-75D0467AE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CF1EF1E-E82A-4F30-B868-742DD7187B83}" type="datetime10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8:2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732880"/>
            <a:ext cx="56674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Sego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egoe"/>
              </a:rPr>
              <a:t>© 2005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egoe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582880" y="8627760"/>
            <a:ext cx="12733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07A3-2CC2-447E-ABC9-753FC13F3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mary idea for this session is to show how much more manageable an application can be if designed with operations/management in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designing an appropriat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o preventing unwanted change -&gt; ddl trig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Auditing change for better troubleshooting -&gt; event not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etection for the unknown -&gt; Agent Al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ing responses -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80359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27200" y="4448160"/>
            <a:ext cx="80359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7200" y="444816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45240" y="444816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4120" y="416988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61400" y="416988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27200" y="444816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4120" y="444816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61400" y="444816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27200" y="4169880"/>
            <a:ext cx="80359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803592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27200" y="1414440"/>
            <a:ext cx="7843680" cy="65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27200" y="444816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27200" y="4169880"/>
            <a:ext cx="80359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45240" y="444816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27200" y="4448160"/>
            <a:ext cx="80359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80359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27200" y="4448160"/>
            <a:ext cx="80359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7200" y="444816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45240" y="444816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44120" y="416988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61400" y="416988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7200" y="444816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44120" y="444816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61400" y="4448160"/>
            <a:ext cx="25873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803592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7200" y="1414440"/>
            <a:ext cx="7843680" cy="65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27200" y="444816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45240" y="444816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720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5240" y="4169880"/>
            <a:ext cx="3921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7200" y="4448160"/>
            <a:ext cx="80359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3804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2320" y="1414440"/>
            <a:ext cx="83804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24760" indent="-35028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95920" indent="-36900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529280" indent="-3315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32400" indent="-30168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9296280" y="130320"/>
            <a:ext cx="241560" cy="24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7200" y="1414440"/>
            <a:ext cx="784368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4492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2" marL="804960" indent="30240" algn="ctr">
              <a:lnSpc>
                <a:spcPct val="9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3" marL="1179360" indent="30240" algn="ctr">
              <a:lnSpc>
                <a:spcPct val="90000"/>
              </a:lnSpc>
              <a:spcBef>
                <a:spcPts val="75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4" marL="1533600" indent="12600" algn="ctr">
              <a:lnSpc>
                <a:spcPct val="90000"/>
              </a:lnSpc>
              <a:spcBef>
                <a:spcPts val="75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5" marL="1533600" indent="126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6" marL="1533600" indent="126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crosoft.com/" TargetMode="External"/><Relationship Id="rId3" Type="http://schemas.openxmlformats.org/officeDocument/2006/relationships/hyperlink" Target="http://msdn.microsoft.com/" TargetMode="External"/><Relationship Id="rId4" Type="http://schemas.openxmlformats.org/officeDocument/2006/relationships/hyperlink" Target="http://blogs.msdn.com/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74640"/>
            <a:ext cx="8077320" cy="206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egoe Semibold"/>
              </a:rPr>
              <a:t>Managing and Monitoring SQL Server 2005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27200" y="4169880"/>
            <a:ext cx="80359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hankar Pa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Program Manager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QL Server, Redmond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2320" y="228240"/>
            <a:ext cx="8380440" cy="10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601"/>
                </a:solidFill>
                <a:latin typeface="Segoe Semibold"/>
              </a:rPr>
              <a:t>Auditing and Change Control</a:t>
            </a:r>
            <a:br>
              <a:rPr sz="4000"/>
            </a:br>
            <a:r>
              <a:rPr b="0" lang="en-US" sz="3200" spc="-1" strike="noStrike">
                <a:solidFill>
                  <a:srgbClr val="f7e993"/>
                </a:solidFill>
                <a:latin typeface="Segoe Semibold"/>
              </a:rPr>
              <a:t>Controlling and Monitoring Change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2320" y="1414440"/>
            <a:ext cx="86230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DDL Triggers – targeting 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pecific Commands: </a:t>
            </a:r>
            <a:r>
              <a:rPr b="0" lang="en-US" sz="2400" spc="-1" strike="noStrike">
                <a:solidFill>
                  <a:srgbClr val="f7e993"/>
                </a:solidFill>
                <a:latin typeface="Segoe Semibold"/>
              </a:rPr>
              <a:t>DROP_TABL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Groups: </a:t>
            </a:r>
            <a:r>
              <a:rPr b="0" lang="en-US" sz="2400" spc="-1" strike="noStrike">
                <a:solidFill>
                  <a:srgbClr val="f7e993"/>
                </a:solidFill>
                <a:latin typeface="Segoe Semibold"/>
              </a:rPr>
              <a:t>DDL_PROCEDURE_EVENT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2" marL="1208160" indent="-372960">
              <a:lnSpc>
                <a:spcPct val="9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CREATE PROCEDURE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	</a:t>
            </a:r>
            <a:r>
              <a:rPr b="0" lang="en-US" sz="2400" spc="-1" strike="noStrike">
                <a:solidFill>
                  <a:srgbClr val="f68400"/>
                </a:solidFill>
                <a:latin typeface="Wingdings"/>
                <a:ea typeface="Wingdings"/>
              </a:rPr>
              <a:t></a:t>
            </a:r>
            <a:r>
              <a:rPr b="0" lang="en-US" sz="2400" spc="-1" strike="noStrike">
                <a:solidFill>
                  <a:srgbClr val="f68400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ALTER PROCEDUR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2" marL="1208160" indent="-372960">
              <a:lnSpc>
                <a:spcPct val="9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ROP PROCEDUR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Event Notifications and WMI Events – target all of the above, plus: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pecific Trace Events: </a:t>
            </a:r>
            <a:r>
              <a:rPr b="0" lang="en-US" sz="2400" spc="-1" strike="noStrike">
                <a:solidFill>
                  <a:srgbClr val="f7e993"/>
                </a:solidFill>
                <a:latin typeface="Segoe Semibold"/>
              </a:rPr>
              <a:t>DATA_FILE_AUTO_GROW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Trace Groups: </a:t>
            </a:r>
            <a:r>
              <a:rPr b="0" lang="en-US" sz="2400" spc="-1" strike="noStrike">
                <a:solidFill>
                  <a:srgbClr val="f7e993"/>
                </a:solidFill>
                <a:latin typeface="Segoe Semibold"/>
              </a:rPr>
              <a:t>TRC_STORED_PROCEDURE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2" marL="1208160" indent="-372960">
              <a:lnSpc>
                <a:spcPct val="9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SP_RECOMPILE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	</a:t>
            </a:r>
            <a:r>
              <a:rPr b="0" lang="en-US" sz="2400" spc="-1" strike="noStrike">
                <a:solidFill>
                  <a:srgbClr val="f68400"/>
                </a:solidFill>
                <a:latin typeface="Wingdings"/>
                <a:ea typeface="Wingdings"/>
              </a:rPr>
              <a:t></a:t>
            </a:r>
            <a:r>
              <a:rPr b="0" lang="en-US" sz="2400" spc="-1" strike="noStrike">
                <a:solidFill>
                  <a:srgbClr val="f68400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SP_CACHEMIS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2" marL="1208160" indent="-372960">
              <a:lnSpc>
                <a:spcPct val="9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SP_CACHEREMOVE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	</a:t>
            </a:r>
            <a:r>
              <a:rPr b="0" lang="en-US" sz="2400" spc="-1" strike="noStrike">
                <a:solidFill>
                  <a:srgbClr val="f68400"/>
                </a:solidFill>
                <a:latin typeface="Wingdings"/>
                <a:ea typeface="Wingdings"/>
              </a:rPr>
              <a:t></a:t>
            </a:r>
            <a:r>
              <a:rPr b="0" lang="en-US" sz="2400" spc="-1" strike="noStrike">
                <a:solidFill>
                  <a:srgbClr val="f68400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SP_CACHEINSERT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64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505640" y="771480"/>
            <a:ext cx="16383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98240" y="1150200"/>
            <a:ext cx="774540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DDL Triggers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90188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2320" y="1650960"/>
            <a:ext cx="83804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Monitoring and Troubleshooting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3400" y="3484440"/>
            <a:ext cx="8380440" cy="11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System Monitor Integration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SQL Server Profiler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2320" y="228240"/>
            <a:ext cx="8380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Monitoring</a:t>
            </a:r>
            <a:br>
              <a:rPr sz="4400"/>
            </a:br>
            <a:r>
              <a:rPr b="0" lang="en-US" sz="3600" spc="-1" strike="noStrike">
                <a:solidFill>
                  <a:srgbClr val="f7e993"/>
                </a:solidFill>
                <a:latin typeface="Segoe Semibold"/>
              </a:rPr>
              <a:t>A Unified Approach</a:t>
            </a:r>
            <a:endParaRPr b="0" lang="en-US" sz="36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9320" y="1866600"/>
            <a:ext cx="352116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913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Supports multiple logs </a:t>
            </a:r>
            <a:endParaRPr b="0" lang="en-US" sz="21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100000"/>
              </a:lnSpc>
              <a:spcBef>
                <a:spcPts val="825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SQL Server Database Engine Information</a:t>
            </a:r>
            <a:endParaRPr b="0" lang="en-US" sz="19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100000"/>
              </a:lnSpc>
              <a:spcBef>
                <a:spcPts val="825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SQL Server Agent Information</a:t>
            </a:r>
            <a:endParaRPr b="0" lang="en-US" sz="19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100000"/>
              </a:lnSpc>
              <a:spcBef>
                <a:spcPts val="825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Windows Event Viewer Application Log</a:t>
            </a:r>
            <a:endParaRPr b="0" lang="en-US" sz="19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100000"/>
              </a:lnSpc>
              <a:spcBef>
                <a:spcPts val="825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Database Mail Logs</a:t>
            </a:r>
            <a:endParaRPr b="0" lang="en-US" sz="19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100000"/>
              </a:lnSpc>
              <a:spcBef>
                <a:spcPts val="913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Across all logs, allows:</a:t>
            </a:r>
            <a:endParaRPr b="0" lang="en-US" sz="21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100000"/>
              </a:lnSpc>
              <a:spcBef>
                <a:spcPts val="825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Searching </a:t>
            </a:r>
            <a:endParaRPr b="0" lang="en-US" sz="19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100000"/>
              </a:lnSpc>
              <a:spcBef>
                <a:spcPts val="825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Filtering</a:t>
            </a:r>
            <a:endParaRPr b="0" lang="en-US" sz="19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100000"/>
              </a:lnSpc>
              <a:spcBef>
                <a:spcPts val="825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Exporting</a:t>
            </a:r>
            <a:endParaRPr b="0" lang="en-US" sz="19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505640" y="114480"/>
            <a:ext cx="1638360" cy="64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311720" y="1571760"/>
            <a:ext cx="4781520" cy="504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6080" y="1165320"/>
            <a:ext cx="426708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Analyze the SQL Server Database Engine and Analysis Servic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Significantly easier to setup (Events, Data Columns and Filter dialogs combined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Special Events: Service Broker, Notification Services, etc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Special Event types: Showplan XML and Deadlock Graph – can be saved to fil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Supports pause and modif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Profiles SQL Server 2000 &amp; 2005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Permissions to profile grantabl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1600" y="228600"/>
            <a:ext cx="894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SQL Server Profiler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27600" y="1249200"/>
            <a:ext cx="4282920" cy="54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8240" y="1204920"/>
            <a:ext cx="7745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emibold"/>
              </a:rPr>
              <a:t>A Tour of SQL Server Profiler</a:t>
            </a:r>
            <a:endParaRPr b="0" lang="en-US" sz="44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190188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2320" y="1650960"/>
            <a:ext cx="83804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Performance Tuning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3400" y="348408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Database Engine Tuning Advisor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34280" y="839880"/>
            <a:ext cx="1638360" cy="647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5640" y="1603440"/>
            <a:ext cx="4817880" cy="56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2840" indent="-222840">
              <a:lnSpc>
                <a:spcPct val="8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Partitioning recommendation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840" indent="-222840">
              <a:lnSpc>
                <a:spcPct val="8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Time-bound tuning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840" indent="-222840">
              <a:lnSpc>
                <a:spcPct val="8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Indexes with Included column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840" indent="-222840">
              <a:lnSpc>
                <a:spcPct val="8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XML Input/Output 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840" indent="-222840">
              <a:lnSpc>
                <a:spcPct val="8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rop ONLY mod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840" indent="-222840">
              <a:lnSpc>
                <a:spcPct val="8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Parameterized command line execution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840" indent="-222840">
              <a:lnSpc>
                <a:spcPct val="8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Import previously saved Session Definition (XML format)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840" indent="-222840">
              <a:lnSpc>
                <a:spcPct val="80000"/>
              </a:lnSpc>
              <a:spcBef>
                <a:spcPts val="90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Workload option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an be a *.trc, *.sql or *.xml format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an be a SQL Server Tabl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2800" y="185760"/>
            <a:ext cx="83804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601"/>
                </a:solidFill>
                <a:latin typeface="Segoe Semibold"/>
              </a:rPr>
              <a:t>Database Tuning Advisor (DTA)</a:t>
            </a:r>
            <a:endParaRPr b="0" lang="en-US" sz="42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92560" y="1727280"/>
            <a:ext cx="3937320" cy="49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98240" y="1204920"/>
            <a:ext cx="7745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emibold"/>
              </a:rPr>
              <a:t>Database Tuning Advisor</a:t>
            </a:r>
            <a:endParaRPr b="0" lang="en-US" sz="44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90188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2320" y="1650960"/>
            <a:ext cx="83804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Automation and Upgra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3400" y="3484080"/>
            <a:ext cx="83804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Database Maintenance Plan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Database Mai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SQLCMD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2320" y="1650960"/>
            <a:ext cx="83804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Managing and Administering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3400" y="3484440"/>
            <a:ext cx="8380440" cy="11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SQL Server Management Studio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Dynamic Management View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73040" y="1379520"/>
            <a:ext cx="426708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5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Based on SQL Server Integration Servic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Flexible Wizard based Interf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Options to create cross database plan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Backup all users databases will pick up newly added databases – even after the plan is create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647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1600" y="228600"/>
            <a:ext cx="894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Database Maintenance Plans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775040" y="1062000"/>
            <a:ext cx="3856320" cy="57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16080" y="1165320"/>
            <a:ext cx="413856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Uses SMTP – No Microsoft Outlook dependency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No SQLCLR dependenc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Asynchronous and queued architectu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Leverages SQL Server Service Broker for queu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Multiple SMTP accoun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SMTP account failove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Mail calls made outside SQL Server proces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Cluster suppor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64-bit suppor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5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Logg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1600" y="228600"/>
            <a:ext cx="894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Database Mail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647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62360" y="896760"/>
            <a:ext cx="4251600" cy="611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6868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SQLCMD</a:t>
            </a:r>
            <a:br>
              <a:rPr sz="4400"/>
            </a:br>
            <a:r>
              <a:rPr b="0" lang="en-US" sz="3600" spc="-1" strike="noStrike">
                <a:solidFill>
                  <a:srgbClr val="f7e993"/>
                </a:solidFill>
                <a:latin typeface="Segoe Semibold"/>
              </a:rPr>
              <a:t>Command-line automation and scripting</a:t>
            </a:r>
            <a:endParaRPr b="0" lang="en-US" sz="36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16080" y="1601280"/>
            <a:ext cx="4170240" cy="55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Replaces OSQL</a:t>
            </a:r>
            <a:endParaRPr b="0" lang="en-US" sz="25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Supports Connections to multiple servers (master scripts)</a:t>
            </a:r>
            <a:endParaRPr b="0" lang="en-US" sz="25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Allows Parameter substitution</a:t>
            </a:r>
            <a:endParaRPr b="0" lang="en-US" sz="25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Variables defined in script</a:t>
            </a:r>
            <a:endParaRPr b="0" lang="en-US" sz="21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Variables passed in</a:t>
            </a:r>
            <a:endParaRPr b="0" lang="en-US" sz="21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7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Environment variables</a:t>
            </a:r>
            <a:endParaRPr b="0" lang="en-US" sz="21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Better Control on Error</a:t>
            </a:r>
            <a:endParaRPr b="0" lang="en-US" sz="25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Initialization Scripts</a:t>
            </a:r>
            <a:endParaRPr b="0" lang="en-US" sz="25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93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Semibold"/>
              </a:rPr>
              <a:t>Dedicated Admin Connection</a:t>
            </a:r>
            <a:endParaRPr b="0" lang="en-US" sz="25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647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95840" y="1650960"/>
            <a:ext cx="4219560" cy="520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3804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For More Information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2320" y="1414080"/>
            <a:ext cx="8380440" cy="45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e993"/>
                </a:solidFill>
                <a:uFillTx/>
                <a:latin typeface="Segoe Semibold"/>
                <a:hlinkClick r:id="rId2"/>
              </a:rPr>
              <a:t>http://www.microsoft.com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Books Online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e993"/>
                </a:solidFill>
                <a:uFillTx/>
                <a:latin typeface="Segoe Semibold"/>
                <a:hlinkClick r:id="rId3"/>
              </a:rPr>
              <a:t>http://msdn.microsoft.com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Whitepaper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Books Online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Webcast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Blogs at </a:t>
            </a:r>
            <a:r>
              <a:rPr b="0" lang="en-US" sz="3200" spc="-1" strike="noStrike" u="sng">
                <a:solidFill>
                  <a:srgbClr val="f7e993"/>
                </a:solidFill>
                <a:uFillTx/>
                <a:latin typeface="Segoe Semibold"/>
                <a:hlinkClick r:id="rId4"/>
              </a:rPr>
              <a:t>http://blogs.msdn.com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Example: http://blogs.msdn.com/spal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03200" y="565164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 Semibold"/>
                <a:ea typeface="Arial"/>
              </a:rPr>
              <a:t>© 2005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Semibold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1149480" y="2689200"/>
            <a:ext cx="6846840" cy="147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0440" y="1238400"/>
            <a:ext cx="416412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5360" indent="-225360">
              <a:lnSpc>
                <a:spcPct val="100000"/>
              </a:lnSpc>
              <a:spcBef>
                <a:spcPts val="3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Integrated management and development environmen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3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Used to manage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Relational databas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Analysis Servic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Reporting Servic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SQL Server Mobile databas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3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Based on Visual Studio .NE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3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Integrates Functionality of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Enterprise Manag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Query Analyz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Analysis Manag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3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Includes scripting tools for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Transact-SQL/SQLCM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egoe Semibold"/>
              </a:rPr>
              <a:t>XMLA/MDX/DMX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3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Provides graphical repor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388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Semibold"/>
              </a:rPr>
              <a:t>Much, much more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1600" y="228600"/>
            <a:ext cx="894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Management Studio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707000" y="1225440"/>
            <a:ext cx="4244760" cy="537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8240" y="601560"/>
            <a:ext cx="77454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emibold"/>
              </a:rPr>
              <a:t>A Tour of SQL Server Management Studio</a:t>
            </a:r>
            <a:endParaRPr b="0" lang="en-US" sz="44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90188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27440" y="2317680"/>
            <a:ext cx="3911760" cy="51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46040" y="2317680"/>
            <a:ext cx="4165560" cy="513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3804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Dynamic Management Views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5840" y="1063440"/>
            <a:ext cx="8356680" cy="11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Views built on top of internal structure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Ideal for monitoring server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4600" y="2338560"/>
          <a:ext cx="8197920" cy="4324320"/>
        </p:xfrm>
        <a:graphic>
          <a:graphicData uri="http://schemas.openxmlformats.org/drawingml/2006/table">
            <a:tbl>
              <a:tblPr/>
              <a:tblGrid>
                <a:gridCol w="4187880"/>
                <a:gridCol w="401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Server 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Component 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8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exec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Execution of user code and associated connec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os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Memory, locking &amp; schedul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tran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Transactions &amp; isol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io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I/O on network and disk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db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Databases and database obj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repl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Replic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broker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SQL Service Brok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fts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Full Text Searc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qn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Query Notific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36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e993"/>
                          </a:solidFill>
                          <a:latin typeface="Segoe Semibold"/>
                        </a:rPr>
                        <a:t>dm_clr_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6206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Common Language Run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2286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DM_ Object Interfa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305000"/>
            <a:ext cx="4419360" cy="541008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SQL Server Relational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454720"/>
            <a:ext cx="17524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Semibold"/>
              </a:rPr>
              <a:t>Operational Memory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5454720"/>
            <a:ext cx="1676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Semibold"/>
              </a:rPr>
              <a:t>Aggregate Statistic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505320"/>
            <a:ext cx="3810240" cy="1752480"/>
          </a:xfrm>
          <a:prstGeom prst="flowChartMagneticDisk">
            <a:avLst/>
          </a:prstGeom>
          <a:gradFill rotWithShape="0">
            <a:gsLst>
              <a:gs pos="0">
                <a:srgbClr val="dedede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11480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1c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986"/>
                </a:solidFill>
                <a:latin typeface="Segoe Semibold"/>
              </a:rPr>
              <a:t>DMVs and DM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152960"/>
            <a:ext cx="1981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Segoe Semibold"/>
              </a:rPr>
              <a:t>Resource DB</a:t>
            </a:r>
            <a:r>
              <a:rPr b="0" lang="en-US" sz="20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egoe Semibold"/>
              </a:rPr>
              <a:t>(visible as “sys” sche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200400" y="4702320"/>
            <a:ext cx="1514520" cy="752400"/>
          </a:xfrm>
          <a:prstGeom prst="line">
            <a:avLst/>
          </a:prstGeom>
          <a:ln w="28440">
            <a:solidFill>
              <a:srgbClr val="ffb601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952880" y="5036760"/>
            <a:ext cx="152640" cy="412920"/>
          </a:xfrm>
          <a:prstGeom prst="line">
            <a:avLst/>
          </a:prstGeom>
          <a:ln w="28440">
            <a:solidFill>
              <a:srgbClr val="ffb601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1981080"/>
            <a:ext cx="3810240" cy="1295640"/>
          </a:xfrm>
          <a:prstGeom prst="flowChartMagneticDisk">
            <a:avLst/>
          </a:prstGeom>
          <a:gradFill rotWithShape="0">
            <a:gsLst>
              <a:gs pos="0">
                <a:srgbClr val="dedede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43828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Semibold"/>
              </a:rPr>
              <a:t>SPs, Views, Tabl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6100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400"/>
                </a:solidFill>
                <a:latin typeface="Segoe Semibold"/>
              </a:rPr>
              <a:t>User 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105520" y="3124080"/>
            <a:ext cx="0" cy="990720"/>
          </a:xfrm>
          <a:prstGeom prst="line">
            <a:avLst/>
          </a:prstGeom>
          <a:ln w="28440">
            <a:solidFill>
              <a:srgbClr val="ffb601"/>
            </a:solidFill>
            <a:prstDash val="sysDot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2971800"/>
            <a:ext cx="1676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Monitoring or Diagnostic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3657600"/>
            <a:ext cx="1371600" cy="914400"/>
          </a:xfrm>
          <a:prstGeom prst="line">
            <a:avLst/>
          </a:prstGeom>
          <a:ln w="28440">
            <a:solidFill>
              <a:srgbClr val="ffb601"/>
            </a:solidFill>
            <a:prstDash val="sysDot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743200"/>
            <a:ext cx="1600200" cy="762120"/>
          </a:xfrm>
          <a:prstGeom prst="line">
            <a:avLst/>
          </a:prstGeom>
          <a:ln w="28440">
            <a:solidFill>
              <a:srgbClr val="ffb601"/>
            </a:solidFill>
            <a:prstDash val="sysDot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5840" y="5448240"/>
            <a:ext cx="1771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egoe Semibold"/>
              </a:rPr>
              <a:t>Some existed, yet not ex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5229360"/>
            <a:ext cx="2505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egoe Semibold"/>
              </a:rPr>
              <a:t>New and exposed in SQL Server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781600" y="5535720"/>
            <a:ext cx="781200" cy="330120"/>
          </a:xfrm>
          <a:prstGeom prst="line">
            <a:avLst/>
          </a:prstGeom>
          <a:ln w="28440">
            <a:solidFill>
              <a:srgbClr val="ffb601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5707080"/>
            <a:ext cx="676440" cy="187200"/>
          </a:xfrm>
          <a:prstGeom prst="line">
            <a:avLst/>
          </a:prstGeom>
          <a:ln w="28440">
            <a:solidFill>
              <a:srgbClr val="ffb601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98240" y="601560"/>
            <a:ext cx="77454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emibold"/>
              </a:rPr>
              <a:t>Database Management Views and Functions</a:t>
            </a:r>
            <a:endParaRPr b="0" lang="en-US" sz="44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90188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2320" y="1650960"/>
            <a:ext cx="83804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Maintaining Security</a:t>
            </a:r>
            <a:br>
              <a:rPr sz="4800"/>
            </a:b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and Operational Policies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3400" y="3484440"/>
            <a:ext cx="8380440" cy="11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SQL Server Surface Area Configuration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68400"/>
              </a:buClr>
              <a:buSzPct val="9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Auditing and Change Contro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8240" y="601560"/>
            <a:ext cx="77454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emibold"/>
              </a:rPr>
              <a:t>SQL Server Surface Area Configuration</a:t>
            </a:r>
            <a:endParaRPr b="0" lang="en-US" sz="44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901880"/>
            <a:ext cx="9144000" cy="188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9:54:06Z</dcterms:created>
  <dc:creator/>
  <dc:description>Template design: aliciat
Formatter:
Event Date: 110705
Event Location: Moscone, San Francisco
Speech Length:
Audience: Dev, TDM, IT Pro
Key Topics: Visual Studio 2005, SQL Server 2005, BizTalk Server 2006</dc:description>
  <dc:language>en-US</dc:language>
  <cp:lastModifiedBy>shankarp</cp:lastModifiedBy>
  <dcterms:modified xsi:type="dcterms:W3CDTF">2006-02-24T08:40:51Z</dcterms:modified>
  <cp:revision>77</cp:revision>
  <dc:subject>Ready to Rock The Launch</dc:subject>
  <dc:title>Building Mission Critical Systems with SQL Server 2005</dc:title>
</cp:coreProperties>
</file>