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BFB94B-F452-4D08-86AC-02251EDA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CF4-6937-4ADB-862D-98249A40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4BF-24C2-436B-A4EB-89F5F124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4F9-C61A-4B25-A015-021A1376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947-6B09-4D1E-9158-2FA2C580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CAC-79F6-48AF-8597-A557BE78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2F9-F8F7-473C-90B7-954253C8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E93-FF17-4F1B-BD3D-9310558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B37-153C-40AE-8862-84FAE4B8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684-9419-4481-9F5E-79B30797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173-E3EE-4598-8271-337F7A13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449-25FE-407C-A75E-94E0894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A25-0B89-46BB-87B6-32F553F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73E3-C79C-4917-896E-E2EA5214E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8-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22, 200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24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A2A-D662-48E2-AE26-9B7C9FFCA6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188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7C3-3041-4E08-B183-DC1E752655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200" y="4191120"/>
            <a:ext cx="87426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E63-695A-4825-956F-5B4560934D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5920" y="4191120"/>
            <a:ext cx="87915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8640" y="58672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04E-166B-4678-A476-F4C81A9704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24D-502A-4C8B-A9ED-F7CFA53032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088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2D8-97FC-4D92-BB90-F206570D3B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976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702-3C49-4CB7-A4B3-959556A751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ADF-E55D-4B85-9CD4-5B400AB597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7EC-60A2-4F13-BE45-06B5EF59A6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944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A8A-0356-4110-B6D0-961823E9C9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996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964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8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10" idx="2"/>
          </p:cNvCxnSpPr>
          <p:nvPr/>
        </p:nvCxnSpPr>
        <p:spPr>
          <a:xfrm flipH="1">
            <a:off x="7009560" y="236232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14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53316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587088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BCE-4ABC-48B1-9766-E5E3769279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4 is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, 2/27: Guest Lectu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Magda Balazinska (CSE, U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, 3/1: Guest Lectu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B Adminis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nkar Pal, (Microsoft, SQL Server gro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164-E27D-4917-AB60-040637124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276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244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2"/>
          </p:cNvCxnSpPr>
          <p:nvPr/>
        </p:nvCxnSpPr>
        <p:spPr>
          <a:xfrm flipH="1">
            <a:off x="6552360" y="251460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8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064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79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1C0-9DEF-4685-813D-A9C95ACDEF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421-1426-41EC-9835-8834196CC4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C17-2077-4633-A3EE-E9DB8573FB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EF1-303B-480D-850E-CA9524D03D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81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8964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067-741C-4E03-8FA7-D868D255E4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3580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612-BAF9-4637-8B61-88D8B295E1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224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79720" y="2344320"/>
            <a:ext cx="1809000" cy="1172520"/>
          </a:xfrm>
          <a:prstGeom prst="wedgeEllipseCallout">
            <a:avLst>
              <a:gd name="adj1" fmla="val -145541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2840" y="3106440"/>
            <a:ext cx="1908720" cy="1172520"/>
          </a:xfrm>
          <a:prstGeom prst="wedgeEllipseCallout">
            <a:avLst>
              <a:gd name="adj1" fmla="val -205458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2160" y="4325400"/>
            <a:ext cx="2339280" cy="1172520"/>
          </a:xfrm>
          <a:prstGeom prst="wedgeEllipseCallout">
            <a:avLst>
              <a:gd name="adj1" fmla="val -139597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9AD-91A0-4F37-9D70-B90F02EA6A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152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81C-9935-4250-BD60-A06BEEFDAD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188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1920" y="601992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X) &lt; TS(T) 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09A-EC50-4966-AC67-F20BC41E6F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2-22T04:56:50Z</dcterms:modified>
  <cp:revision>341</cp:revision>
  <dc:subject/>
  <dc:title>Lecture 09:</dc:title>
</cp:coreProperties>
</file>