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8F5-175D-44C4-9FEF-44DD2680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565-D262-4583-A298-CB81ADC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0CB-F180-4869-84A2-BDC3FE30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6C0-4FD4-43B3-AB2F-1598AEB5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773-A31E-4DFF-AC43-47A9A47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404-CDE4-4774-BDEE-45A45ACC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C23-520B-4274-8F6F-457F4B2D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F3B-A1C1-4B20-A4B4-7A60466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8FF-F0B0-4A90-911E-182673EF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050-CDAB-4482-8888-EA71607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3C5-A9B8-47A0-AF4B-FB75540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22D-788D-4664-A803-8B367F87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C94-1581-40A0-9BDE-062534AA4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17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796-0917-40B9-93EA-ED13D8767B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90920" y="2057400"/>
          <a:ext cx="4038480" cy="4498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7FF-79ED-4802-AFC6-024D20A4A6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943-E8C9-4428-86E6-0FB3E8608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1676520"/>
          <a:ext cx="5638680" cy="449892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26440" y="61722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65D-F3D9-4851-A0F9-8F6FEECDB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62320" y="1825560"/>
          <a:ext cx="4724280" cy="449892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59E-1610-4B74-9A71-778188C398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C0B-A495-4E37-BC1E-5B6BBE90F3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9640" y="2763720"/>
            <a:ext cx="6134400" cy="132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6DD-029E-49DD-A23B-CD70FA8C9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42000" y="286704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8680" y="2773440"/>
            <a:ext cx="60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ctions by same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42000" y="4152960"/>
            <a:ext cx="22460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3000" y="4068720"/>
            <a:ext cx="622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2000" y="5295960"/>
            <a:ext cx="2087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360" y="5288040"/>
            <a:ext cx="6165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42000" y="598176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624-8B65-4017-976E-ADB432D3D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920" y="386712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9320" y="59817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9320" y="46101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D00-D8DA-478A-8FB1-752F55EBFC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03000" y="613404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26680" y="491508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89520" y="3563640"/>
            <a:ext cx="1148400" cy="1172520"/>
          </a:xfrm>
          <a:prstGeom prst="wedgeEllipseCallout">
            <a:avLst>
              <a:gd name="adj1" fmla="val -161967"/>
              <a:gd name="adj2" fmla="val 72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0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226-CB32-4826-A3DD-A044133D64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6E5-6BE4-4DB3-BB1C-DE0670BA58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837-079B-4EE6-9669-4F1E2644C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9320" y="2708280"/>
            <a:ext cx="8774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6"/>
            <a:endCxn id="10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6"/>
            <a:endCxn id="10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90080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1B1-62EA-4F7F-8EA3-DE124697E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9320" y="270504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6"/>
            <a:endCxn id="11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90116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1"/>
            <a:endCxn id="113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093-2C6E-4923-8E3C-127F3F6B69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F73-DA3B-4108-ACC0-2D0C1DA772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640-ED0B-4787-BA03-87FD31CDD0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895480"/>
            <a:ext cx="81770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F84-7E11-4CC0-AD9B-210D645070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447920"/>
          <a:ext cx="8458200" cy="484488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7400" y="62485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A14-FBA1-4954-AA3B-768CA09025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523880"/>
          <a:ext cx="7696080" cy="44989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108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146-9876-48AB-970E-35FF2EAFBD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7DA-063E-47D4-ACE2-E4461E96C0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1371600"/>
          <a:ext cx="8153640" cy="484488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30204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719-AC76-4D42-B474-AA23769998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703-34BF-410F-A490-AA210EE0E1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6F8-D8B5-4667-AC17-CA8D08714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63C-3A2D-4A04-846B-ECE4B7F443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0A3-5BD3-43F9-BB8C-73A416F8C5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454-04E8-4A0D-9620-3554C07469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951-67EA-47F7-BF70-1C12927C23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918-9B3F-4459-ADCB-58DE28E3A7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072-63BA-4C65-AB56-D17E6CAC8F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36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743-3464-4EEE-945E-A2527715A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5956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6488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EEF-AB7A-448A-A95F-A43335865F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28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54A-F5FB-4810-BA8C-D3A5C45152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A37-98DE-4DE1-9979-8F59FE210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33720" y="2057400"/>
          <a:ext cx="4647960" cy="3622680"/>
        </p:xfrm>
        <a:graphic>
          <a:graphicData uri="http://schemas.openxmlformats.org/drawingml/2006/table">
            <a:tbl>
              <a:tblPr/>
              <a:tblGrid>
                <a:gridCol w="2324160"/>
                <a:gridCol w="2323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77A-3A1F-44E9-B1D3-957B352C00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17T03:47:22Z</dcterms:modified>
  <cp:revision>365</cp:revision>
  <dc:subject/>
  <dc:title>Lecture 09:</dc:title>
</cp:coreProperties>
</file>