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7740-69E7-4AAC-8410-FDCDAEE01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ecause if the system crashes before it writes &lt;END CKPT&gt; then we cannot use the checkpoint.  We use &lt;END CKPT&gt; to ensure that the system didn’t crash and the checkpoint ter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DA6E-9D5F-4022-8E0A-84289914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57D-066F-480E-A614-27B570C4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84F2-0230-45A3-91F1-90BFC8A0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F9E3-936E-45F6-AECD-C352BE6A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CF5-F2B4-4F97-820B-F153516F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2EE1-9C05-4323-964B-00C15CD7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48C5-1EEC-4F4B-BB2B-EF2142E3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C88D-2546-4816-B1D3-80122B29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C5BA-AABF-4E8C-A329-10A91FCF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0E18-D2ED-4A72-BCF0-DB6117D4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BB4-6C78-45F3-9885-E9AE6EF6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43DA-C741-4282-A3CD-9FF3F8C6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A364-DE14-4AFC-88FA-C99C47966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February 15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08F2-B5C1-4917-B9C7-5ECBDF89E2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-Logg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: If T modifies X, then both &lt;T,X,v&gt; and &lt;COMMIT T&gt; must be written to disk before OUTPU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OUTPUTs are don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50E-30FB-4B6B-9899-93B31AC80D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380880" y="495288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4419720"/>
            <a:ext cx="1371600" cy="61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2"/>
            <a:endCxn id="79" idx="7"/>
          </p:cNvCxnSpPr>
          <p:nvPr/>
        </p:nvCxnSpPr>
        <p:spPr>
          <a:xfrm flipH="1">
            <a:off x="1550520" y="4728960"/>
            <a:ext cx="5612400" cy="30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304920" y="541008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80" idx="3"/>
            <a:endCxn id="82" idx="6"/>
          </p:cNvCxnSpPr>
          <p:nvPr/>
        </p:nvCxnSpPr>
        <p:spPr>
          <a:xfrm flipH="1">
            <a:off x="1676160" y="4948200"/>
            <a:ext cx="5688720" cy="72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EE8D-77C8-4275-B019-6FA00A29C8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Decide for each transaction T whether it is completed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COMMIT T&gt;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ABORT T&gt;…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……………………  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Read log from the beginning, redo all updates of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mit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7532-C87B-4CE8-9F02-95AF703E8C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7200" y="1905120"/>
            <a:ext cx="16909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 X2, 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438280" y="19051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533F-67C2-44CA-AFB4-0ED19334B2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START CKPT(T1,…,Tk)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1,…,Tk are all activ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sh to disk all blocks of committed transaction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rty bloc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ile continuing norma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blocks have been written, write &lt;END CKP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7EB7-FABF-4E6B-9F31-2B07D69AEB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 Recovery with 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1905120"/>
            <a:ext cx="266724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OMMIT T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4, T5, T6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9, T10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6280" y="2708280"/>
            <a:ext cx="208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18840" y="2556000"/>
            <a:ext cx="16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i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4, T5, T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32004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80" y="4633920"/>
            <a:ext cx="2038320" cy="916920"/>
          </a:xfrm>
          <a:prstGeom prst="borderCallout1">
            <a:avLst>
              <a:gd name="adj1" fmla="val 18750"/>
              <a:gd name="adj2" fmla="val -8333"/>
              <a:gd name="adj3" fmla="val 8986"/>
              <a:gd name="adj4" fmla="val 150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OUTPU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1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to be on 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79B2-3335-4896-B9E4-628B81C21C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Undo/Re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o log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must be done 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&lt;COMMIT T&gt; is seen, T definitely has written all its data to disk (hence, don’t need to redo) – in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must be done 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&lt;COMMIT T&gt; is not seen, T definitely has not written any of its data to disk (hence there is not dirty data on disk, no need to undo) – in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like more flexibility on when to OUTPUT: undo/redo logging (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AD30-4CDF-4C1A-9428-BE01E31FE5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/Re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records, only one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T,X,u,v&gt;= T has updated element X,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was u, and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2336-74D5-4672-AD80-F7639011AD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/Redo-Logging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1: If T modifies X, then &lt;T,X,u,v&gt; must be written to disk before OUTPU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e are free to OUTPUT early or late relative to &lt;COMMIT 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95CB-0737-496A-A1CD-8E8C24928E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1066680" y="617220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OUTPUT whenever we want: before/after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17EE-D9E6-474A-8CDB-30BE2BC946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po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o logging 17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/undo 17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45B7-0CAB-4846-B5F8-294FFC1C04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/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all committed transaction, top-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all uncommitted transactions, bottom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E07-AA91-4358-B15A-5B272FA766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/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7200" y="1905120"/>
            <a:ext cx="16909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 X2, 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438280" y="19051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25780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BFDB-D5F3-40E0-9EA6-325BD4BE9E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point the database period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 accepting new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 until all current transactions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sh log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CKPT&gt; log record, fl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m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5D9-70E9-47F2-9495-6DA17512DF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6680" y="1905120"/>
            <a:ext cx="1690920" cy="47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9,X9,v9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 comple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3886200"/>
            <a:ext cx="152280" cy="2666880"/>
          </a:xfrm>
          <a:custGeom>
            <a:avLst/>
            <a:gdLst>
              <a:gd name="textAreaLeft" fmla="*/ 0 w 152280"/>
              <a:gd name="textAreaRight" fmla="*/ 55080 w 15228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s T2,T3,T4,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4260-C229-4ECE-AD57-59A5929EBF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with checkpointing: database freezes during check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ld like to checkpoint while database is ope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nonquiescent checkpo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92440" y="5603760"/>
            <a:ext cx="65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escent = being quiet, still, or at rest; in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quiescent = allowing transactions to be 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3953-B6A7-4213-AA93-9A11C1D9FC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START CKPT(T1,…,Tk)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1,…,Tk are all activ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norma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of T1,…,Tk have completed, write &lt;END CKP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79D5-7AC5-4446-8B71-F08EEF4BB9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1905120"/>
            <a:ext cx="266724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4, T5, T6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733920"/>
            <a:ext cx="76320" cy="1066680"/>
          </a:xfrm>
          <a:custGeom>
            <a:avLst/>
            <a:gdLst>
              <a:gd name="textAreaLeft" fmla="*/ 0 w 76320"/>
              <a:gd name="textAreaRight" fmla="*/ 2736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6,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lier transactions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5029200"/>
            <a:ext cx="76320" cy="1523880"/>
          </a:xfrm>
          <a:custGeom>
            <a:avLst/>
            <a:gdLst>
              <a:gd name="textAreaLeft" fmla="*/ 0 w 76320"/>
              <a:gd name="textAreaRight" fmla="*/ 2736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8760" y="5791320"/>
            <a:ext cx="2626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Q: why do we n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&lt;END CKPT&gt;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1BB-09F1-40EF-87C2-4CDC253D64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START T&gt; = transaction T has be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COMMIT T&gt; = T has com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ABORT T&gt;= T has ab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T,X,v&gt;= T has updated element X, and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4B0-EA58-454F-B667-371CE24EF1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A7FE-1E51-4B68-8772-2550157408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6-02-15T03:43:03Z</dcterms:modified>
  <cp:revision>324</cp:revision>
  <dc:subject/>
  <dc:title>Lecture 09:</dc:title>
</cp:coreProperties>
</file>