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704-45B9-41D1-B793-778B0E4F2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050-7A93-429C-A1EC-52276B3B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076-F763-4F64-8814-445C52C2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08B-ECD5-40FA-9329-433800D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286-BA8B-4931-B680-2176C617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772-B49E-4009-BB14-AB0A167B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F02-1E2F-4B92-A5A1-32583E9C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74B-2190-412A-B9CB-9DFAAB50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4F1-CA56-4AB8-8192-9F5C7E6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87D-52A0-4A82-BD7F-A5E2814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0B3-8435-4B35-B532-32ADEE5E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EDA-BD93-4015-8F1F-43233845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55A-DE42-48BF-B2AD-95F1C33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B63-99E0-4335-9980-F985AAC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F43-DF94-4ABB-A6EA-09559DE39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,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February 1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FB2-387F-405A-B8FB-4F510CBE4D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from crashes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:      A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operate on the buffer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6C9-7D40-456E-AC68-AB1EF5AD3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hich of the events below can a database actually reco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ng 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/ earthquake / bankrupcy /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s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778-6650-47D6-82E9-4DB1142E3D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CE2-9C0F-49E3-8FE9-D2F284664A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8CE-25D0-43CF-B775-414734C9B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D84-9EA8-4F8D-A6F2-46692FFBAA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D0D-1FF5-40D8-98A6-E2329C7F0A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F1D-2308-4EC8-9737-27C4DDB4B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113040" y="152280"/>
            <a:ext cx="4123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A,t); t := t*2; WRITE(A,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B,t); t := t*2; WRITE(B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710-763D-425F-8ECB-1855DF86CA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651960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315-9140-448A-8CD6-17319D27FC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36B-2F63-4A34-8B83-070462C7E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reading: entire chapt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516-EF1A-478C-B51E-59F22475D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E49-C7BA-4BDB-AB47-7E36E210AD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253-41D4-4140-928F-0A33825C7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65955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854-DD7A-4EFA-97F5-2BCAABBA43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614640" y="574848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1E3-962F-4DEF-ACC8-52140D92D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9E6-9A0E-45BA-8719-792934D10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72F-C8BE-4BF1-A2DC-3FE6A94DEF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209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2"/>
              <a:endCxn id="209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213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3" idx="2"/>
              <a:endCxn id="214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6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217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4" idx="5"/>
              <a:endCxn id="217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436-B713-43A5-B48F-2B84BF7BDC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BB5-ED58-4075-94EA-791396477B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E9C-A3AD-4CA9-BB0F-45DED0C01C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8440" y="1600200"/>
            <a:ext cx="21924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4400" y="5622120"/>
            <a:ext cx="1627200" cy="912600"/>
          </a:xfrm>
          <a:prstGeom prst="wedgeEllipseCallout">
            <a:avLst>
              <a:gd name="adj1" fmla="val 84458"/>
              <a:gd name="adj2" fmla="val 137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55B-92CF-4CE8-8044-6A5A74CE13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56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59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70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74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94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97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01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ED4-CA6C-4922-89FE-A9FB514D7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F3F-96DA-4BA6-B71E-9C410E1A5A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698-5866-4138-B898-23532F77A3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3C9-4180-4D14-89B3-B6FCE2754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use parity to recover from dis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nfigu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1 =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4 = n disks + 1 parity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5 = n+1 disks, assign parity blocks round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6 = “Hamming co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36C-ABE8-48C6-ACBB-D204EDF7CB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21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33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34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2920" y="379080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87560" y="42894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6600" y="254808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8640" y="32418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27280" y="1038240"/>
            <a:ext cx="603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58080" y="179856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0440" y="4343400"/>
            <a:ext cx="347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1684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6BE-583C-48B2-AD51-AA26A436CB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4560" y="1828800"/>
            <a:ext cx="839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503-A913-47C9-BBB9-A2D283085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pages by the time of last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replace the least recently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400" y="34290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5, P2, P8, P4, P1, P9, P6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26708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51480" y="4479120"/>
            <a:ext cx="2049480" cy="652680"/>
          </a:xfrm>
          <a:prstGeom prst="wedgeEllipseCallout">
            <a:avLst>
              <a:gd name="adj1" fmla="val -38620"/>
              <a:gd name="adj2" fmla="val -938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080" y="52578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6, P5, P2, P8, P4, P1, P9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3600" y="61722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 is expensive (why ?); the clock algorithm is good appr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9B2-BAC8-4D5A-9424-0FFF44CA0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000" y="1600200"/>
            <a:ext cx="723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ine grained control fo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945-05AC-4B01-98F4-D2C7AE0B5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13T01:32:32Z</dcterms:modified>
  <cp:revision>340</cp:revision>
  <dc:subject/>
  <dc:title>Lecture 09:</dc:title>
</cp:coreProperties>
</file>