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66E-E2FB-4932-84E8-394699F4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579-E322-47D0-95D5-A9A76854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028-690C-4FA4-AFE5-A4D34F36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F2A-9938-4AA4-898F-5A10A271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A76-DD12-43FF-A12E-3C020FAB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6BE-9298-40B7-84DE-6B943F3D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509-7CBA-481B-A732-D722C7C4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C61-3B0F-4754-AC0C-1DDD189D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972-3EE6-4DAD-81C7-D3FFC139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3D9-52D3-4506-ACBA-B486D259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020-5938-41DF-82B5-EBDB4A3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076-108D-440A-812B-85A02348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CBF2-639E-4B21-B9A1-8B8A98496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8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6F8-E102-4066-BAF4-262BA43F48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component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for most applications; arguably more so tha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ing awards to database research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les Bachman 19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ar Codd 1981 for inventing relational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 Gray 1998 for inventing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F0A-0FED-4C2C-8903-E3FB6C6572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C7B-A781-4057-AC99-24A5FEFA36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sing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11480" y="2209680"/>
            <a:ext cx="3879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09600" y="5642280"/>
            <a:ext cx="50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nagers attempt to do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A1C-FDED-46F7-B62F-D2E5ACFA56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multip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30600" y="2057400"/>
            <a:ext cx="502704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4C7-D361-4E52-A50A-4F10C28D67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1680" y="2286000"/>
            <a:ext cx="6331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67D-05CF-46C1-BDFD-83D39A3C4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one or more operations, which reflects a single real-world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real world, this happened completely or not at 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money between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 a group of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for a class (either waitlist or alloc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grouped in transactions, all problems in previous slides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9AA-4857-4523-8351-732C844570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33360" y="3508200"/>
            <a:ext cx="2200320" cy="1191240"/>
          </a:xfrm>
          <a:prstGeom prst="wedgeRectCallout">
            <a:avLst>
              <a:gd name="adj1" fmla="val -123824"/>
              <a:gd name="adj2" fmla="val 243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mitt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QL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t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A58-954A-4E05-A37B-105AC5819F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ed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1480" y="1981080"/>
            <a:ext cx="38797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5640" y="59425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works like a c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9C0-E729-4AA4-AF0B-F3765C3B32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Proper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shows either all the effects of txn, or non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n moves from a state where integrity holds, to another where integrity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txns is the same as txns running one after another (ie looks like batch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txn has committed, its effects remain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4A9-1023-4295-8EB2-4AA9C7FF6A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outcomes for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 the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ransaction’s activities are all or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A27-83D3-495D-888C-669460F981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erm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this is an easy introduction to transactions; more details when we discuss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E4C-C7E1-4C4D-B9F7-9A3087F9EC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 of the tables is restricted by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number is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amount can’t b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b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may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nsistency is achie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makes sure a txn takes a consistent state to a 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makes sure that the tnx is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7F6-5782-4FE1-9CEF-D90CF984DB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executes concurrently with other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: the effect is as if each transaction executes in isolation of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E9C-3F4F-4A9C-9AC4-9D355C57D9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transaction must continue to exists after the transaction, or the whole program has termin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: write data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1E0-7EC0-4537-977B-E5969C169C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 gets to a place where it can’t complete the transaction successfully, it can execute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system to “abort”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returns to the state without any of the previous changes made by activity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30A-4DCB-49F8-9742-72AEE519F2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hanges their mind (“ctl-C”/can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in program, when app program finds a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when qty on hand &lt; qty being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initiated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ue to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3E4-736D-47DB-98B9-8850E23EE5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2520" y="1600200"/>
            <a:ext cx="502704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TRANSACTION READ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4061880"/>
            <a:ext cx="1904760" cy="1172520"/>
          </a:xfrm>
          <a:prstGeom prst="wedgeEllipseCallout">
            <a:avLst>
              <a:gd name="adj1" fmla="val -89152"/>
              <a:gd name="adj2" fmla="val -89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8C8-A86E-4185-B235-3218ED20B2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reads data written by T’ while T’ is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’ ab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tasks T and T’ both modify the sa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and T’ both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state shows effects of only T, but not of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ask T sees some but not all changes made by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653-904D-4DF4-8203-7473D7D037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2B8-9C39-464B-9F03-5F9044D9D4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73000" y="1600200"/>
            <a:ext cx="495684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llocateSeat( %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UN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== 1)  /* occupied */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ccupied =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960" y="17524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240" y="350532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724280"/>
            <a:ext cx="206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if on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s Se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B8B-EAAA-4F1E-BA0F-0C7243B573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43200" y="914400"/>
            <a:ext cx="496764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TransferMoney( %amount, %acc1, %acc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&lt; %amount)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+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-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219240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rty rea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1320" y="390204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upd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6F7-18B1-444F-A7AE-057001DD4F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11:30, this room (in cl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, books, lectures, everything you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55C-1346-4F95-BBB1-E0E250642A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ad Commit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6680" y="2057400"/>
            <a:ext cx="46278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40" y="198108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UN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2600" y="3325680"/>
            <a:ext cx="21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ad twic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t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241-6F72-4CB1-8777-8B4C96B3DE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peatable Re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5600" y="2057400"/>
            <a:ext cx="48456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55555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777777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a wrong x+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560" y="1981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7160" y="3429000"/>
            <a:ext cx="287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ee incompat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txn trans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rom acc. 55555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B31-9990-4FF6-9240-DD8FAD4208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Serializab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6840" y="2590920"/>
            <a:ext cx="431856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8760" y="26668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1440" y="42670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A82-8C37-44AD-AA6F-04641A44F2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/Xpath/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9A4-C384-4C59-B231-E31CFEE4E3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basics: SFW, GROUP-BY, HAVING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e two queries equival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ng sub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ng 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ware of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/delete, especially more than one 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4B5-64F5-42EA-934F-B80A0A7A72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design (don’t make stupid mistak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ion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-many v.s. many-one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le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B3E-7867-4D43-91DF-2974EBA8D2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definition o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a given table satisfy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i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, does it follow that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?  Why ? 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closure: X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BCNF (no 3N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FBF-935B-4294-9E81-D44ECF638E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 in XPath and 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at sense is XML “semistructured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CF0-0F3B-409E-932A-7FCFD878E2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ep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ectur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from the 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ho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solve exercise (book, past ex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6FF-C6D8-450F-9222-3D1BB0D725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2-08T04:29:58Z</dcterms:modified>
  <cp:revision>389</cp:revision>
  <dc:subject/>
  <dc:title>Lecture 09:</dc:title>
</cp:coreProperties>
</file>