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8F4-5C60-4837-B6B5-DC9DD564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C7F-7F86-4F07-8693-73DB9ED06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BA9-7FA3-49E4-9B62-2650A5FA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CB1-ABED-443A-A803-48DB194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775-2F4C-4D7C-B8A7-AAB2821D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B78-AAB6-4225-BAE3-C7127174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AD0-0941-42E2-AF35-03787787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415-1243-4C37-AA55-B9A942B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CB1-C351-4669-9139-8DB705CC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5FF-DEF7-47A3-8A44-26D3A72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328-4148-455C-9B91-7030B125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B2B-2EF1-4A0A-AA6F-08CA2D1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4CA-7BFA-4049-9412-7BDBE74E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B38-BF46-4F56-BD3B-BFBE3AD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ECEC-5A57-4BC8-A3B1-B3B177FF9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February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C97-EE62-41B8-A740-5A4A4550BC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236232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"/>
          <p:cNvGrpSpPr/>
          <p:nvPr/>
        </p:nvGrpSpPr>
        <p:grpSpPr>
          <a:xfrm>
            <a:off x="2064600" y="4175640"/>
            <a:ext cx="6772680" cy="2525400"/>
            <a:chOff x="2064600" y="4175640"/>
            <a:chExt cx="6772680" cy="2525400"/>
          </a:xfrm>
        </p:grpSpPr>
        <p:sp>
          <p:nvSpPr>
            <p:cNvPr id="86" name=""/>
            <p:cNvSpPr/>
            <p:nvPr/>
          </p:nvSpPr>
          <p:spPr>
            <a:xfrm>
              <a:off x="2064600" y="4778280"/>
              <a:ext cx="670500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BadCredit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Balance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BadCreditCustomers TO 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0720" y="4175640"/>
              <a:ext cx="1726560" cy="522360"/>
            </a:xfrm>
            <a:prstGeom prst="wedgeEllipseCallout">
              <a:avLst>
                <a:gd name="adj1" fmla="val -20694"/>
                <a:gd name="adj2" fmla="val 16294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12320" y="516960"/>
            <a:ext cx="2040480" cy="566640"/>
          </a:xfrm>
          <a:prstGeom prst="wedgeEllipseCallout">
            <a:avLst>
              <a:gd name="adj1" fmla="val -5814"/>
              <a:gd name="adj2" fmla="val 1886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744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11960" y="1505520"/>
            <a:ext cx="1930320" cy="1866240"/>
          </a:xfrm>
          <a:prstGeom prst="wedgeEllipseCallout">
            <a:avLst>
              <a:gd name="adj1" fmla="val -79027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B8D-C50C-4FF4-B151-BA024C68D8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ustomer should see only her/his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3600" y="2514600"/>
            <a:ext cx="3948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Mar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Mary TO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680" y="5486400"/>
            <a:ext cx="403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-le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259884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282800" y="364680"/>
            <a:ext cx="1726560" cy="523080"/>
          </a:xfrm>
          <a:prstGeom prst="wedgeEllipseCallout">
            <a:avLst>
              <a:gd name="adj1" fmla="val -18731"/>
              <a:gd name="adj2" fmla="val 333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343400"/>
            <a:ext cx="3948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Sue TO 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997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69B-29EF-4C41-87F3-BCFF3DD57A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98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200" y="586728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7AC-BBB6-48A3-B80C-D1A1134070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132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8041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128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C3E-E277-418C-8DE0-982B058401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9" idx="4"/>
            <a:endCxn id="110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0" idx="6"/>
            <a:endCxn id="111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16" name=""/>
          <p:cNvCxnSpPr>
            <a:stCxn id="110" idx="4"/>
            <a:endCxn id="112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2" idx="6"/>
            <a:endCxn id="113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5"/>
            <a:endCxn id="113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3" idx="1"/>
            <a:endCxn id="111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06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687-2D2A-420E-BBC0-4E443C732E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QL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w level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or owns the data: that’s unfa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520" y="4800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pectacular fail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0% assign privileges to users/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o protect entire tables, no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3943440"/>
            <a:ext cx="878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control = great success story of the DB commun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CCE-6DB7-469D-B452-C04D4DAAC82C}" type="slidenum">
              <a:t>15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licies in middleware: slow, error pr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 has 10**4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E over 10**5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kerage house has 80,000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S government entity thinks that it has 35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databas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enter of the policy administration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880" y="6248520"/>
            <a:ext cx="273816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9E8-985B-4103-87D7-278E80CD949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’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032-8850-4453-8761-31BC48ABF3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38" name="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4480" y="160020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4320" y="404964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72840" y="5054760"/>
            <a:ext cx="2940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120" y="26668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78400" y="2603520"/>
            <a:ext cx="3492360" cy="1191240"/>
            <a:chOff x="3578400" y="2603520"/>
            <a:chExt cx="3492360" cy="1191240"/>
          </a:xfrm>
        </p:grpSpPr>
        <p:sp>
          <p:nvSpPr>
            <p:cNvPr id="146" name=""/>
            <p:cNvSpPr/>
            <p:nvPr/>
          </p:nvSpPr>
          <p:spPr>
            <a:xfrm>
              <a:off x="3578400" y="2603520"/>
              <a:ext cx="34923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7240" y="2666880"/>
              <a:ext cx="143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7960" y="3276720"/>
              <a:ext cx="1400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30040" y="6095880"/>
            <a:ext cx="8629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60" y="76320"/>
            <a:ext cx="45716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52" name="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2" idx="4"/>
              <a:endCxn id="153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56" name="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6" idx="5"/>
              <a:endCxn id="157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620-E409-44BC-9F45-91EE5BA0EFB3}" type="slidenum">
              <a:t>18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002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8160" y="2692800"/>
            <a:ext cx="486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2800" y="4343400"/>
            <a:ext cx="7849080" cy="1902240"/>
            <a:chOff x="532800" y="4343400"/>
            <a:chExt cx="7849080" cy="1902240"/>
          </a:xfrm>
        </p:grpSpPr>
        <p:sp>
          <p:nvSpPr>
            <p:cNvPr id="164" name=""/>
            <p:cNvSpPr/>
            <p:nvPr/>
          </p:nvSpPr>
          <p:spPr>
            <a:xfrm>
              <a:off x="532800" y="4343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1760" y="5413680"/>
              <a:ext cx="354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13120" y="3782880"/>
            <a:ext cx="8530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522-A3B9-48A2-AF40-49FC43DB1672}" type="slidenum">
              <a:t>19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455-3BCF-43AE-91A4-79C150FE95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3120" y="16002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1040" y="2975040"/>
            <a:ext cx="48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64E-F539-4D55-A976-CAE990A367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476-B7F0-49C1-A860-676080F56B5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7440" y="5105520"/>
            <a:ext cx="737244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0B0-B843-4F43-9077-0E834267B71E}" type="slidenum">
              <a:t>2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440" y="4724280"/>
            <a:ext cx="7372440" cy="107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DF1-2EBB-41FF-BD7A-D73B98720F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160" y="20574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2FF-C0C9-4D33-98B4-B5F1C3706F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7520" y="5257800"/>
            <a:ext cx="73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463-92DE-4D44-97F2-439AA366A8F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inj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rrectnes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olicy implemented poorly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ney’s fi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orrect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occurred when all systems work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0E1-B855-434D-A7CE-FBEA8244062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Nove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anonymity, information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w-level 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858-356C-448F-8DD6-38B68DDA4DB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y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t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Anony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040" y="1708200"/>
            <a:ext cx="68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uple is equal to at least k-1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zing: through suppression and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9080" y="5756400"/>
            <a:ext cx="642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:  NP-complete for suppress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 exists; but work poorly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5800" y="76320"/>
            <a:ext cx="4280400" cy="3373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amarati&amp;Sweeney’98, Meyerson&amp;Williams’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0120" y="2895480"/>
          <a:ext cx="1447560" cy="259236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5A3-C95D-4B91-B0DF-7D4962B947BA}" type="slidenum">
              <a:t>28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view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49360" y="2949480"/>
          <a:ext cx="7543800" cy="103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losur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49360" y="398628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(name,dept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(dept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49360" y="4930920"/>
          <a:ext cx="7543800" cy="51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de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49360" y="545616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H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R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1535400" y="1981080"/>
            <a:ext cx="651132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mployee(name, dept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40" y="19810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45600" y="3483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22280" y="4168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21920" y="49309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46320" y="56926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5160" y="76320"/>
            <a:ext cx="491868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iklau&amp;S’04, Miklau&amp;Dalvi&amp;S’05,Yang&amp;L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BE5-0A8E-473B-B32E-565AED9B2FB5}" type="slidenum">
              <a:t>29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6160" y="2087640"/>
            <a:ext cx="45957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privileg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ON ob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WITH GRANT OPTION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114800"/>
            <a:ext cx="55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22B-A51B-48BA-B07C-8A0A48D5D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at the tupl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pec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0E3-4449-4709-BFC7-3ACD45DFF0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160" y="2666880"/>
            <a:ext cx="771084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HERE Patient.doctorID = Doctor.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Doctor.login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0480" y="5239800"/>
            <a:ext cx="2161800" cy="1172520"/>
          </a:xfrm>
          <a:prstGeom prst="wedgeEllipseCallout">
            <a:avLst>
              <a:gd name="adj1" fmla="val 46967"/>
              <a:gd name="adj2" fmla="val -9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720" y="1676520"/>
            <a:ext cx="69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, but usually based on parameterized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597-9B4B-4D3F-9BE1-9C8D64964EA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0040" y="1706400"/>
            <a:ext cx="44600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9920" y="4168800"/>
            <a:ext cx="49035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tient.doctorID = Doctor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login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4800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F6F-8F63-491A-8C4E-BF0560F9B82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 = filte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 = deny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define multiple security views for a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5520" y="6400800"/>
            <a:ext cx="1134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zv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15920" y="2514600"/>
            <a:ext cx="33886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sease=‘fl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075-0523-461C-B649-0EBC0F821633}" type="slidenum">
              <a:t>33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Information Dis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tical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 new connections between databases and information theory, probability theory,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year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160" y="3581280"/>
            <a:ext cx="25610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adi&amp;Warinschi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FB9-FD99-41BB-87BC-0F729A11C78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Fine 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n industry: label-base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ler app: application h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franchises share a single table at headquarters (e.g., Holiday I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runs under requester’s label, cannot see oth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quarters runs Read queries ove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’s Virtual Privat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44280" y="6442200"/>
            <a:ext cx="273816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ACE-19E3-48AA-8091-DF612074C0CD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760" y="1940040"/>
            <a:ext cx="6544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INSERT, DELETE ON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3320" y="309888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3680" y="56386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1880" y="363204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940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6C5-4ED1-42F4-88C0-74348C46D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920" y="2498760"/>
            <a:ext cx="6872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684-90EF-4D5A-8834-8BD30ACA3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600" y="2544840"/>
            <a:ext cx="537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160" y="396252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1D2-AF20-4198-B870-6B25360A4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000" y="2422440"/>
            <a:ext cx="7229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1400" y="41148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34C-5E37-4FBA-8E49-10930D913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7920" y="4525920"/>
            <a:ext cx="673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6000" y="1889280"/>
            <a:ext cx="711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, address, balanc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amount)            cid=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928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BD1-EC33-46B3-9A3F-E67E82ABC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60040" y="4153680"/>
            <a:ext cx="7163280" cy="2584800"/>
            <a:chOff x="1760040" y="4153680"/>
            <a:chExt cx="7163280" cy="2584800"/>
          </a:xfrm>
        </p:grpSpPr>
        <p:sp>
          <p:nvSpPr>
            <p:cNvPr id="77" name=""/>
            <p:cNvSpPr/>
            <p:nvPr/>
          </p:nvSpPr>
          <p:spPr>
            <a:xfrm>
              <a:off x="1760040" y="5181480"/>
              <a:ext cx="62143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Public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Name,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PublicCustomers TO F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25760" y="4153680"/>
              <a:ext cx="1897560" cy="566640"/>
            </a:xfrm>
            <a:prstGeom prst="wedgeEllipseCallout">
              <a:avLst>
                <a:gd name="adj1" fmla="val -83587"/>
                <a:gd name="adj2" fmla="val 17317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" name=""/>
          <p:cNvGraphicFramePr/>
          <p:nvPr/>
        </p:nvGraphicFramePr>
        <p:xfrm>
          <a:off x="2286000" y="266688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29760" y="1105920"/>
            <a:ext cx="2040480" cy="566640"/>
          </a:xfrm>
          <a:prstGeom prst="wedgeEllipseCallout">
            <a:avLst>
              <a:gd name="adj1" fmla="val 41263"/>
              <a:gd name="adj2" fmla="val 148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220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51680" y="1436400"/>
            <a:ext cx="1884600" cy="1432800"/>
          </a:xfrm>
          <a:prstGeom prst="wedgeEllipseCallout">
            <a:avLst>
              <a:gd name="adj1" fmla="val -71731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A0A-72D8-49C0-99F5-ED736930E8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06T03:11:27Z</dcterms:modified>
  <cp:revision>373</cp:revision>
  <dc:subject/>
  <dc:title>Lecture 09:</dc:title>
</cp:coreProperties>
</file>