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55B7-1871-46F4-8AC1-D2F1BC000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2095-50F3-4B14-8B30-E3893E5D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C5CD-0CBC-4BC5-B053-44DEFFD00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19BB-5BB8-4B76-871A-A4E52D003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C0B4-6E2F-4FCE-A788-9EE4E771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AF32-AD9D-4C0C-A773-D24A53BF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5428-E0C4-4558-A56B-27FFE1FE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DDA1-9E60-4523-9B1E-B92AE597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02C8-B095-4B8F-A982-1F7374FF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E007-5D6C-4480-843E-FF1C1B61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F6E1-C466-41D5-A0A1-C0DE4EF3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671A-AB14-443B-8F68-8FEC4B2E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9D6E-BE1A-4E71-A668-CB4987066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sdn.microsoft.com/library/default.asp?url=/library/en-us/dnsql90/html/sql2k5xml.asp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2: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February 3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5EA8-7075-4646-85A7-1B32FAF2C9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s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ed and unordered coll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 =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llection: result i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cument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) = an unordered collection: the output order is implementation 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collection (several authors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10200" y="5251320"/>
            <a:ext cx="5374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178320" y="5025960"/>
            <a:ext cx="274356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D1AD-74D1-433A-B02D-8695A7AC42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s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 collections in expressions 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st of n pric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0.7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st of n numb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st of n x m numbers ?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BF79-7C21-407F-9903-CBDE0816F1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XML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sp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AP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M = “Document Object Mode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langu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link, X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16120" y="5105520"/>
            <a:ext cx="415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ww.w3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t don’t spend rest of your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g those standards 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979A-93D2-4877-ADA2-F43DE40999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in SQL Server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tables with attributes of type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Xquery in SQL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 of the slides are fr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nkar Pal et al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dexing XML data stored in a relational datab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VLDB’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3801-5198-4032-A8BA-4ED8EC1E1C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66160" y="1295280"/>
            <a:ext cx="403020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TABLE DOCS (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ID int primary key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XDOC xm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080" y="3448080"/>
            <a:ext cx="881424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ID, XDOC.query(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$s in  /BOOK[@ISBN= “1-55860-438-3”]//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&lt;topic&gt;{data($s/TITLE)} &lt;/topic&gt;'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DO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0CA8-0912-487A-BD79-D220E6A1BF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Method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() = returns XML data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() = extracts scalar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() = checks conditions on XML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s() = returns a rowset of XML nodes that the Xquery expression evaluates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6709-C4B5-45FF-B032-57DBF46EC5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here:</a:t>
            </a:r>
            <a:br>
              <a:rPr sz="3200"/>
            </a:b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msdn.microsoft.com/library/default.asp?url=/library/en-us/dnsql90/html/sql2k5xml.a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05CE-CF7E-4920-9470-3DE5D0B685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58120" y="3124080"/>
            <a:ext cx="5080320" cy="204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ABLE docs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k INT PRIMARY KEY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Col XML not n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E81A-E992-48AE-941A-13E7A63603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ng an XML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6960" y="2666880"/>
            <a:ext cx="8750160" cy="35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INTO docs VALUES (2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&lt;doc id="123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ection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ection num="1"&gt;&lt;title&gt;XML Schema&lt;/title&gt;&lt;/section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ection num="3"&gt;&lt;title&gt;Benefits&lt;/title&gt;&lt;/section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ection num="4"&gt;&lt;title&gt;Features&lt;/title&gt;&lt;/section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section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doc&gt;'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B063-D410-4E67-8F09-F6B90A2565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(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1040" y="3124080"/>
            <a:ext cx="8721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pk, xCol.query('/doc[@id = 123]//section'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  do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50F0-D9D4-48C6-95B6-5FF27BDA52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0120" y="1828800"/>
            <a:ext cx="873900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1752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_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document("bib.xml")/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[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= ‘M.K’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rice/tex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_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37EC-2E33-426F-9F74-9A064B536B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sts(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0840" y="3276720"/>
            <a:ext cx="736344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xCol.query('/doc[@id = 123]//section')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  do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 xCol.exist ('/doc[@id = 123]')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85FA-6B18-458E-B8E7-FC27A497A5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(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800" y="3200400"/>
            <a:ext cx="879588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xCol.value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data((/doc//section[@num = 3]/title)[1])', 'nvarchar(max)'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do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4973-FCE6-4AAC-B876-F58254D494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des(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6800" y="3352680"/>
            <a:ext cx="78112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nref.value('first-name[1]', 'nvarchar(50)') FirstNa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ef.value('last-name[1]', 'nvarchar(50)') La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@xVar.nodes('//author') AS R(nr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nref.exist('.[first-name != "David"]'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F17F-CBB1-4D4D-BA71-CA9EFD1229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des(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760" y="3448080"/>
            <a:ext cx="90075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nref.value('@genre', 'varchar(max)') Last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docs CROSS APPLY xCol.nodes('//book') AS R(nre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FC95-5CEE-4D36-9373-322B7278FB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al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is “shredded” as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ew important ide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wey decimal numbering of nodes; store in clustered B-tree in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only odd numbers to allow inser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erse PATH-ID encoding, for efficient processing of postfix expressions like //a/b/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more indexes, e.g. on data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467D-F2C1-463B-B738-1A4619945D5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06200" y="1295280"/>
            <a:ext cx="5453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BN=“1-55860-438-3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Bad Bugs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body loves bad bu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G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PTION=“Sample bug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Tree Frogs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right-thinking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love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fro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21A7-10CD-47DA-9A65-C64174B2496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0880" y="1758960"/>
            <a:ext cx="8458200" cy="365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C517-F288-4C19-B863-D7037F845FA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90720" y="547560"/>
            <a:ext cx="7277040" cy="5830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73840" y="633420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set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734D-4314-4F1D-8BBF-2391BF8229E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74240" y="990720"/>
            <a:ext cx="6101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BOOK[@ISBN = “1-55860-438-3”]/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4360" y="3498840"/>
            <a:ext cx="797436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SerializeXML (N2.ID, N2.ORDPA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infosettab N1  JOIN infosettab N2 ON (N1.ID = N2.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N1.PATH_ID = PATH_ID(/BOOK/@ISB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N1.VALUE = '1-55860-438-3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N2.PATH_ID = PATH_ID(BOOK/S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arent (N1.ORDPATH) = Parent (N2.ORDPA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1905120"/>
            <a:ext cx="761760" cy="1066680"/>
          </a:xfrm>
          <a:prstGeom prst="downArrow">
            <a:avLst>
              <a:gd name="adj1" fmla="val 50000"/>
              <a:gd name="adj2" fmla="val 350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DD23-A841-4ED1-A5B4-7D32EA1055A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-Then-E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81320" y="2057400"/>
            <a:ext cx="6222600" cy="35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1752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IN /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hol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hol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@type = "Journal"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edi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hol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41CD-5CA0-4BE0-B565-8B348DC844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stential Qua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54160" y="2209680"/>
            <a:ext cx="7127280" cy="311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/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ar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ATISF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s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"sailing"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ains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"windsurfing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958E-424B-4E37-9293-1E1CD2C8B2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versal Qua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03680" y="2362320"/>
            <a:ext cx="6681240" cy="246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/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ar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ATISF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s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"sailing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AA48-3F86-473A-BF7B-73740EDD0B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plicate Eli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ist-of-text-valu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eliminate duplicate “tuples”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9400" y="3276720"/>
            <a:ext cx="428292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100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8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500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100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200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8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500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3886200"/>
            <a:ext cx="609480" cy="485640"/>
          </a:xfrm>
          <a:prstGeom prst="rightArrow">
            <a:avLst>
              <a:gd name="adj1" fmla="val 50000"/>
              <a:gd name="adj2" fmla="val 3137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45440" y="5029200"/>
            <a:ext cx="421884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100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8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500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200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F35A-AF77-420A-A9A8-46D81A9738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v.s. 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de 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llection 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e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E7E5-838F-4D62-B14A-363BEF4C51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v.s. 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7280" y="2438280"/>
            <a:ext cx="521784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7280" y="4343400"/>
            <a:ext cx="521784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29080" y="2236680"/>
            <a:ext cx="3661560" cy="3980160"/>
            <a:chOff x="5329080" y="2236680"/>
            <a:chExt cx="3661560" cy="3980160"/>
          </a:xfrm>
        </p:grpSpPr>
        <p:sp>
          <p:nvSpPr>
            <p:cNvPr id="62" name=""/>
            <p:cNvSpPr/>
            <p:nvPr/>
          </p:nvSpPr>
          <p:spPr>
            <a:xfrm>
              <a:off x="5329080" y="2236680"/>
              <a:ext cx="3661560" cy="164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turn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resul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 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...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resul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resul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 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...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resul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resul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 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...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resul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82960" y="4294080"/>
              <a:ext cx="28357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turn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resul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 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...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...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...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resul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B679-17F3-4CC7-A8FC-2CE9860C73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-LET-WHERE-RETURN  = FLW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37480" y="3492360"/>
            <a:ext cx="2034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/LET Cla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320" y="4594320"/>
            <a:ext cx="1803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Cl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02280" y="5726160"/>
            <a:ext cx="1904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Cl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54480" y="40212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54480" y="514656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75960" y="39546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of tu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75960" y="51958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of tu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77040" y="6248520"/>
            <a:ext cx="32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ce of Xquery data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3CDD-FF90-418B-A97E-BD182526F3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6-02-03T05:24:21Z</dcterms:modified>
  <cp:revision>356</cp:revision>
  <dc:subject/>
  <dc:title>Lecture 09:</dc:title>
</cp:coreProperties>
</file>